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1F7-689F-431A-8152-A07B6353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9FF-27E2-41C4-9851-901AB852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249-64EB-4C98-838F-CF085585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BC8-95F0-4564-A629-166FD6EB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468D-E928-4EEC-98DE-7D91B3EA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45C-67A8-4036-8CA4-D5D3A297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54A-E058-47FA-8C21-D57056D5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572-32A3-4697-BA1D-51CD35BB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196-545B-40AA-AF44-04531D4B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4C4-F03D-40C9-8773-81ADD5C9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20C-8EB4-41CC-8CE6-B596A0BE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E7A-5BFD-4104-9863-2B64809C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EA42-EA9D-4909-AB21-F18AB42C6D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ell me what you think when I say……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SPQR2"/>
          <p:cNvPicPr/>
          <p:nvPr/>
        </p:nvPicPr>
        <p:blipFill>
          <a:blip r:embed="rId1"/>
          <a:stretch/>
        </p:blipFill>
        <p:spPr>
          <a:xfrm>
            <a:off x="2411280" y="2421000"/>
            <a:ext cx="453708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000"/>
                </a:solidFill>
                <a:latin typeface="Arial"/>
              </a:rPr>
              <a:t>Roma Capoc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Placeholder 4" descr="roma capoccia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ttp://www.youtube.com/watch?v=btnT4eb3SQ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071720" y="1214280"/>
          <a:ext cx="7643520" cy="4786560"/>
        </p:xfrm>
        <a:graphic>
          <a:graphicData uri="http://schemas.openxmlformats.org/drawingml/2006/table">
            <a:tbl>
              <a:tblPr/>
              <a:tblGrid>
                <a:gridCol w="3822480"/>
                <a:gridCol w="3821040"/>
              </a:tblGrid>
              <a:tr h="478656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nto sei </a:t>
                      </a:r>
                      <a:r>
                        <a:rPr b="1" lang="en-US" sz="1600" spc="-1" strike="noStrike">
                          <a:solidFill>
                            <a:srgbClr val="00b0f0"/>
                          </a:solidFill>
                          <a:latin typeface="Arial"/>
                          <a:ea typeface="Times New Roman"/>
                        </a:rPr>
                        <a:t>bell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Roma quando è ………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ERA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ndo la </a:t>
                      </a:r>
                      <a:r>
                        <a:rPr b="1" lang="en-US" sz="1600" spc="-1" strike="noStrike">
                          <a:solidFill>
                            <a:srgbClr val="00b0f0"/>
                          </a:solidFill>
                          <a:latin typeface="Arial"/>
                          <a:ea typeface="Times New Roman"/>
                        </a:rPr>
                        <a:t>lun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si specchi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ntro al fontanone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 le coppiette se ne ………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VANN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..…… via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nto sei bella Roma quando ……………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IOV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Quanto sei bella Roma quand'è il tramon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quando </a:t>
                      </a:r>
                      <a:r>
                        <a:rPr b="0" lang="en-US" sz="1600" spc="-1" strike="noStrike">
                          <a:solidFill>
                            <a:srgbClr val="00b0f0"/>
                          </a:solidFill>
                          <a:latin typeface="Arial"/>
                          <a:ea typeface="Calibri"/>
                        </a:rPr>
                        <a:t>l'</a:t>
                      </a:r>
                      <a:r>
                        <a:rPr b="1" lang="en-US" sz="1600" spc="-1" strike="noStrike">
                          <a:solidFill>
                            <a:srgbClr val="00b0f0"/>
                          </a:solidFill>
                          <a:latin typeface="Arial"/>
                          <a:ea typeface="Calibri"/>
                        </a:rPr>
                        <a:t>aranci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rosseggi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cora sui ……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SET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………… colli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 le finestre son tanti occhi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he ti sembrano dire: quanto sei bella.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ggi mi sembra che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l </a:t>
                      </a:r>
                      <a:r>
                        <a:rPr b="1" lang="en-US" sz="1600" spc="-1" strike="noStrike">
                          <a:solidFill>
                            <a:srgbClr val="00b0f0"/>
                          </a:solidFill>
                          <a:latin typeface="Arial"/>
                          <a:ea typeface="Times New Roman"/>
                        </a:rPr>
                        <a:t>temp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si sia ……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FERMAT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. qui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do la maestà del Colosse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do la </a:t>
                      </a:r>
                      <a:r>
                        <a:rPr b="1" lang="en-US" sz="1600" spc="-1" strike="noStrike">
                          <a:solidFill>
                            <a:srgbClr val="00b0f0"/>
                          </a:solidFill>
                          <a:latin typeface="Arial"/>
                          <a:ea typeface="Times New Roman"/>
                        </a:rPr>
                        <a:t>santit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el cupolone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 son più vivo e son più buon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non ti lascio mai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ma capoccia del </a:t>
                      </a:r>
                      <a:r>
                        <a:rPr b="1" lang="en-US" sz="1600" spc="-1" strike="noStrike">
                          <a:solidFill>
                            <a:srgbClr val="00b0f0"/>
                          </a:solidFill>
                          <a:latin typeface="Arial"/>
                          <a:ea typeface="Times New Roman"/>
                        </a:rPr>
                        <a:t>mon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nfame,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a carrozzella va con due ……………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TRANIER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robivecchi ti chiede un po' di stracci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passeracci sono usignoli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o ci sono nato Roma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o t'ho scoperta ……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TAMATTIN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……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apted from the Roman dialec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0" y="39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oma capoc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 alternative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ontent Placeholder 7" descr="caro-diario.jpg"/>
          <p:cNvPicPr/>
          <p:nvPr/>
        </p:nvPicPr>
        <p:blipFill>
          <a:blip r:embed="rId1"/>
          <a:stretch/>
        </p:blipFill>
        <p:spPr>
          <a:xfrm>
            <a:off x="3929040" y="1357200"/>
            <a:ext cx="4578480" cy="4500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nni Moretti (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ilm in 3 epis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pisode 1: In Ves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original nar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ry 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l use of voiceo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sound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ro Diario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DVD_VIDEO_RECORDER-01.avi" descr=""/>
          <p:cNvPicPr/>
          <p:nvPr/>
        </p:nvPicPr>
        <p:blipFill>
          <a:blip r:embed="rId1"/>
          <a:stretch/>
        </p:blipFill>
        <p:spPr>
          <a:xfrm>
            <a:off x="1143000" y="157644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DVD_VIDEO_RECORDER-01(2).avi" descr=""/>
          <p:cNvPicPr/>
          <p:nvPr/>
        </p:nvPicPr>
        <p:blipFill>
          <a:blip r:embed="rId1"/>
          <a:stretch/>
        </p:blipFill>
        <p:spPr>
          <a:xfrm>
            <a:off x="1143000" y="157644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DVD_VIDEO_RECORDER-01.avi" descr=""/>
          <p:cNvPicPr/>
          <p:nvPr/>
        </p:nvPicPr>
        <p:blipFill>
          <a:blip r:embed="rId1"/>
          <a:stretch/>
        </p:blipFill>
        <p:spPr>
          <a:xfrm>
            <a:off x="1143000" y="157644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conclus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ommon perception and the real don’t always coincide: this is especially true for national stereotyp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m (and art) can reinforce stereotypes but they can also show us reality as it is per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guage is not the only way into a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study a language at university you will also learn: culture, society, traditions and look at film, music, theatre, food – to mention but a fe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Your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ve you been to R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 you reme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id you like b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would you exp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ve you seen films or read books about R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think Rome would be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loss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The original name for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Colosseo is the Anfitea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Flavium. It was built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emperor Vespasiano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inaugurated in 80 A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In ancient times it was the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of the "Naumachie" or 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battles, the "Munera"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gladiator-fights,and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"Venationes" or wild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hunts.It could hold up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87.000 people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los"/>
          <p:cNvPicPr/>
          <p:nvPr/>
        </p:nvPicPr>
        <p:blipFill>
          <a:blip r:embed="rId1"/>
          <a:stretch/>
        </p:blipFill>
        <p:spPr>
          <a:xfrm>
            <a:off x="4427640" y="2133720"/>
            <a:ext cx="4448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adiator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Content Placeholder 3" descr="gladiator-crowe.jpg"/>
          <p:cNvPicPr/>
          <p:nvPr/>
        </p:nvPicPr>
        <p:blipFill>
          <a:blip r:embed="rId1"/>
          <a:stretch/>
        </p:blipFill>
        <p:spPr>
          <a:xfrm>
            <a:off x="1833480" y="1928880"/>
            <a:ext cx="54770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lce Vi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nita-ekberg"/>
          <p:cNvPicPr/>
          <p:nvPr/>
        </p:nvPicPr>
        <p:blipFill>
          <a:blip r:embed="rId1"/>
          <a:stretch/>
        </p:blipFill>
        <p:spPr>
          <a:xfrm>
            <a:off x="1523880" y="1600200"/>
            <a:ext cx="60962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ungotev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lungotevere2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rudolfwiegman1834"/>
          <p:cNvPicPr/>
          <p:nvPr/>
        </p:nvPicPr>
        <p:blipFill>
          <a:blip r:embed="rId1"/>
          <a:stretch/>
        </p:blipFill>
        <p:spPr>
          <a:xfrm>
            <a:off x="1692360" y="1557360"/>
            <a:ext cx="59054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Lu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3" descr="la lupa.png"/>
          <p:cNvPicPr/>
          <p:nvPr/>
        </p:nvPicPr>
        <p:blipFill>
          <a:blip r:embed="rId1"/>
          <a:stretch/>
        </p:blipFill>
        <p:spPr>
          <a:xfrm>
            <a:off x="2000160" y="1857240"/>
            <a:ext cx="505944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Magica?!?!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3" descr="curva sud.jpg"/>
          <p:cNvPicPr/>
          <p:nvPr/>
        </p:nvPicPr>
        <p:blipFill>
          <a:blip r:embed="rId1"/>
          <a:stretch/>
        </p:blipFill>
        <p:spPr>
          <a:xfrm>
            <a:off x="1143000" y="1441440"/>
            <a:ext cx="62722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14:50:48Z</dcterms:created>
  <dc:creator>HLSS User</dc:creator>
  <dc:description/>
  <dc:language>en-US</dc:language>
  <cp:lastModifiedBy>Laura</cp:lastModifiedBy>
  <dcterms:modified xsi:type="dcterms:W3CDTF">2009-02-07T17:34:27Z</dcterms:modified>
  <cp:revision>31</cp:revision>
  <dc:subject/>
  <dc:title>Tell me what you think when I say……</dc:title>
</cp:coreProperties>
</file>