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5.jpeg" ContentType="image/jpeg"/>
  <Override PartName="/ppt/media/image32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22.jpeg" ContentType="image/jpeg"/>
  <Override PartName="/ppt/media/image7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6.jpeg" ContentType="image/jpeg"/>
  <Override PartName="/ppt/media/image36.wmf" ContentType="image/x-wmf"/>
  <Override PartName="/ppt/media/image16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2.jpeg" ContentType="image/jpeg"/>
  <Override PartName="/ppt/media/image23.jpeg" ContentType="image/jpeg"/>
  <Override PartName="/ppt/media/image35.gif" ContentType="image/gif"/>
  <Override PartName="/ppt/media/image1.wmf" ContentType="image/x-wmf"/>
  <Override PartName="/ppt/media/image10.jpeg" ContentType="image/jpeg"/>
  <Override PartName="/ppt/media/image14.png" ContentType="image/pn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568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614F-F7FD-4C96-AA08-BD04F7BDD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440" y="4039920"/>
            <a:ext cx="76914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212A-6A6D-4DAB-83EE-22C36E477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2672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509D-C9DC-4064-857A-80987D6E0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86080" y="182844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86720" y="182844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440" y="403992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86080" y="403992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886720" y="403992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89BD-4DCF-44F1-A35D-D815F3BBC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8B74-05CB-4044-A928-F3D1BA643A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76914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8A1E7-2D3A-4BAD-A838-F6C0028AFC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828B1-1F41-4F8D-8D24-3667370E32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6FA6D-AECA-4741-8D4B-46F78E828B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9016C-8E12-466A-A311-4961BA7922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800" y="-352800"/>
            <a:ext cx="686592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0AB87-F742-41FB-8C2F-008159057E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3FFA2-43C7-40D3-8F46-AB3D760140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76914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8335-78A2-4871-A3D0-F1E695BC6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672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BD202-1585-4A98-97F9-42802A8575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76914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67BF5-5CD7-42C3-B108-09BE78BDD7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440" y="4039920"/>
            <a:ext cx="76914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2E826-5B25-4518-B846-E1E9884457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672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FE6A0-197D-40DF-932F-33895BF182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6080" y="182844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6720" y="182844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440" y="403992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6080" y="403992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6720" y="403992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4D2B-DC14-4BD7-997C-B0F2C031FDC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8AFC-C7E1-4968-BAE5-CCE862DDAE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76914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4CCB-4CA8-48D7-95C6-0774A1E6F9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956-66BD-4FBA-827B-020ACEF6CB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11E8-3CCE-43FA-B706-DE4147DD75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ECA2-78B8-41B6-BCCE-178ED7760A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E6E1-4411-44F0-9BBE-C30D617F25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-352800"/>
            <a:ext cx="686592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18F-7B7B-467E-B6D0-13A0AA5D70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CD8C-7102-45DA-8A32-68986CE4D9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2672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8A05-098B-49C4-A6F2-CD699CE965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76914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E0B5-5704-4589-AD7C-585AB9B24C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440" y="4039920"/>
            <a:ext cx="76914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536D-8611-4216-90FB-8227CE9E50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2672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E8BD-C562-471B-808D-096476994F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86080" y="182844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886720" y="182844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440" y="403992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86080" y="403992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886720" y="403992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A542-34DA-4561-9071-E922FD3CD0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44539-0E97-435D-90E8-03CAB15F12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76914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C6449-0FE0-4944-B1C9-0565F07438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AC126-2B45-4CEB-8B69-3E8759DEF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0445-2563-43F2-8B52-D54D3577C6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060A7-BF12-49B6-A2C2-3606A4CAA0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78F75-A40B-49C7-8C6D-77F590ED0E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-352800"/>
            <a:ext cx="686592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F4DB4-17BA-4759-9D38-E46E1E8722B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F40D2-D386-4960-84CA-AC671A186E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2672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ECDD9-C10F-4C42-93BE-CEC6D5894D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76914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C670A-2027-4849-9401-3064FE7BC3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440" y="4039920"/>
            <a:ext cx="76914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3D28D-ACA0-47F5-A94C-15B8C2E188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2672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994FC-531C-468D-953B-A418C3CD1E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86080" y="182844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886720" y="182844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440" y="403992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86080" y="403992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886720" y="403992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33BDA-1109-48BC-9321-9BC2C7517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7D37-1AAD-402A-9F21-C8F062A47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-352800"/>
            <a:ext cx="686592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EBA0-C608-4B76-958B-A7591C7D2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6917-D7AB-4867-9975-13D09872F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672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4F86-B967-4121-A09B-921E816E5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76914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8066-43E7-4202-87B6-63988719C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1" name=""/>
            <p:cNvSpPr/>
            <p:nvPr/>
          </p:nvSpPr>
          <p:spPr>
            <a:xfrm>
              <a:off x="8304480" y="1080"/>
              <a:ext cx="837720" cy="685512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160" y="0"/>
              <a:ext cx="3042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2480" y="0"/>
              <a:ext cx="685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0560" y="0"/>
              <a:ext cx="38088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360" y="0"/>
              <a:ext cx="609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1760" y="0"/>
              <a:ext cx="9140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684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68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8280" y="0"/>
              <a:ext cx="3805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000" y="0"/>
              <a:ext cx="8377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0720" y="0"/>
              <a:ext cx="22824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7640" y="0"/>
              <a:ext cx="39960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0080" y="0"/>
              <a:ext cx="228240" cy="6856560"/>
            </a:xfrm>
            <a:prstGeom prst="rect">
              <a:avLst/>
            </a:prstGeom>
            <a:gradFill rotWithShape="0">
              <a:gsLst>
                <a:gs pos="0">
                  <a:srgbClr val="5d1f00"/>
                </a:gs>
                <a:gs pos="50000">
                  <a:srgbClr val="602000"/>
                </a:gs>
                <a:gs pos="100000">
                  <a:srgbClr val="5d1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3760" y="0"/>
              <a:ext cx="10663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1640" y="0"/>
              <a:ext cx="99000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2880" y="0"/>
              <a:ext cx="380520" cy="6856560"/>
            </a:xfrm>
            <a:prstGeom prst="rect">
              <a:avLst/>
            </a:prstGeom>
            <a:gradFill rotWithShape="0">
              <a:gsLst>
                <a:gs pos="0">
                  <a:srgbClr val="5d1f00"/>
                </a:gs>
                <a:gs pos="50000">
                  <a:srgbClr val="602000"/>
                </a:gs>
                <a:gs pos="100000">
                  <a:srgbClr val="5d1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3760" y="0"/>
              <a:ext cx="2408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160" y="0"/>
              <a:ext cx="5331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80" y="6150240"/>
              <a:ext cx="9142560" cy="7059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05960"/>
                <a:gd name="textAreaBottom" fmla="*/ 706320 h 70596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7280"/>
              <a:ext cx="9158400" cy="276120"/>
            </a:xfrm>
            <a:custGeom>
              <a:avLst/>
              <a:gdLst>
                <a:gd name="textAreaLeft" fmla="*/ 0 w 9158400"/>
                <a:gd name="textAreaRight" fmla="*/ 9158760 w 91584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80808"/>
                </a:gs>
                <a:gs pos="50000">
                  <a:srgbClr val="000000"/>
                </a:gs>
                <a:gs pos="100000">
                  <a:srgbClr val="08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49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sldNum" idx="1"/>
          </p:nvPr>
        </p:nvSpPr>
        <p:spPr>
          <a:xfrm>
            <a:off x="6553080" y="6243480"/>
            <a:ext cx="2129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4CC03-AC8C-4EE3-8EEA-D9E0895677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57200" y="6248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440" y="1828440"/>
            <a:ext cx="76914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556080" y="624852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2"/>
          </p:nvPr>
        </p:nvSpPr>
        <p:spPr>
          <a:xfrm>
            <a:off x="67183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71CE2FE-58D3-4ACE-8AE8-1F5A8A6E8E0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8420000">
            <a:off x="7862040" y="25920"/>
            <a:ext cx="1165320" cy="2097000"/>
          </a:xfrm>
          <a:custGeom>
            <a:avLst/>
            <a:gdLst>
              <a:gd name="textAreaLeft" fmla="*/ 0 w 1165320"/>
              <a:gd name="textAreaRight" fmla="*/ 1165680 w 116532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 rot="18420000">
            <a:off x="7827480" y="19332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72" name=""/>
            <p:cNvSpPr/>
            <p:nvPr/>
          </p:nvSpPr>
          <p:spPr>
            <a:xfrm>
              <a:off x="38160" y="5563800"/>
              <a:ext cx="1728720" cy="10285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22520" y="5686200"/>
              <a:ext cx="112680" cy="204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680" y="5990400"/>
              <a:ext cx="1257480" cy="64980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49800"/>
                <a:gd name="textAreaBottom" fmla="*/ 650160 h 6498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4840" y="6044040"/>
              <a:ext cx="833400" cy="59256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2560"/>
                <a:gd name="textAreaBottom" fmla="*/ 592920 h 5925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0040" y="5606640"/>
              <a:ext cx="214200" cy="1918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17720" y="6607080"/>
              <a:ext cx="120600" cy="1774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0280" y="5725800"/>
              <a:ext cx="306360" cy="60696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6960"/>
                <a:gd name="textAreaBottom" fmla="*/ 607320 h 60696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60560" y="5698800"/>
              <a:ext cx="577800" cy="2754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0800" y="5861880"/>
              <a:ext cx="247680" cy="1062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792000" y="5693760"/>
                  <a:ext cx="248760" cy="137160"/>
                </a:xfrm>
                <a:custGeom>
                  <a:avLst/>
                  <a:gdLst>
                    <a:gd name="textAreaLeft" fmla="*/ 0 w 248760"/>
                    <a:gd name="textAreaRight" fmla="*/ 249120 w 248760"/>
                    <a:gd name="textAreaTop" fmla="*/ 0 h 137160"/>
                    <a:gd name="textAreaBottom" fmla="*/ 137520 h 13716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custGeom>
                  <a:avLst/>
                  <a:gdLst>
                    <a:gd name="textAreaLeft" fmla="*/ 0 w 182160"/>
                    <a:gd name="textAreaRight" fmla="*/ 182520 w 18216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592280" y="5654160"/>
                  <a:ext cx="68040" cy="1850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5040"/>
                    <a:gd name="textAreaBottom" fmla="*/ 185400 h 18504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>
                <a:off x="120600" y="5923800"/>
                <a:ext cx="944640" cy="39636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12920" y="6167880"/>
                <a:ext cx="387360" cy="23472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96760" y="5841360"/>
                <a:ext cx="169920" cy="37692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6920"/>
                  <a:gd name="textAreaBottom" fmla="*/ 377280 h 37692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137160"/>
                    <a:gd name="textAreaBottom" fmla="*/ 137520 h 13716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920" y="5916600"/>
                  <a:ext cx="1335240" cy="69624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696240"/>
                    <a:gd name="textAreaBottom" fmla="*/ 696600 h 69624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67760" y="5983200"/>
                  <a:ext cx="126720" cy="26388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263880"/>
                    <a:gd name="textAreaBottom" fmla="*/ 264240 h 26388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12080" y="5540400"/>
                  <a:ext cx="510480" cy="939600"/>
                </a:xfrm>
                <a:custGeom>
                  <a:avLst/>
                  <a:gdLst>
                    <a:gd name="textAreaLeft" fmla="*/ 0 w 510480"/>
                    <a:gd name="textAreaRight" fmla="*/ 510840 w 510480"/>
                    <a:gd name="textAreaTop" fmla="*/ 0 h 939600"/>
                    <a:gd name="textAreaBottom" fmla="*/ 939960 h 93960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916560" y="5793120"/>
                  <a:ext cx="151920" cy="39888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398880"/>
                    <a:gd name="textAreaBottom" fmla="*/ 399240 h 39888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19840" y="5761440"/>
                  <a:ext cx="309240" cy="21384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custGeom>
                  <a:avLst/>
                  <a:gdLst>
                    <a:gd name="textAreaLeft" fmla="*/ 0 w 746640"/>
                    <a:gd name="textAreaRight" fmla="*/ 747000 w 746640"/>
                    <a:gd name="textAreaTop" fmla="*/ 0 h 334800"/>
                    <a:gd name="textAreaBottom" fmla="*/ 335160 h 33480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custGeom>
                  <a:avLst/>
                  <a:gdLst>
                    <a:gd name="textAreaLeft" fmla="*/ 0 w 388080"/>
                    <a:gd name="textAreaRight" fmla="*/ 388440 w 388080"/>
                    <a:gd name="textAreaTop" fmla="*/ 0 h 136080"/>
                    <a:gd name="textAreaBottom" fmla="*/ 136440 h 13608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98" name="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99" name=""/>
            <p:cNvSpPr/>
            <p:nvPr/>
          </p:nvSpPr>
          <p:spPr>
            <a:xfrm flipH="1">
              <a:off x="8680320" y="4158360"/>
              <a:ext cx="324000" cy="2264400"/>
            </a:xfrm>
            <a:custGeom>
              <a:avLst/>
              <a:gdLst>
                <a:gd name="textAreaLeft" fmla="*/ 360 w 324000"/>
                <a:gd name="textAreaRight" fmla="*/ 324720 w 324000"/>
                <a:gd name="textAreaTop" fmla="*/ 0 h 2264400"/>
                <a:gd name="textAreaBottom" fmla="*/ 2264760 h 226440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740440" y="2116080"/>
              <a:ext cx="324000" cy="2591280"/>
            </a:xfrm>
            <a:custGeom>
              <a:avLst/>
              <a:gdLst>
                <a:gd name="textAreaLeft" fmla="*/ 360 w 324000"/>
                <a:gd name="textAreaRight" fmla="*/ 324720 w 324000"/>
                <a:gd name="textAreaTop" fmla="*/ 0 h 2591280"/>
                <a:gd name="textAreaBottom" fmla="*/ 2591640 h 25912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894360" y="-153360"/>
            <a:ext cx="2976840" cy="2838600"/>
            <a:chOff x="6894360" y="-153360"/>
            <a:chExt cx="2976840" cy="2838600"/>
          </a:xfrm>
        </p:grpSpPr>
        <p:grpSp>
          <p:nvGrpSpPr>
            <p:cNvPr id="102" name=""/>
            <p:cNvGrpSpPr/>
            <p:nvPr/>
          </p:nvGrpSpPr>
          <p:grpSpPr>
            <a:xfrm>
              <a:off x="6894360" y="-153360"/>
              <a:ext cx="2976840" cy="2838600"/>
              <a:chOff x="6894360" y="-153360"/>
              <a:chExt cx="2976840" cy="2838600"/>
            </a:xfrm>
          </p:grpSpPr>
          <p:sp>
            <p:nvSpPr>
              <p:cNvPr id="103" name=""/>
              <p:cNvSpPr/>
              <p:nvPr/>
            </p:nvSpPr>
            <p:spPr>
              <a:xfrm rot="18420000">
                <a:off x="8616960" y="1725120"/>
                <a:ext cx="98280" cy="4572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6894360" y="-153360"/>
                <a:ext cx="2976840" cy="2838600"/>
                <a:chOff x="6894360" y="-153360"/>
                <a:chExt cx="2976840" cy="2838600"/>
              </a:xfrm>
            </p:grpSpPr>
            <p:sp>
              <p:nvSpPr>
                <p:cNvPr id="105" name=""/>
                <p:cNvSpPr/>
                <p:nvPr/>
              </p:nvSpPr>
              <p:spPr>
                <a:xfrm rot="18420000">
                  <a:off x="7778880" y="-24480"/>
                  <a:ext cx="348120" cy="22572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225720"/>
                    <a:gd name="textAreaBottom" fmla="*/ 226080 h 225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rot="18420000">
                  <a:off x="7895880" y="644400"/>
                  <a:ext cx="612000" cy="790560"/>
                </a:xfrm>
                <a:custGeom>
                  <a:avLst/>
                  <a:gdLst>
                    <a:gd name="textAreaLeft" fmla="*/ 0 w 612000"/>
                    <a:gd name="textAreaRight" fmla="*/ 612360 w 612000"/>
                    <a:gd name="textAreaTop" fmla="*/ 0 h 790560"/>
                    <a:gd name="textAreaBottom" fmla="*/ 790920 h 7905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rot="18420000">
                  <a:off x="7502760" y="412920"/>
                  <a:ext cx="1148760" cy="1621800"/>
                </a:xfrm>
                <a:custGeom>
                  <a:avLst/>
                  <a:gdLst>
                    <a:gd name="textAreaLeft" fmla="*/ 0 w 1148760"/>
                    <a:gd name="textAreaRight" fmla="*/ 1149120 w 1148760"/>
                    <a:gd name="textAreaTop" fmla="*/ 0 h 1621800"/>
                    <a:gd name="textAreaBottom" fmla="*/ 1622160 h 16218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18420000">
                  <a:off x="7519680" y="52200"/>
                  <a:ext cx="1725480" cy="2427120"/>
                </a:xfrm>
                <a:custGeom>
                  <a:avLst/>
                  <a:gdLst>
                    <a:gd name="textAreaLeft" fmla="*/ 0 w 1725480"/>
                    <a:gd name="textAreaRight" fmla="*/ 1725840 w 1725480"/>
                    <a:gd name="textAreaTop" fmla="*/ 0 h 2427120"/>
                    <a:gd name="textAreaBottom" fmla="*/ 2427480 h 242712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rot="18420000">
                  <a:off x="8372520" y="1855800"/>
                  <a:ext cx="384480" cy="2203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220320"/>
                    <a:gd name="textAreaBottom" fmla="*/ 220680 h 22032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rot="18420000">
                  <a:off x="8286480" y="1658880"/>
                  <a:ext cx="411840" cy="259920"/>
                </a:xfrm>
                <a:custGeom>
                  <a:avLst/>
                  <a:gdLst>
                    <a:gd name="textAreaLeft" fmla="*/ 0 w 411840"/>
                    <a:gd name="textAreaRight" fmla="*/ 412200 w 41184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rot="18420000">
                  <a:off x="7801560" y="301680"/>
                  <a:ext cx="411840" cy="265320"/>
                </a:xfrm>
                <a:custGeom>
                  <a:avLst/>
                  <a:gdLst>
                    <a:gd name="textAreaLeft" fmla="*/ 0 w 411840"/>
                    <a:gd name="textAreaRight" fmla="*/ 412200 w 411840"/>
                    <a:gd name="textAreaTop" fmla="*/ 0 h 265320"/>
                    <a:gd name="textAreaBottom" fmla="*/ 265680 h 26532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18420000">
                  <a:off x="7736040" y="143640"/>
                  <a:ext cx="407520" cy="248760"/>
                </a:xfrm>
                <a:custGeom>
                  <a:avLst/>
                  <a:gdLst>
                    <a:gd name="textAreaLeft" fmla="*/ 0 w 407520"/>
                    <a:gd name="textAreaRight" fmla="*/ 407880 w 407520"/>
                    <a:gd name="textAreaTop" fmla="*/ 0 h 248760"/>
                    <a:gd name="textAreaBottom" fmla="*/ 249120 h 24876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13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151" name=""/>
            <p:cNvSpPr/>
            <p:nvPr/>
          </p:nvSpPr>
          <p:spPr>
            <a:xfrm>
              <a:off x="8304480" y="1080"/>
              <a:ext cx="837720" cy="685512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6160" y="0"/>
              <a:ext cx="3042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42480" y="0"/>
              <a:ext cx="685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80560" y="0"/>
              <a:ext cx="38088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360" y="0"/>
              <a:ext cx="609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1760" y="0"/>
              <a:ext cx="9140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84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0"/>
              <a:ext cx="4568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28280" y="0"/>
              <a:ext cx="3805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19000" y="0"/>
              <a:ext cx="8377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80720" y="0"/>
              <a:ext cx="22824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7640" y="0"/>
              <a:ext cx="39960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90080" y="0"/>
              <a:ext cx="228240" cy="6856560"/>
            </a:xfrm>
            <a:prstGeom prst="rect">
              <a:avLst/>
            </a:prstGeom>
            <a:gradFill rotWithShape="0">
              <a:gsLst>
                <a:gs pos="0">
                  <a:srgbClr val="5d1f00"/>
                </a:gs>
                <a:gs pos="50000">
                  <a:srgbClr val="602000"/>
                </a:gs>
                <a:gs pos="100000">
                  <a:srgbClr val="5d1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13760" y="0"/>
              <a:ext cx="10663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1640" y="0"/>
              <a:ext cx="99000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2880" y="0"/>
              <a:ext cx="380520" cy="6856560"/>
            </a:xfrm>
            <a:prstGeom prst="rect">
              <a:avLst/>
            </a:prstGeom>
            <a:gradFill rotWithShape="0">
              <a:gsLst>
                <a:gs pos="0">
                  <a:srgbClr val="5d1f00"/>
                </a:gs>
                <a:gs pos="50000">
                  <a:srgbClr val="602000"/>
                </a:gs>
                <a:gs pos="100000">
                  <a:srgbClr val="5d1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53760" y="0"/>
              <a:ext cx="2408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55160" y="0"/>
              <a:ext cx="5331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80" y="6150240"/>
              <a:ext cx="9142560" cy="7059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05960"/>
                <a:gd name="textAreaBottom" fmla="*/ 706320 h 70596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6137280"/>
              <a:ext cx="9158400" cy="276120"/>
            </a:xfrm>
            <a:custGeom>
              <a:avLst/>
              <a:gdLst>
                <a:gd name="textAreaLeft" fmla="*/ 0 w 9158400"/>
                <a:gd name="textAreaRight" fmla="*/ 9158760 w 91584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80808"/>
                </a:gs>
                <a:gs pos="50000">
                  <a:srgbClr val="000000"/>
                </a:gs>
                <a:gs pos="100000">
                  <a:srgbClr val="08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49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624348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29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D81D8A2-7DE8-4B8D-9773-186372877222}" type="slidenum">
              <a:rPr b="0" lang="en-US" sz="1000" spc="-1" strike="noStrike">
                <a:solidFill>
                  <a:srgbClr val="ffffff"/>
                </a:solidFill>
                <a:latin typeface="DejaVu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95120" y="235080"/>
            <a:ext cx="3786480" cy="1775880"/>
            <a:chOff x="195120" y="235080"/>
            <a:chExt cx="3786480" cy="1775880"/>
          </a:xfrm>
        </p:grpSpPr>
        <p:sp>
          <p:nvSpPr>
            <p:cNvPr id="215" name=""/>
            <p:cNvSpPr/>
            <p:nvPr/>
          </p:nvSpPr>
          <p:spPr>
            <a:xfrm>
              <a:off x="281160" y="280800"/>
              <a:ext cx="3571560" cy="16124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2440"/>
                <a:gd name="textAreaBottom" fmla="*/ 1612800 h 16124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3520" y="414000"/>
              <a:ext cx="3562200" cy="15969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6960"/>
                <a:gd name="textAreaBottom" fmla="*/ 1597320 h 15969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400" y="545760"/>
              <a:ext cx="2362320" cy="14569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6920"/>
                <a:gd name="textAreaBottom" fmla="*/ 1457280 h 14569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95120" y="235080"/>
              <a:ext cx="3786480" cy="1712520"/>
              <a:chOff x="195120" y="235080"/>
              <a:chExt cx="3786480" cy="1712520"/>
            </a:xfrm>
          </p:grpSpPr>
          <p:sp>
            <p:nvSpPr>
              <p:cNvPr id="219" name=""/>
              <p:cNvSpPr/>
              <p:nvPr/>
            </p:nvSpPr>
            <p:spPr>
              <a:xfrm>
                <a:off x="3181320" y="1479960"/>
                <a:ext cx="336240" cy="33876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38760"/>
                  <a:gd name="textAreaBottom" fmla="*/ 339120 h 33876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5120" y="235080"/>
                <a:ext cx="3786480" cy="1712520"/>
              </a:xfrm>
              <a:custGeom>
                <a:avLst/>
                <a:gdLst>
                  <a:gd name="textAreaLeft" fmla="*/ 0 w 3786480"/>
                  <a:gd name="textAreaRight" fmla="*/ 3786840 w 3786480"/>
                  <a:gd name="textAreaTop" fmla="*/ 0 h 1712520"/>
                  <a:gd name="textAreaBottom" fmla="*/ 1712880 h 17125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4080" y="250560"/>
                <a:ext cx="2675520" cy="972360"/>
              </a:xfrm>
              <a:custGeom>
                <a:avLst/>
                <a:gdLst>
                  <a:gd name="textAreaLeft" fmla="*/ 0 w 2675520"/>
                  <a:gd name="textAreaRight" fmla="*/ 2675880 w 2675520"/>
                  <a:gd name="textAreaTop" fmla="*/ 0 h 972360"/>
                  <a:gd name="textAreaBottom" fmla="*/ 972720 h 972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49080" y="398160"/>
                <a:ext cx="360000" cy="649440"/>
              </a:xfrm>
              <a:custGeom>
                <a:avLst/>
                <a:gdLst>
                  <a:gd name="textAreaLeft" fmla="*/ 0 w 360000"/>
                  <a:gd name="textAreaRight" fmla="*/ 360360 w 360000"/>
                  <a:gd name="textAreaTop" fmla="*/ 0 h 649440"/>
                  <a:gd name="textAreaBottom" fmla="*/ 649800 h 64944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342440" y="849600"/>
                <a:ext cx="1096200" cy="576360"/>
              </a:xfrm>
              <a:custGeom>
                <a:avLst/>
                <a:gdLst>
                  <a:gd name="textAreaLeft" fmla="*/ 0 w 1096200"/>
                  <a:gd name="textAreaRight" fmla="*/ 1096560 w 109620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7712640" y="4232520"/>
            <a:ext cx="1168200" cy="1329120"/>
            <a:chOff x="7712640" y="4232520"/>
            <a:chExt cx="1168200" cy="1329120"/>
          </a:xfrm>
        </p:grpSpPr>
        <p:sp>
          <p:nvSpPr>
            <p:cNvPr id="225" name=""/>
            <p:cNvSpPr/>
            <p:nvPr/>
          </p:nvSpPr>
          <p:spPr>
            <a:xfrm rot="7320000">
              <a:off x="7797600" y="465588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7320000">
              <a:off x="7772400" y="463788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7320000">
              <a:off x="7941240" y="4628520"/>
              <a:ext cx="660240" cy="42048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7712640" y="4232520"/>
              <a:ext cx="1168200" cy="1329120"/>
              <a:chOff x="7712640" y="4232520"/>
              <a:chExt cx="1168200" cy="1329120"/>
            </a:xfrm>
          </p:grpSpPr>
          <p:sp>
            <p:nvSpPr>
              <p:cNvPr id="229" name=""/>
              <p:cNvSpPr/>
              <p:nvPr/>
            </p:nvSpPr>
            <p:spPr>
              <a:xfrm rot="7320000">
                <a:off x="7816680" y="5072760"/>
                <a:ext cx="102240" cy="12816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7320000">
                <a:off x="7716960" y="4570200"/>
                <a:ext cx="1158840" cy="653400"/>
              </a:xfrm>
              <a:custGeom>
                <a:avLst/>
                <a:gdLst>
                  <a:gd name="textAreaLeft" fmla="*/ 0 w 1158840"/>
                  <a:gd name="textAreaRight" fmla="*/ 1159200 w 1158840"/>
                  <a:gd name="textAreaTop" fmla="*/ 0 h 653400"/>
                  <a:gd name="textAreaBottom" fmla="*/ 653400 h 65340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7320000">
                <a:off x="8040960" y="4708800"/>
                <a:ext cx="820080" cy="370440"/>
              </a:xfrm>
              <a:custGeom>
                <a:avLst/>
                <a:gdLst>
                  <a:gd name="textAreaLeft" fmla="*/ 0 w 820080"/>
                  <a:gd name="textAreaRight" fmla="*/ 820440 w 820080"/>
                  <a:gd name="textAreaTop" fmla="*/ 0 h 370440"/>
                  <a:gd name="textAreaBottom" fmla="*/ 370800 h 3704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7320000">
                <a:off x="8602560" y="4512240"/>
                <a:ext cx="109440" cy="24768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7320000">
                <a:off x="8148600" y="4723200"/>
                <a:ext cx="335160" cy="218520"/>
              </a:xfrm>
              <a:custGeom>
                <a:avLst/>
                <a:gdLst>
                  <a:gd name="textAreaLeft" fmla="*/ 0 w 335160"/>
                  <a:gd name="textAreaRight" fmla="*/ 335520 w 335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3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352800"/>
            <a:ext cx="68659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440" y="1828440"/>
            <a:ext cx="76914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21B1D93-B7CA-4B7F-9BE1-32005D97C66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encinisport.it/update14/images/articoli/Nike_Freestyle_Pearl_NIKE7658.jpg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images.google.it/imgres?imgurl=http://fast-food.saf.ro/images/fast-food/pizza-margherita.jpg&amp;imgrefurl=http://prideofrome.spaces.live.com/%3F_c11_BlogPart_FullView%3D1%26_c11_BlogPart_blogpart%3Dblogmgmt%26_c%3DBlogPart%26partqs%3Damonth%253D7%2526ayear%253D2006&amp;h=455&amp;w=605&amp;sz=98&amp;hl=it&amp;sig2=131K59tyiZbYSWprjOg_0w&amp;start=39&amp;tbnid=PbECmpKGinwk0M:&amp;tbnh=102&amp;tbnw=135&amp;ei=owz5RcjRM5KM0wSUgdWTDQ&amp;prev=/images%3Fq%3D%2Bpizza%26start%3D20%26gbv%3D2%26ndsp%3D20%26svnum%3D10%26hl%3Dit%26sa%3DN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bf2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7240" y="1440000"/>
            <a:ext cx="777240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3deb3d"/>
                </a:solidFill>
                <a:latin typeface="Comic Sans MS"/>
              </a:rPr>
              <a:t>Italian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Quiz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3886200"/>
            <a:ext cx="640080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8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How well do </a:t>
            </a:r>
            <a:r>
              <a:rPr b="0" lang="en-US" sz="4000" spc="-1" strike="noStrike">
                <a:solidFill>
                  <a:srgbClr val="808019"/>
                </a:solidFill>
                <a:latin typeface="Comic Sans MS"/>
              </a:rPr>
              <a:t>you</a:t>
            </a: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 know Italy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60360" y="3463920"/>
            <a:ext cx="1297080" cy="26557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768840" y="3240000"/>
            <a:ext cx="1450800" cy="9716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3419640" y="360360"/>
            <a:ext cx="1620720" cy="1440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6840360" y="900000"/>
            <a:ext cx="1979640" cy="25210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539640" y="1079640"/>
            <a:ext cx="1621080" cy="16207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7559640" y="4176720"/>
            <a:ext cx="1292400" cy="1942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477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9. What is the name of the traditional Venetian boat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2600280"/>
            <a:ext cx="4103640" cy="26193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0" indent="-60480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Comic Sans MS"/>
              <a:buAutoNum type="alphaU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Vongo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Comic Sans MS"/>
              <a:buAutoNum type="alphaU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ondo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Comic Sans MS"/>
              <a:buAutoNum type="alphaU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ambo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5040360" y="2519280"/>
            <a:ext cx="360036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solidFill>
            <a:srgbClr val="e5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. What is tiramis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539640" y="2101680"/>
            <a:ext cx="3772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 ca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 p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4832280" y="2700360"/>
            <a:ext cx="3629160" cy="270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solidFill>
            <a:srgbClr val="00c8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1.What does the word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BELLO</a:t>
            </a:r>
            <a:r>
              <a:rPr b="1" lang="en-US" sz="4400" spc="-1" strike="noStrike">
                <a:solidFill>
                  <a:srgbClr val="23b8d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1693800" y="1828800"/>
            <a:ext cx="53992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78000"/>
              </a:lnSpc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9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A. Ugl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9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9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9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ff6633"/>
                </a:solidFill>
                <a:latin typeface="Comic Sans MS"/>
              </a:rPr>
              <a:t>B. Fa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9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9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9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9999cc"/>
                </a:solidFill>
                <a:latin typeface="Comic Sans MS"/>
              </a:rPr>
              <a:t>C. Beautifu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9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067280" y="1844640"/>
            <a:ext cx="1780920" cy="1751040"/>
            <a:chOff x="4067280" y="1844640"/>
            <a:chExt cx="1780920" cy="1751040"/>
          </a:xfrm>
        </p:grpSpPr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4067280" y="1844640"/>
              <a:ext cx="178092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4067280" y="1844640"/>
              <a:ext cx="1780920" cy="17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979640" y="3213000"/>
            <a:ext cx="1438200" cy="2005200"/>
            <a:chOff x="1979640" y="3213000"/>
            <a:chExt cx="1438200" cy="20052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1979640" y="3213000"/>
              <a:ext cx="143820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979640" y="3213000"/>
              <a:ext cx="1438200" cy="20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6480000" y="3959280"/>
            <a:ext cx="198288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003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12. Against which team did Italy play the world cup final in 2006?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858920" y="2276640"/>
            <a:ext cx="3600360" cy="2016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0" indent="-60480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Comic Sans MS"/>
              <a:buAutoNum type="alphaU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Fra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Comic Sans MS"/>
              <a:buAutoNum type="alphaU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omic Sans MS"/>
              </a:rPr>
              <a:t>Engl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Comic Sans MS"/>
              <a:buAutoNum type="alphaU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3333"/>
                </a:solidFill>
                <a:latin typeface="Comic Sans MS"/>
              </a:rPr>
              <a:t>Germa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797360"/>
            <a:ext cx="2017440" cy="19112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468360" y="1989000"/>
            <a:ext cx="41022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29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29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29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77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77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8" dur="1229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0" dur="1229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2" dur="1229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77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77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1229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1229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1229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solidFill>
            <a:srgbClr val="ffe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Comic Sans MS"/>
              </a:rPr>
              <a:t>13. What does this gesture mea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826920" y="1544760"/>
            <a:ext cx="410544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A. I am star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Comic Sans MS"/>
              </a:rPr>
              <a:t>B.</a:t>
            </a:r>
            <a:r>
              <a:rPr b="0" i="1" lang="en-US" sz="3200" spc="-1" strike="noStrike">
                <a:solidFill>
                  <a:srgbClr val="9933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3366"/>
                </a:solidFill>
                <a:latin typeface="Comic Sans MS"/>
              </a:rPr>
              <a:t>I am fu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ae00"/>
                </a:solidFill>
                <a:latin typeface="Comic Sans MS"/>
              </a:rPr>
              <a:t>C. How would you like some spaghett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356000" y="2700360"/>
            <a:ext cx="4319640" cy="30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25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60360" y="179280"/>
            <a:ext cx="8639280" cy="1866960"/>
          </a:xfrm>
          <a:prstGeom prst="rect">
            <a:avLst/>
          </a:prstGeom>
          <a:solidFill>
            <a:srgbClr val="ffb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Comic Sans MS"/>
              </a:rPr>
              <a:t>14. Which Italian football team is known as “the old lady”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0360"/>
            <a:ext cx="414036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78000"/>
              </a:lnSpc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1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.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o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1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1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. Mil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1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1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Juvent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219640" y="3060720"/>
            <a:ext cx="3640320" cy="327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360360"/>
            <a:ext cx="9144000" cy="1800360"/>
          </a:xfrm>
          <a:prstGeom prst="rect">
            <a:avLst/>
          </a:prstGeom>
          <a:solidFill>
            <a:srgbClr val="c6f1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5. Which Italian car won the “Car of the Year 2008” priz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1828800"/>
            <a:ext cx="5975280" cy="39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78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Comic Sans MS"/>
              </a:rPr>
              <a:t>A. Alfa Romeo MiT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. Fiat 50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Comic Sans MS"/>
              </a:rPr>
              <a:t>C. Fiat Stilo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319640" y="3600360"/>
            <a:ext cx="4140000" cy="25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98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5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5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5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1" dur="11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2" dur="400" autoRev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3" dur="400" autoRev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4" dur="400" autoRev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25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25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25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25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25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1840" y="60120"/>
            <a:ext cx="84978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Comic Sans MS"/>
              </a:rPr>
              <a:t>16. Which Italian word do audiences say to an opera singer to express their appreciation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3682800" cy="2630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0" indent="-60480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Comic Sans MS"/>
              <a:buAutoNum type="alphaU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Urrà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Comic Sans MS"/>
              <a:buAutoNum type="alphaU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rav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Comic Sans MS"/>
              <a:buAutoNum type="alphaU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ell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4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680000" y="1979640"/>
            <a:ext cx="431964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25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25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25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8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60360" y="179280"/>
            <a:ext cx="7740720" cy="1600200"/>
          </a:xfrm>
          <a:prstGeom prst="rect">
            <a:avLst/>
          </a:prstGeom>
          <a:solidFill>
            <a:srgbClr val="a3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7. What is Michelangelo's most famous sculptur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1082520" y="2340000"/>
            <a:ext cx="3633840" cy="38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8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88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Comic Sans MS"/>
              </a:rPr>
              <a:t>A. The Last Judgement</a:t>
            </a:r>
            <a:r>
              <a:rPr b="0" lang="en-US" sz="40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99"/>
                </a:solidFill>
                <a:latin typeface="Comic Sans MS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88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B. Davi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88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88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000" spc="-1" strike="noStrike">
                <a:solidFill>
                  <a:srgbClr val="e6ff00"/>
                </a:solidFill>
                <a:latin typeface="Comic Sans MS"/>
              </a:rPr>
              <a:t>C. Pietà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680000" y="1979640"/>
            <a:ext cx="3240000" cy="45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178920"/>
            <a:ext cx="8459640" cy="18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3b8dc"/>
                </a:solidFill>
                <a:latin typeface="Comic Sans MS"/>
              </a:rPr>
              <a:t>18. Which Italian author published </a:t>
            </a:r>
            <a:r>
              <a:rPr b="0" i="1" lang="en-US" sz="4400" spc="-1" strike="noStrike">
                <a:solidFill>
                  <a:srgbClr val="23b8dc"/>
                </a:solidFill>
                <a:latin typeface="Comic Sans MS"/>
              </a:rPr>
              <a:t>Pinocchio</a:t>
            </a:r>
            <a:r>
              <a:rPr b="0" lang="en-US" sz="4400" spc="-1" strike="noStrike">
                <a:solidFill>
                  <a:srgbClr val="23b8dc"/>
                </a:solidFill>
                <a:latin typeface="Comic Sans MS"/>
              </a:rPr>
              <a:t> in 1880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427640" y="2339640"/>
            <a:ext cx="446544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UcParenR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ae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ae00"/>
                </a:solidFill>
                <a:latin typeface="Comic Sans MS"/>
              </a:rPr>
              <a:t>Dante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UcParenR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808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8080"/>
                </a:solidFill>
                <a:latin typeface="Comic Sans MS"/>
              </a:rPr>
              <a:t>Alessandro Manzoni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UcParenR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66cc"/>
                </a:solidFill>
                <a:latin typeface="Comic Sans MS"/>
              </a:rPr>
              <a:t>Carlo Collod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36600" y="1979640"/>
            <a:ext cx="3984480" cy="351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5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5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solidFill>
            <a:srgbClr val="dc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. What is the capital city of Ital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1828800"/>
            <a:ext cx="741528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78000"/>
              </a:lnSpc>
              <a:spcBef>
                <a:spcPts val="1100"/>
              </a:spcBef>
              <a:tabLst>
                <a:tab algn="l" pos="0"/>
                <a:tab algn="l" pos="60480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78000"/>
              </a:lnSpc>
              <a:spcBef>
                <a:spcPts val="1100"/>
              </a:spcBef>
              <a:tabLst>
                <a:tab algn="l" pos="0"/>
                <a:tab algn="l" pos="60480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n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78000"/>
              </a:lnSpc>
              <a:spcBef>
                <a:spcPts val="1100"/>
              </a:spcBef>
              <a:tabLst>
                <a:tab algn="l" pos="0"/>
                <a:tab algn="l" pos="60480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78000"/>
              </a:lnSpc>
              <a:spcBef>
                <a:spcPts val="1100"/>
              </a:spcBef>
              <a:tabLst>
                <a:tab algn="l" pos="0"/>
                <a:tab algn="l" pos="60480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.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78000"/>
              </a:lnSpc>
              <a:spcBef>
                <a:spcPts val="799"/>
              </a:spcBef>
              <a:tabLst>
                <a:tab algn="l" pos="0"/>
                <a:tab algn="l" pos="60480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78000"/>
              </a:lnSpc>
              <a:spcBef>
                <a:spcPts val="1100"/>
              </a:spcBef>
              <a:tabLst>
                <a:tab algn="l" pos="0"/>
                <a:tab algn="l" pos="60480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78000"/>
              </a:lnSpc>
              <a:spcBef>
                <a:spcPts val="1100"/>
              </a:spcBef>
              <a:tabLst>
                <a:tab algn="l" pos="0"/>
                <a:tab algn="l" pos="60480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. Florence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040360" y="197964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079640" y="3240000"/>
            <a:ext cx="3136680" cy="19224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5940360" y="4789440"/>
            <a:ext cx="2340000" cy="15112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60360" y="290520"/>
            <a:ext cx="8459640" cy="2049480"/>
          </a:xfrm>
          <a:prstGeom prst="rect">
            <a:avLst/>
          </a:prstGeom>
          <a:solidFill>
            <a:srgbClr val="ff93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19. What is the name of the large island off the toe of Ital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728640" y="2282760"/>
            <a:ext cx="3772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Comic Sans MS"/>
              </a:rPr>
              <a:t>A. Sardin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cil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ae00"/>
                </a:solidFill>
                <a:latin typeface="Comic Sans MS"/>
              </a:rPr>
              <a:t>C.</a:t>
            </a:r>
            <a:r>
              <a:rPr b="0" lang="en-US" sz="4000" spc="-1" strike="noStrike">
                <a:solidFill>
                  <a:srgbClr val="00ae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ae00"/>
                </a:solidFill>
                <a:latin typeface="Comic Sans MS"/>
              </a:rPr>
              <a:t>Cap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5219640" y="2700360"/>
            <a:ext cx="306072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solidFill>
            <a:srgbClr val="ffe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0. What do Italians say when they mee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433440" y="1927080"/>
            <a:ext cx="7486560" cy="4552920"/>
          </a:xfrm>
          <a:prstGeom prst="rect">
            <a:avLst/>
          </a:prstGeom>
          <a:solidFill>
            <a:srgbClr val="fff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8000"/>
              </a:lnSpc>
              <a:spcBef>
                <a:spcPts val="9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바탕"/>
              </a:rPr>
              <a:t>Arrivederci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. </a:t>
            </a:r>
            <a:r>
              <a:rPr b="1" lang="en-US" sz="4000" spc="-1" strike="noStrike">
                <a:solidFill>
                  <a:srgbClr val="7da647"/>
                </a:solidFill>
                <a:latin typeface="Comic Sans MS"/>
              </a:rPr>
              <a:t>Hey!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. 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Ciao!</a:t>
            </a:r>
            <a:r>
              <a:rPr b="1" lang="en-US" sz="4000" spc="-1" strike="noStrike">
                <a:solidFill>
                  <a:srgbClr val="0000ff"/>
                </a:solidFill>
                <a:latin typeface="Lucida Handwriting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575240" y="2340000"/>
            <a:ext cx="2982960" cy="3419280"/>
            <a:chOff x="4575240" y="2340000"/>
            <a:chExt cx="2982960" cy="3419280"/>
          </a:xfrm>
        </p:grpSpPr>
        <p:sp>
          <p:nvSpPr>
            <p:cNvPr id="365" name=""/>
            <p:cNvSpPr/>
            <p:nvPr/>
          </p:nvSpPr>
          <p:spPr>
            <a:xfrm>
              <a:off x="4575240" y="2340000"/>
              <a:ext cx="2982960" cy="34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915080" y="251928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d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4400" spc="-1" strike="noStrike">
                <a:solidFill>
                  <a:srgbClr val="0066cc"/>
                </a:solidFill>
                <a:latin typeface="Comic Sans MS"/>
              </a:rPr>
              <a:t>Fine 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619280" y="1619280"/>
            <a:ext cx="5818320" cy="4492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85800" y="1700280"/>
            <a:ext cx="769608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 algn="ctr">
              <a:lnSpc>
                <a:spcPct val="98000"/>
              </a:lnSpc>
              <a:spcBef>
                <a:spcPts val="10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nswer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 algn="ctr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 algn="ctr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 algn="ctr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 algn="ctr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 algn="ctr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189000"/>
            <a:ext cx="6870600" cy="1439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oluzio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692360" y="189000"/>
            <a:ext cx="1193760" cy="1366920"/>
            <a:chOff x="1692360" y="189000"/>
            <a:chExt cx="1193760" cy="1366920"/>
          </a:xfrm>
        </p:grpSpPr>
        <p:pic>
          <p:nvPicPr>
            <p:cNvPr id="372" name="" descr=""/>
            <p:cNvPicPr/>
            <p:nvPr/>
          </p:nvPicPr>
          <p:blipFill>
            <a:blip r:embed="rId1"/>
            <a:stretch/>
          </p:blipFill>
          <p:spPr>
            <a:xfrm>
              <a:off x="1692360" y="189000"/>
              <a:ext cx="119376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1692360" y="189000"/>
              <a:ext cx="1193760" cy="13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nswer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828800"/>
            <a:ext cx="769608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 algn="ctr">
              <a:lnSpc>
                <a:spcPct val="98000"/>
              </a:lnSpc>
              <a:spcBef>
                <a:spcPts val="10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. 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 algn="ctr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. 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 algn="ctr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8. 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 algn="ctr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9. 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 algn="ctr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. 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nswer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1828800"/>
            <a:ext cx="769608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 algn="ctr">
              <a:lnSpc>
                <a:spcPct val="98000"/>
              </a:lnSpc>
              <a:spcBef>
                <a:spcPts val="10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1. 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 algn="ctr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2. 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 algn="ctr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3. 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 algn="ctr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4. 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 algn="ctr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5. 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898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98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98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98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98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98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nswer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684360" y="1773360"/>
            <a:ext cx="7696080" cy="47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 algn="ctr">
              <a:lnSpc>
                <a:spcPct val="88000"/>
              </a:lnSpc>
              <a:spcBef>
                <a:spcPts val="9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6. 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 algn="ctr">
              <a:lnSpc>
                <a:spcPct val="88000"/>
              </a:lnSpc>
              <a:spcBef>
                <a:spcPts val="9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7. 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 algn="ctr">
              <a:lnSpc>
                <a:spcPct val="88000"/>
              </a:lnSpc>
              <a:spcBef>
                <a:spcPts val="9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8. 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 algn="ctr">
              <a:lnSpc>
                <a:spcPct val="88000"/>
              </a:lnSpc>
              <a:spcBef>
                <a:spcPts val="9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9. 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 algn="ctr">
              <a:lnSpc>
                <a:spcPct val="88000"/>
              </a:lnSpc>
              <a:spcBef>
                <a:spcPts val="9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0. 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 algn="ctr">
              <a:lnSpc>
                <a:spcPct val="88000"/>
              </a:lnSpc>
              <a:spcBef>
                <a:spcPts val="9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88000"/>
              </a:lnSpc>
              <a:spcBef>
                <a:spcPts val="9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703dff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Com’è andata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88000"/>
              </a:lnSpc>
              <a:spcBef>
                <a:spcPts val="9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solidFill>
            <a:srgbClr val="ff6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b8ff"/>
                </a:solidFill>
                <a:latin typeface="Comic Sans MS"/>
              </a:rPr>
              <a:t>2. The name of the Italian flag is 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768320" y="1979640"/>
            <a:ext cx="409896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cc66"/>
                </a:solidFill>
                <a:latin typeface="Comic Sans MS"/>
              </a:rPr>
              <a:t>A. Union Jac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97000"/>
              </a:lnSpc>
              <a:spcBef>
                <a:spcPts val="6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. Stars and strip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97000"/>
              </a:lnSpc>
              <a:spcBef>
                <a:spcPts val="6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97000"/>
              </a:lnSpc>
              <a:spcBef>
                <a:spcPts val="60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. Tricolo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5580000" y="3060720"/>
            <a:ext cx="2844720" cy="1969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solidFill>
            <a:srgbClr val="ffbc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Comic Sans MS"/>
              </a:rPr>
              <a:t>3. In which city can you see the leaning tower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770040" y="2525760"/>
            <a:ext cx="3771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arenR"/>
              <a:tabLst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Florenc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arenR"/>
              <a:tabLst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Pisa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arenR"/>
              <a:tabLst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b200"/>
                </a:solidFill>
                <a:latin typeface="Comic Sans MS"/>
              </a:rPr>
              <a:t>Napl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859280" y="1898640"/>
            <a:ext cx="3600360" cy="45813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solidFill>
            <a:srgbClr val="de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4. What is Naples famous fo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1549440" y="1828800"/>
            <a:ext cx="705492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78000"/>
              </a:lnSpc>
              <a:spcBef>
                <a:spcPts val="4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4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. Spaghet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4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4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. Pizz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4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4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. Fash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480000" y="1941480"/>
            <a:ext cx="1978200" cy="1836720"/>
            <a:chOff x="6480000" y="1941480"/>
            <a:chExt cx="1978200" cy="183672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6480000" y="1941480"/>
              <a:ext cx="197820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6480000" y="1941480"/>
              <a:ext cx="1978200" cy="18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5580000" y="4859280"/>
            <a:ext cx="2340000" cy="1620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8200" y="2879640"/>
            <a:ext cx="3241800" cy="21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solidFill>
            <a:srgbClr val="ff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b80047"/>
                </a:solidFill>
                <a:latin typeface="Comic Sans MS"/>
              </a:rPr>
              <a:t>5. Valentino Rossi is..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1403280" y="1828800"/>
            <a:ext cx="66978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78000"/>
              </a:lnSpc>
              <a:spcBef>
                <a:spcPts val="3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47ff"/>
                </a:solidFill>
                <a:latin typeface="Comic Sans MS"/>
              </a:rPr>
              <a:t>A. A motor d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Comic Sans MS"/>
              </a:rPr>
              <a:t>B. A footbal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808000"/>
                </a:solidFill>
                <a:latin typeface="Comic Sans MS"/>
              </a:rPr>
              <a:t>C. A fashion desig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3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3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885960" y="2043000"/>
            <a:ext cx="2174760" cy="1557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678200" y="3060720"/>
            <a:ext cx="2522880" cy="2160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1835280" y="4883040"/>
            <a:ext cx="1585800" cy="1596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solidFill>
            <a:srgbClr val="7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6. How many people live in Italy toda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20720" y="2101680"/>
            <a:ext cx="669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7000"/>
              </a:lnSpc>
              <a:spcBef>
                <a:spcPts val="11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7b8b8"/>
                </a:solidFill>
                <a:latin typeface="Comic Sans MS"/>
                <a:ea typeface="Arial"/>
              </a:rPr>
              <a:t>A. 90 mill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7000"/>
              </a:lnSpc>
              <a:spcBef>
                <a:spcPts val="11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eb613d"/>
                </a:solidFill>
                <a:latin typeface="Comic Sans MS"/>
                <a:ea typeface="Arial"/>
              </a:rPr>
              <a:t>B. 40 mill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7000"/>
              </a:lnSpc>
              <a:spcBef>
                <a:spcPts val="11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5e11a6"/>
                </a:solidFill>
                <a:latin typeface="Comic Sans MS"/>
                <a:ea typeface="Arial"/>
              </a:rPr>
              <a:t>C. 60 mill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400720" y="2317680"/>
            <a:ext cx="3060720" cy="38037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73960" cy="11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7. Ferrari is a …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00080" y="1439640"/>
            <a:ext cx="4038840" cy="494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0" indent="-60480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Comic Sans MS"/>
              <a:buAutoNum type="alphaU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rand of w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Comic Sans MS"/>
              <a:buAutoNum type="alphaU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ormula 1 te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Comic Sans MS"/>
              <a:buAutoNum type="alphaU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ootball te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4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1749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50" autoRev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50" autoRev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50" autoRev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7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#ppt_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 fill="hold">
                                          <p:stCondLst>
                                            <p:cond delay="1655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5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5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5" fill="hold">
                                          <p:stCondLst>
                                            <p:cond delay="1641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7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5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solidFill>
            <a:srgbClr val="3b9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3366"/>
                </a:solidFill>
                <a:latin typeface="Comic Sans MS"/>
              </a:rPr>
              <a:t>8.  How many regions does Italy hav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1476360" y="1828800"/>
            <a:ext cx="2736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78000"/>
              </a:lnSpc>
              <a:spcBef>
                <a:spcPts val="17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3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 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 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78000"/>
              </a:lnSpc>
              <a:spcBef>
                <a:spcPts val="17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319640" y="2340000"/>
            <a:ext cx="37796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LSS User</cp:lastModifiedBy>
  <dcterms:modified xsi:type="dcterms:W3CDTF">2008-06-24T11:08:55Z</dcterms:modified>
  <cp:revision>1</cp:revision>
  <dc:subject/>
  <dc:title>Spanish Pub Quiz</dc:title>
</cp:coreProperties>
</file>