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C7A-9A1D-425E-AB99-6330C07F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E0E-E812-4308-8019-7AA5A61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1A0-7D57-42A6-A4F9-64CA897F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665-ECEA-41FF-9443-582B5148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81F8F-430E-4E07-8B9A-1D7F1CAE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6FF0A-3979-4A29-B808-87E6C113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C4DA5-E88D-40BD-9145-949AAD2F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1E0EC-3334-40EC-936F-0E3A334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190BD-6A6C-4AC6-BF86-F2ECAAAD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E988A-2C58-4DCD-855A-3893D277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D159E-93F1-4B37-95D9-7CF249C5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86D-6243-414C-9876-7535FEB3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FD00F-0FCD-4472-8DDC-03458B50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3505B-5C45-4FDF-BDD8-71057A4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04F9E-52CC-43FF-9C7D-3C578670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B74CC-55BC-45F3-9532-A418426D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68808-EE55-441D-B49F-8A63F19C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5D2-5161-497A-9ACE-131C0265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B12-D6C0-4B5A-A6DE-0CB62EA2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ECC-F09D-47EF-8635-7284202A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81E-C564-4BDE-B74E-BD414F4D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3A0-BB7F-4643-A6AC-C8A94ED2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F5D-78C2-4D53-B742-587F76FD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8716-D6EA-43C7-A291-6D7D0F15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2C41-4C28-41A9-89EB-640E7BC025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1CD8-2CA6-441B-BC49-38B0350DCA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24000" y="1700280"/>
            <a:ext cx="7480080" cy="3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Urdu is the language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Afghanis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In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 Pakis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38600" y="2757600"/>
            <a:ext cx="16668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kistan is famously known for which s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hock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foo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 cri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  base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1535040" cy="1647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443640" y="3500280"/>
            <a:ext cx="136836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219640" y="4581360"/>
            <a:ext cx="97308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1.  ‘Goodbye’ in Urdu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Shukri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Khuda Haf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Sayon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 There are some very cold regions in Pakis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2087280" cy="28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  Henna is mostly a tradition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 birth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 wed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dinner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2984400" cy="23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  Pakistan i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a hot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a cold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516720" y="155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.  There is a region in Pakistan which is famous for producing footbal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11640" y="2852640"/>
            <a:ext cx="356076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.  Urdu is writte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left to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right to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11640" y="2276640"/>
            <a:ext cx="3560760" cy="25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.  ‘Mehndi’ in English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he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tatt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 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3280" y="2349360"/>
            <a:ext cx="20653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.  ‘Naam’ m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no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 n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. ‘Goodbye’ can be said in two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656160" y="2705040"/>
            <a:ext cx="18302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What is the capital of Pakist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Lah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Karach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  Islama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18018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.  In Urdu, you speak to elders u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a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v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782880" y="2519280"/>
            <a:ext cx="15764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QUIZ MARKING SHEE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 Urdu is similar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F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Portug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 Arab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1827000" cy="18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 ‘Hello’ in Urdu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Namast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Assalam-o-alaik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 Shal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02160" y="2413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.  The traditional dress for Pakistani women       i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Shalwar kame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Sa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 Kaf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873000" cy="1835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32720" y="2997360"/>
            <a:ext cx="1265040" cy="16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.   The scarf that is worn by women around the neck is call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The pal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The dupat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A 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1824120" cy="18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.  ‘My name’ in Urdu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Mera na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Aap ka na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.  ‘What is your name?’ in Urdu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Aap kaisey h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Aap ka naam kya h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17049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 ‘Me’ in Urdu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 M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  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  A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9:16:24Z</dcterms:created>
  <dc:creator>nabz</dc:creator>
  <dc:description/>
  <dc:language>en-US</dc:language>
  <cp:lastModifiedBy>HLSS User</cp:lastModifiedBy>
  <dcterms:modified xsi:type="dcterms:W3CDTF">2008-06-16T15:27:38Z</dcterms:modified>
  <cp:revision>15</cp:revision>
  <dc:subject/>
  <dc:title>Slide 1</dc:title>
</cp:coreProperties>
</file>