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A9E-E638-47B3-A092-F4FF5650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4B3-683C-4775-A0CF-F5996A85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8DC-12B9-42C0-9F29-B84B9AAB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4BA-A960-4078-84B6-F31EC807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413-4AC7-466F-B6C0-415A3E43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A19-8A30-4CB1-A882-837D8455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D00-87BC-4FE8-9115-F367FDF6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894-5FAC-4DE8-923F-C44AAC83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365-52C9-407A-9CFB-540339F0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923-7219-4395-A3CA-B436C5A2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FD0-77B4-47BE-A0B7-38151D1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CCD-1320-4BC8-AA2F-ECA9110D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2C53-96C0-4942-895E-EB483DF57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Urdu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speak, read, write, listen and understand some basic Urdu (hello, how are you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practise describing my family and creating a new Eastenders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hav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llo!  </a:t>
            </a:r>
            <a:r>
              <a:rPr b="0" lang="en-GB" sz="4400" spc="-1" strike="noStrike">
                <a:solidFill>
                  <a:srgbClr val="cc0099"/>
                </a:solidFill>
                <a:latin typeface="Arial"/>
              </a:rPr>
              <a:t>Assalam-o-alaiku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120" y="4495680"/>
            <a:ext cx="7696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reply)   </a:t>
            </a:r>
            <a:r>
              <a:rPr b="0" lang="en-GB" sz="4000" spc="-1" strike="noStrike">
                <a:solidFill>
                  <a:srgbClr val="cc0099"/>
                </a:solidFill>
                <a:latin typeface="Arial"/>
              </a:rPr>
              <a:t>Walaikum – Assala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1108080" cy="1812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8445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352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your name?</a:t>
            </a:r>
            <a:br>
              <a:rPr sz="4000"/>
            </a:br>
            <a:r>
              <a:rPr b="0" lang="en-GB" sz="4000" spc="-1" strike="noStrike">
                <a:solidFill>
                  <a:srgbClr val="cc0099"/>
                </a:solidFill>
                <a:latin typeface="Arial"/>
              </a:rPr>
              <a:t>Aap ka naam kya hey?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y name is……</a:t>
            </a:r>
            <a:br>
              <a:rPr sz="4000"/>
            </a:br>
            <a:r>
              <a:rPr b="0" lang="en-GB" sz="4000" spc="-1" strike="noStrike">
                <a:solidFill>
                  <a:srgbClr val="cc0099"/>
                </a:solidFill>
                <a:latin typeface="Arial"/>
              </a:rPr>
              <a:t>Mera naam……. h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1108080" cy="1812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8445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Arial"/>
              </a:rPr>
              <a:t>Allah Haf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Arial"/>
              </a:rPr>
              <a:t>Khuda Haf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1108080" cy="1812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8445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bz</cp:lastModifiedBy>
  <dcterms:modified xsi:type="dcterms:W3CDTF">2008-06-04T11:18:0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