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97B-1557-4093-8A29-B78294A9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CA0-6979-4E35-AB6B-D9EBAE33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6D7-DCDC-4EDE-902C-FE73EF99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A31-F357-4895-B050-B48E6F6F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6CC-3B86-4192-B716-E59D0CA0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EC5-9E0F-4533-A026-31C1B1B5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93B-B82A-4BDE-9BDF-01D4D0B9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1B0-B3D9-401C-BC3B-CA6433CE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752-E701-46AA-9D80-28E8CD75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32E-26C4-4B87-847C-EB98EA20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CC2-C8A1-4795-AB6D-82BEEB6D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00C-0FED-46DB-BFD4-5EA55188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802F-3854-4F3D-B4AD-86B0568778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my family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            Ye meri family 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81024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1633680" cy="181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1080" y="3733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Am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434340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A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24308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10800000">
            <a:off x="1828800" y="3962160"/>
            <a:ext cx="587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ster </a:t>
            </a: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Behn</a:t>
            </a: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ther </a:t>
            </a: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Bh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7334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my 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Ye meri ammi 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mum’s name is Natas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Meri ammi ka naam Natasha 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my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Ye mere abu 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dad’s name is Zah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Mere abu ka naam Zahid 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116676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my 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Ye meri behn 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 name is Nee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Is ka naam Neelam 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my 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Ye mera bhai 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name is Tar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Is ka naam Tariq 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13507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0066"/>
                </a:solidFill>
                <a:latin typeface="Arial"/>
              </a:rPr>
              <a:t>Ye mei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name is Zain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0066"/>
                </a:solidFill>
                <a:latin typeface="Arial"/>
              </a:rPr>
              <a:t>Mera naam Zainab 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1689120" cy="184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bz</cp:lastModifiedBy>
  <dcterms:modified xsi:type="dcterms:W3CDTF">2008-06-16T11:45:1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