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5.wmf" ContentType="image/x-wmf"/>
  <Override PartName="/ppt/media/image10.png" ContentType="image/png"/>
  <Override PartName="/ppt/media/image35.jpeg" ContentType="image/jpeg"/>
  <Override PartName="/ppt/media/image30.png" ContentType="image/png"/>
  <Override PartName="/ppt/media/image34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40.png" ContentType="image/png"/>
  <Override PartName="/ppt/media/image41.jpeg" ContentType="image/jpeg"/>
  <Override PartName="/ppt/media/image42.png" ContentType="image/png"/>
  <Override PartName="/ppt/media/cashreg.wav" ContentType="audio/x-wav"/>
  <Override PartName="/ppt/media/image39.png" ContentType="image/png"/>
  <Override PartName="/ppt/media/image43.jpeg" ContentType="image/jpeg"/>
  <Override PartName="/ppt/media/image44.jpeg" ContentType="image/jpe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21C-4E1F-480D-A94A-543C6912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D4F-0AF0-4849-BCE3-FFB7BBEC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1ED-1C87-46EE-9ABF-DEEC5C00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E1C-AB2B-4E57-8C5C-FABBD4B7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0337-5014-40C3-AF80-95B2BACA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0CC8-64E2-46F1-8E54-AABB7853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6F6E-858B-4197-975F-B2020D9D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04B2-8828-4DB9-97A4-C0AF4337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980A-AC62-4365-86E7-BC3B6636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3758-C277-4E7B-B8F2-97EBBD07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F6EA-C0D8-4D07-83B1-4D4F395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21D-E5CB-4032-A727-45AA3C85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FF6-9B72-40CE-9682-D63F17FD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7FC0-ABE8-47AC-BB71-48C7FAB0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9FB9-4A54-4373-BB32-0DB7ABD9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E1B3-9A17-48A9-A1F9-DD96A09A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F5A6-4BC5-4524-8BF3-C0DBD17E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80FC-551D-45FC-8070-8F14BD01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7488-0357-4FCA-A67D-7B39D63A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065CD-6A50-42B4-AFC8-5A0B7975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4A7E-9CBF-4EED-B3F2-021F144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9A321-4667-4DB3-9DB2-66FB9F15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306-D714-42E4-AD32-23FB7901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0B00-2A2C-4D74-A2DB-9BFCEFFB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8771-AC3D-4C35-9933-3050785B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EF10-D3FC-41F1-9216-57F428BD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55A2-396A-4EE0-8113-9015E324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3B30-9B1C-46EC-9A62-A639DEAF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6888-BACB-49AA-BC50-CFE66892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1325-40E8-4A8D-9474-B5863A56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520-08FB-4C02-B7CC-6DF70C30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141-752C-4D18-A2A7-D944630A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C25-FD8A-4BE1-A860-3DDE24F4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BA3-7F9A-4871-B8BC-4FE37361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F8A-DBBD-4CBF-B8C8-E2B26462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8AF-4749-4CA4-B1ED-CE1F67C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D19E-100D-487A-BFFE-C65A73B4C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9D24-9B46-4804-99D7-A3AD4D596A4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484-80D5-4DE7-BEE8-A748905D7B3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3.png"/><Relationship Id="rId8" Type="http://schemas.openxmlformats.org/officeDocument/2006/relationships/image" Target="../media/image26.png"/><Relationship Id="rId9" Type="http://schemas.openxmlformats.org/officeDocument/2006/relationships/image" Target="../media/image28.png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34.wmf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32.wmf"/><Relationship Id="rId5" Type="http://schemas.openxmlformats.org/officeDocument/2006/relationships/image" Target="../media/image36.wm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31.png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36.wmf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wmf"/><Relationship Id="rId9" Type="http://schemas.openxmlformats.org/officeDocument/2006/relationships/image" Target="../media/image33.jpeg"/><Relationship Id="rId10" Type="http://schemas.openxmlformats.org/officeDocument/2006/relationships/image" Target="../media/image34.wmf"/><Relationship Id="rId11" Type="http://schemas.openxmlformats.org/officeDocument/2006/relationships/image" Target="../media/image35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0054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57200" y="457200"/>
          <a:ext cx="8229240" cy="585108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910040" y="549360"/>
            <a:ext cx="1174680" cy="12240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1368360" cy="11620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1042920" y="549360"/>
            <a:ext cx="987480" cy="1224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2916360" y="620640"/>
            <a:ext cx="1346040" cy="12034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219640" y="2492280"/>
            <a:ext cx="792360" cy="12286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3059280" y="2565360"/>
            <a:ext cx="873000" cy="10810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684360" y="2565360"/>
            <a:ext cx="1574640" cy="9111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3276720" y="4437000"/>
            <a:ext cx="622080" cy="1368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9"/>
          <a:stretch/>
        </p:blipFill>
        <p:spPr>
          <a:xfrm>
            <a:off x="7236000" y="2637000"/>
            <a:ext cx="1023840" cy="9842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4643280" y="4581360"/>
            <a:ext cx="1443240" cy="981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1"/>
          <a:stretch/>
        </p:blipFill>
        <p:spPr>
          <a:xfrm>
            <a:off x="6804000" y="4653000"/>
            <a:ext cx="1655640" cy="709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2"/>
          <a:stretch/>
        </p:blipFill>
        <p:spPr>
          <a:xfrm>
            <a:off x="1042920" y="4437000"/>
            <a:ext cx="1005120" cy="12970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84360" y="191628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42920" y="19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36000" y="5805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03640" y="5769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nk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59280" y="57992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42920" y="5805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4360" y="38545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48360" y="38545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t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87640" y="38545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3860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6000" y="19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oh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076720" y="19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6360" y="19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shown some parts of the body and the words in U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match? If yes, repeat the word, if no, stay silent. Your teacher will try to catch you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324000" y="836640"/>
          <a:ext cx="8435880" cy="5256360"/>
        </p:xfrm>
        <a:graphic>
          <a:graphicData uri="http://schemas.openxmlformats.org/drawingml/2006/table">
            <a:tbl>
              <a:tblPr/>
              <a:tblGrid>
                <a:gridCol w="4248000"/>
                <a:gridCol w="4187880"/>
              </a:tblGrid>
              <a:tr h="26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h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t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952560" cy="20955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2124000" y="4076640"/>
            <a:ext cx="2210040" cy="18763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6013440" y="1125360"/>
            <a:ext cx="1438200" cy="22323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6737400" y="3716280"/>
            <a:ext cx="1506600" cy="19447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95280" y="907920"/>
            <a:ext cx="158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k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5280" y="3573360"/>
            <a:ext cx="158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koh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4932360" y="2205000"/>
            <a:ext cx="789120" cy="827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4859280" y="4941720"/>
            <a:ext cx="78912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353880" y="549360"/>
          <a:ext cx="8437680" cy="5761080"/>
        </p:xfrm>
        <a:graphic>
          <a:graphicData uri="http://schemas.openxmlformats.org/drawingml/2006/table">
            <a:tbl>
              <a:tblPr/>
              <a:tblGrid>
                <a:gridCol w="4248360"/>
                <a:gridCol w="4189320"/>
              </a:tblGrid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az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t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846440" y="907920"/>
            <a:ext cx="1800000" cy="18766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5996160" y="907920"/>
            <a:ext cx="1671480" cy="22449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940360" y="3933720"/>
            <a:ext cx="1573200" cy="15242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971640" y="4519440"/>
            <a:ext cx="2663640" cy="11415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16360" y="692280"/>
            <a:ext cx="158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ng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8360" y="3429000"/>
            <a:ext cx="158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3500280"/>
            <a:ext cx="158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ha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755640" y="2205000"/>
            <a:ext cx="78912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353880" y="549360"/>
          <a:ext cx="8437680" cy="5761080"/>
        </p:xfrm>
        <a:graphic>
          <a:graphicData uri="http://schemas.openxmlformats.org/drawingml/2006/table">
            <a:tbl>
              <a:tblPr/>
              <a:tblGrid>
                <a:gridCol w="4248720"/>
                <a:gridCol w="4188960"/>
              </a:tblGrid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k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739880" y="4076640"/>
            <a:ext cx="1608120" cy="16765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6531120" y="1197000"/>
            <a:ext cx="1569960" cy="1944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1476360" y="1519200"/>
            <a:ext cx="2303640" cy="13334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5219640" y="4094280"/>
            <a:ext cx="2160720" cy="14684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468360" y="3429000"/>
            <a:ext cx="158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b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3492360" y="2349360"/>
            <a:ext cx="789120" cy="8272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6"/>
          <a:stretch/>
        </p:blipFill>
        <p:spPr>
          <a:xfrm>
            <a:off x="5364000" y="2060640"/>
            <a:ext cx="789120" cy="826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7596360" y="5229360"/>
            <a:ext cx="7887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missing from this Pictur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852560" y="2071800"/>
          <a:ext cx="496584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2071800"/>
                    <a:ext cx="496584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484360" y="3105000"/>
            <a:ext cx="403236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missing from this Pictur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900000" y="1844640"/>
          <a:ext cx="669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669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556000" y="2205000"/>
            <a:ext cx="439236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aa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missing from this Pictur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981160" y="2467080"/>
          <a:ext cx="3181680" cy="31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1160" y="2467080"/>
                    <a:ext cx="318168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31510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utes into Languages North We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rdu Language Tas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pic: Parts of the Bo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187280" y="3105000"/>
            <a:ext cx="6913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a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missing from this Pictur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116000" y="1989000"/>
          <a:ext cx="7056360" cy="44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627280" y="3105000"/>
            <a:ext cx="511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ank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missing from this pictur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4403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09880" y="3108240"/>
            <a:ext cx="1524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az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missing from this Pictur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419640" y="2637000"/>
            <a:ext cx="44132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547640" y="2708280"/>
            <a:ext cx="5040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aa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lete the Pi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rcRect l="11933" t="7886" r="14685" b="0"/>
          <a:stretch/>
        </p:blipFill>
        <p:spPr>
          <a:xfrm>
            <a:off x="2914560" y="1700280"/>
            <a:ext cx="3313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335640" cy="597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6732720" y="5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b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569640" y="1432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k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87080" y="2081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m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87440" y="2800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ba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9080" y="380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ha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95440" y="5392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gu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42360" y="5897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p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13640" y="4889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ta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06160" y="37162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koh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03280" y="2276640"/>
            <a:ext cx="6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n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86720" y="568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aan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Topic: Parts of the bod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o learn some basic greetings in Urdu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  <a:ea typeface="宋体"/>
              </a:rPr>
              <a:t>To be able to name parts of the body in  Urdu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00"/>
                </a:solidFill>
                <a:latin typeface="Arial Black"/>
                <a:ea typeface="宋体"/>
              </a:rPr>
              <a:t>	</a:t>
            </a:r>
            <a:r>
              <a:rPr b="0" i="1" lang="en-GB" sz="2000" spc="-1" strike="noStrike">
                <a:solidFill>
                  <a:srgbClr val="ffcc00"/>
                </a:solidFill>
                <a:latin typeface="Arial Black"/>
                <a:ea typeface="宋体"/>
              </a:rPr>
              <a:t>At the end of this session you will be able to name parts of the body in Urdu and be able to pronounce them correctly in Urdu.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  <a:ea typeface="宋体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79280" y="189000"/>
            <a:ext cx="158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ll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00000" y="2492280"/>
            <a:ext cx="684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lco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971640" y="3357720"/>
            <a:ext cx="6696000" cy="1439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Hello in Urdu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052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643280" y="486900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00000" y="380880"/>
            <a:ext cx="1108080" cy="18129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844560" cy="1819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09480" y="25066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Hello!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4400" spc="-1" strike="noStrike">
                <a:solidFill>
                  <a:srgbClr val="cc0099"/>
                </a:solidFill>
                <a:latin typeface="Arial Black"/>
              </a:rPr>
              <a:t>Assalam-o-alaiku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4857840"/>
            <a:ext cx="8534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(reply)   </a:t>
            </a:r>
            <a:r>
              <a:rPr b="0" lang="en-GB" sz="4000" spc="-1" strike="noStrike">
                <a:solidFill>
                  <a:srgbClr val="cc0099"/>
                </a:solidFill>
                <a:latin typeface="Arial Black"/>
              </a:rPr>
              <a:t>Walaikum – Assala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900000" y="380880"/>
            <a:ext cx="1108080" cy="18129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844560" cy="1819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609480" y="25066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What is your name?</a:t>
            </a:r>
            <a:br>
              <a:rPr sz="4400"/>
            </a:br>
            <a:r>
              <a:rPr b="0" lang="en-GB" sz="4400" spc="-1" strike="noStrike">
                <a:solidFill>
                  <a:srgbClr val="cc0099"/>
                </a:solidFill>
                <a:latin typeface="Arial Black"/>
              </a:rPr>
              <a:t>Aap ka naam kya 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57840"/>
            <a:ext cx="8534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My name is……</a:t>
            </a:r>
            <a:br>
              <a:rPr sz="4400"/>
            </a:br>
            <a:r>
              <a:rPr b="0" lang="en-GB" sz="4400" spc="-1" strike="noStrike">
                <a:solidFill>
                  <a:srgbClr val="cc0099"/>
                </a:solidFill>
                <a:latin typeface="Arial Black"/>
              </a:rPr>
              <a:t>Mera naam……. h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800360" cy="18763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2209680" cy="1876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4572000" y="34225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4643280" y="4941720"/>
            <a:ext cx="1872000" cy="10209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6732720" y="2276640"/>
            <a:ext cx="1643040" cy="896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6588000" y="3284640"/>
            <a:ext cx="165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Baaz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859280" y="5950080"/>
            <a:ext cx="1523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ohn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8"/>
          <a:stretch/>
        </p:blipFill>
        <p:spPr>
          <a:xfrm>
            <a:off x="395280" y="765000"/>
            <a:ext cx="1114560" cy="13813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9"/>
          <a:stretch/>
        </p:blipFill>
        <p:spPr>
          <a:xfrm>
            <a:off x="1979640" y="620640"/>
            <a:ext cx="1655640" cy="903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1979640" y="1557360"/>
            <a:ext cx="151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gl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0"/>
          <a:stretch/>
        </p:blipFill>
        <p:spPr>
          <a:xfrm>
            <a:off x="2050920" y="3645000"/>
            <a:ext cx="1704960" cy="1523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1"/>
          <a:stretch/>
        </p:blipFill>
        <p:spPr>
          <a:xfrm>
            <a:off x="468360" y="3932280"/>
            <a:ext cx="1368360" cy="745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539640" y="4653000"/>
            <a:ext cx="12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a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572000" y="34336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572000" y="34225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4788000" y="831960"/>
            <a:ext cx="1247760" cy="19335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6684840" y="765000"/>
            <a:ext cx="2016360" cy="11001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6972480" y="1839960"/>
            <a:ext cx="149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utn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2700360" y="4724280"/>
            <a:ext cx="1438200" cy="1781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4861080" y="4581360"/>
            <a:ext cx="1871640" cy="10209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5003640" y="5589720"/>
            <a:ext cx="17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a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900000" y="333360"/>
            <a:ext cx="2438640" cy="1409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>
            <a:off x="826920" y="1989000"/>
            <a:ext cx="2579760" cy="14065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1042920" y="328464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Paa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89000" y="4365720"/>
            <a:ext cx="853920" cy="18795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859040" cy="10144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1187280" y="5373720"/>
            <a:ext cx="18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a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65240" y="476280"/>
            <a:ext cx="1742760" cy="16765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1835280" y="476280"/>
            <a:ext cx="1439640" cy="785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2052720" y="1341360"/>
            <a:ext cx="11142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aa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4640400" y="622440"/>
            <a:ext cx="1876320" cy="1276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6804000" y="4035600"/>
            <a:ext cx="2016000" cy="8632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786720" y="4941720"/>
            <a:ext cx="1962000" cy="7192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04000" y="566100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0"/>
          <a:stretch/>
        </p:blipFill>
        <p:spPr>
          <a:xfrm>
            <a:off x="3924360" y="2349360"/>
            <a:ext cx="1227240" cy="15843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1"/>
          <a:stretch/>
        </p:blipFill>
        <p:spPr>
          <a:xfrm>
            <a:off x="6732720" y="404640"/>
            <a:ext cx="1695240" cy="11368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6948360" y="1557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ank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924360" y="5157720"/>
            <a:ext cx="151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aa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284720" y="4005360"/>
            <a:ext cx="5522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bra Nastaliq"/>
              </a:rPr>
              <a:t>ناک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bra Nastaliq"/>
              <a:ea typeface="Cobra Nastali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31:35Z</dcterms:created>
  <dc:creator>QUS</dc:creator>
  <dc:description/>
  <dc:language>en-US</dc:language>
  <cp:lastModifiedBy>HLSS User</cp:lastModifiedBy>
  <dcterms:modified xsi:type="dcterms:W3CDTF">2008-06-16T10:38:34Z</dcterms:modified>
  <cp:revision>57</cp:revision>
  <dc:subject/>
  <dc:title>Slide 1</dc:title>
</cp:coreProperties>
</file>