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1B3-3F04-4CAA-B5ED-CBAB0EC9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2CB-75F8-4506-9124-3B623DE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676-00BF-4D08-B8DD-D8FA9696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C3A-9029-41C0-9010-59373BEE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EDE5-77EF-4788-9BDB-62D87210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738F-9819-44A9-96C4-E26457D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DD92-F8D4-4DA8-853B-E034426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89C-ADC6-40FC-A3A2-652FFCC3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5BE-3830-4A41-AF73-72268BF4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87E-CCE4-4E9B-92C1-1A8BAD8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DD0F-2D5B-4533-849F-15FBDC4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531-FA0E-4010-B27B-B014228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C1E-32A9-4671-9217-7597DCF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2CD6-1243-4780-9756-4FCE3FF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4A8-1468-4B86-BF95-2505789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CFB-A015-4EB4-ADD4-9D03AFF0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5E8E-B260-4B77-988F-C3B180E7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1746-4211-468F-AFA6-9D15F771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8FCC-5C67-493C-AA28-EDEF17D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A5D4-476C-487A-A744-C84174D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5B53-979B-45EB-A9BB-41A2177D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7EEC-6974-4643-97DA-EF972807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893-508E-43F0-B853-B45B8A09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663B-D2D3-41BA-8E01-BC563C9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7992-B7B1-429E-A58F-1AC3F71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D60A-DE2F-42AD-9EB9-F3AE9C9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C0FB-4521-4308-A71B-15B6A82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9178-FDA1-4DE0-B012-BA8CCD0E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F966-71B7-437C-B756-FD90B4D5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1F6A-1B72-4E8B-AF2F-6EC2833C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5985-4CF1-4CD0-85CD-0C901BEC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44A9-4C93-4F23-A607-4ED9881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7125-C898-4D09-9FB6-E601FD3E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4C2-4BFC-450A-B661-A53ECC0D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BA03-73C6-48B1-B989-CA384D02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72C5-D9B9-4085-8EA0-ADDC7FE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4A9B-2BCE-45AE-8401-2018FF3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334D-4BCA-408C-95CD-FFB75BC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7EE6-C1C1-4EBF-9E9C-B601E2F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27C5-C5C6-4311-96B2-71EA67C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5660-0807-4547-81DB-0027E10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EC75-B3BE-435A-A8C0-740BEC3D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A2D3-65F4-40F1-AFBF-6595CEB9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02D-400D-467E-86DE-471F6BA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41A-D904-473F-BCB5-0B91C0A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9CF-8ADF-420E-8899-B412ACC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C65-8191-4171-B7E5-6805144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8AD-FDAB-429D-80C9-013F336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" name="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4" name="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" name="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1E1-E33D-4243-9181-F50F5D200545}" type="slidenum">
              <a:rPr b="0" lang="en-US" sz="1400" spc="-1" strike="noStrike">
                <a:solidFill>
                  <a:srgbClr val="42503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77" name="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88" name="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202" name="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9360" y="21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0C47-049F-4E02-87BF-40602847C806}" type="slidenum">
              <a:rPr b="0" lang="en-US" sz="1400" spc="-1" strike="noStrike">
                <a:solidFill>
                  <a:srgbClr val="42503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533520" y="-5521320"/>
            <a:ext cx="8596080" cy="16700040"/>
            <a:chOff x="533520" y="-5521320"/>
            <a:chExt cx="8596080" cy="16700040"/>
          </a:xfrm>
        </p:grpSpPr>
        <p:grpSp>
          <p:nvGrpSpPr>
            <p:cNvPr id="264" name=""/>
            <p:cNvGrpSpPr/>
            <p:nvPr/>
          </p:nvGrpSpPr>
          <p:grpSpPr>
            <a:xfrm>
              <a:off x="8001000" y="2846520"/>
              <a:ext cx="1128600" cy="3693960"/>
              <a:chOff x="8001000" y="2846520"/>
              <a:chExt cx="1128600" cy="36939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8001000" y="2846520"/>
                <a:ext cx="1114560" cy="2856960"/>
                <a:chOff x="8001000" y="2846520"/>
                <a:chExt cx="1114560" cy="2856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8001000" y="2846520"/>
                  <a:ext cx="1114560" cy="1440720"/>
                </a:xfrm>
                <a:custGeom>
                  <a:avLst/>
                  <a:gdLst/>
                  <a:ahLst/>
                  <a:rect l="l" t="t" r="r" b="b"/>
                  <a:pathLst>
                    <a:path w="1476" h="1908">
                      <a:moveTo>
                        <a:pt x="972" y="1908"/>
                      </a:moveTo>
                      <a:lnTo>
                        <a:pt x="896" y="1804"/>
                      </a:lnTo>
                      <a:lnTo>
                        <a:pt x="808" y="1728"/>
                      </a:lnTo>
                      <a:lnTo>
                        <a:pt x="752" y="1648"/>
                      </a:lnTo>
                      <a:lnTo>
                        <a:pt x="716" y="1560"/>
                      </a:lnTo>
                      <a:lnTo>
                        <a:pt x="664" y="1388"/>
                      </a:lnTo>
                      <a:lnTo>
                        <a:pt x="604" y="1228"/>
                      </a:lnTo>
                      <a:lnTo>
                        <a:pt x="548" y="1108"/>
                      </a:lnTo>
                      <a:lnTo>
                        <a:pt x="484" y="1008"/>
                      </a:lnTo>
                      <a:lnTo>
                        <a:pt x="412" y="960"/>
                      </a:lnTo>
                      <a:lnTo>
                        <a:pt x="424" y="916"/>
                      </a:lnTo>
                      <a:lnTo>
                        <a:pt x="312" y="916"/>
                      </a:lnTo>
                      <a:lnTo>
                        <a:pt x="180" y="892"/>
                      </a:lnTo>
                      <a:lnTo>
                        <a:pt x="52" y="864"/>
                      </a:lnTo>
                      <a:lnTo>
                        <a:pt x="68" y="828"/>
                      </a:lnTo>
                      <a:lnTo>
                        <a:pt x="44" y="820"/>
                      </a:lnTo>
                      <a:lnTo>
                        <a:pt x="84" y="796"/>
                      </a:lnTo>
                      <a:lnTo>
                        <a:pt x="28" y="752"/>
                      </a:lnTo>
                      <a:lnTo>
                        <a:pt x="68" y="728"/>
                      </a:lnTo>
                      <a:lnTo>
                        <a:pt x="40" y="704"/>
                      </a:lnTo>
                      <a:lnTo>
                        <a:pt x="44" y="660"/>
                      </a:lnTo>
                      <a:lnTo>
                        <a:pt x="0" y="676"/>
                      </a:lnTo>
                      <a:lnTo>
                        <a:pt x="12" y="632"/>
                      </a:lnTo>
                      <a:lnTo>
                        <a:pt x="40" y="616"/>
                      </a:lnTo>
                      <a:lnTo>
                        <a:pt x="16" y="592"/>
                      </a:lnTo>
                      <a:lnTo>
                        <a:pt x="60" y="572"/>
                      </a:lnTo>
                      <a:lnTo>
                        <a:pt x="44" y="532"/>
                      </a:lnTo>
                      <a:lnTo>
                        <a:pt x="84" y="520"/>
                      </a:lnTo>
                      <a:lnTo>
                        <a:pt x="60" y="472"/>
                      </a:lnTo>
                      <a:lnTo>
                        <a:pt x="88" y="464"/>
                      </a:lnTo>
                      <a:lnTo>
                        <a:pt x="92" y="396"/>
                      </a:lnTo>
                      <a:lnTo>
                        <a:pt x="132" y="408"/>
                      </a:lnTo>
                      <a:lnTo>
                        <a:pt x="136" y="348"/>
                      </a:lnTo>
                      <a:lnTo>
                        <a:pt x="192" y="332"/>
                      </a:lnTo>
                      <a:lnTo>
                        <a:pt x="208" y="276"/>
                      </a:lnTo>
                      <a:lnTo>
                        <a:pt x="240" y="288"/>
                      </a:lnTo>
                      <a:lnTo>
                        <a:pt x="272" y="232"/>
                      </a:lnTo>
                      <a:lnTo>
                        <a:pt x="316" y="256"/>
                      </a:lnTo>
                      <a:lnTo>
                        <a:pt x="332" y="220"/>
                      </a:lnTo>
                      <a:lnTo>
                        <a:pt x="396" y="252"/>
                      </a:lnTo>
                      <a:lnTo>
                        <a:pt x="476" y="228"/>
                      </a:lnTo>
                      <a:lnTo>
                        <a:pt x="524" y="264"/>
                      </a:lnTo>
                      <a:lnTo>
                        <a:pt x="548" y="216"/>
                      </a:lnTo>
                      <a:lnTo>
                        <a:pt x="580" y="260"/>
                      </a:lnTo>
                      <a:lnTo>
                        <a:pt x="592" y="228"/>
                      </a:lnTo>
                      <a:lnTo>
                        <a:pt x="640" y="252"/>
                      </a:lnTo>
                      <a:lnTo>
                        <a:pt x="624" y="192"/>
                      </a:lnTo>
                      <a:lnTo>
                        <a:pt x="680" y="208"/>
                      </a:lnTo>
                      <a:lnTo>
                        <a:pt x="672" y="60"/>
                      </a:lnTo>
                      <a:lnTo>
                        <a:pt x="708" y="88"/>
                      </a:lnTo>
                      <a:lnTo>
                        <a:pt x="724" y="40"/>
                      </a:lnTo>
                      <a:lnTo>
                        <a:pt x="756" y="64"/>
                      </a:lnTo>
                      <a:lnTo>
                        <a:pt x="788" y="28"/>
                      </a:lnTo>
                      <a:lnTo>
                        <a:pt x="820" y="52"/>
                      </a:lnTo>
                      <a:lnTo>
                        <a:pt x="856" y="12"/>
                      </a:lnTo>
                      <a:lnTo>
                        <a:pt x="912" y="40"/>
                      </a:lnTo>
                      <a:lnTo>
                        <a:pt x="928" y="8"/>
                      </a:lnTo>
                      <a:lnTo>
                        <a:pt x="952" y="32"/>
                      </a:lnTo>
                      <a:lnTo>
                        <a:pt x="972" y="0"/>
                      </a:lnTo>
                      <a:lnTo>
                        <a:pt x="988" y="56"/>
                      </a:lnTo>
                      <a:lnTo>
                        <a:pt x="1008" y="76"/>
                      </a:lnTo>
                      <a:lnTo>
                        <a:pt x="1016" y="52"/>
                      </a:lnTo>
                      <a:lnTo>
                        <a:pt x="1056" y="96"/>
                      </a:lnTo>
                      <a:lnTo>
                        <a:pt x="1100" y="80"/>
                      </a:lnTo>
                      <a:lnTo>
                        <a:pt x="1100" y="124"/>
                      </a:lnTo>
                      <a:lnTo>
                        <a:pt x="1148" y="112"/>
                      </a:lnTo>
                      <a:lnTo>
                        <a:pt x="1164" y="152"/>
                      </a:lnTo>
                      <a:lnTo>
                        <a:pt x="1200" y="140"/>
                      </a:lnTo>
                      <a:lnTo>
                        <a:pt x="1220" y="208"/>
                      </a:lnTo>
                      <a:lnTo>
                        <a:pt x="1260" y="188"/>
                      </a:lnTo>
                      <a:lnTo>
                        <a:pt x="1296" y="236"/>
                      </a:lnTo>
                      <a:lnTo>
                        <a:pt x="1336" y="220"/>
                      </a:lnTo>
                      <a:lnTo>
                        <a:pt x="1336" y="288"/>
                      </a:lnTo>
                      <a:lnTo>
                        <a:pt x="1372" y="332"/>
                      </a:lnTo>
                      <a:lnTo>
                        <a:pt x="1404" y="316"/>
                      </a:lnTo>
                      <a:lnTo>
                        <a:pt x="1400" y="380"/>
                      </a:lnTo>
                      <a:lnTo>
                        <a:pt x="1432" y="424"/>
                      </a:lnTo>
                      <a:lnTo>
                        <a:pt x="1464" y="444"/>
                      </a:lnTo>
                      <a:lnTo>
                        <a:pt x="1408" y="504"/>
                      </a:lnTo>
                      <a:lnTo>
                        <a:pt x="1464" y="524"/>
                      </a:lnTo>
                      <a:lnTo>
                        <a:pt x="1436" y="556"/>
                      </a:lnTo>
                      <a:lnTo>
                        <a:pt x="1476" y="556"/>
                      </a:lnTo>
                      <a:lnTo>
                        <a:pt x="1460" y="632"/>
                      </a:lnTo>
                      <a:lnTo>
                        <a:pt x="1408" y="696"/>
                      </a:lnTo>
                      <a:lnTo>
                        <a:pt x="1352" y="760"/>
                      </a:lnTo>
                      <a:lnTo>
                        <a:pt x="1312" y="856"/>
                      </a:lnTo>
                      <a:lnTo>
                        <a:pt x="1280" y="904"/>
                      </a:lnTo>
                      <a:lnTo>
                        <a:pt x="1244" y="916"/>
                      </a:lnTo>
                      <a:lnTo>
                        <a:pt x="1156" y="908"/>
                      </a:lnTo>
                      <a:lnTo>
                        <a:pt x="1064" y="908"/>
                      </a:lnTo>
                      <a:lnTo>
                        <a:pt x="1004" y="948"/>
                      </a:lnTo>
                      <a:lnTo>
                        <a:pt x="1032" y="1096"/>
                      </a:lnTo>
                      <a:lnTo>
                        <a:pt x="1068" y="1280"/>
                      </a:lnTo>
                      <a:lnTo>
                        <a:pt x="1092" y="1428"/>
                      </a:lnTo>
                      <a:lnTo>
                        <a:pt x="1080" y="1532"/>
                      </a:lnTo>
                      <a:lnTo>
                        <a:pt x="1056" y="1640"/>
                      </a:lnTo>
                      <a:lnTo>
                        <a:pt x="1016" y="1736"/>
                      </a:lnTo>
                      <a:lnTo>
                        <a:pt x="1028" y="1848"/>
                      </a:lnTo>
                      <a:lnTo>
                        <a:pt x="972" y="1908"/>
                      </a:lnTo>
                      <a:close/>
                    </a:path>
                  </a:pathLst>
                </a:custGeom>
                <a:solidFill>
                  <a:srgbClr val="96969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505360" y="4096800"/>
                  <a:ext cx="483120" cy="1606680"/>
                </a:xfrm>
                <a:custGeom>
                  <a:avLst/>
                  <a:gdLst/>
                  <a:ahLst/>
                  <a:rect l="l" t="t" r="r" b="b"/>
                  <a:pathLst>
                    <a:path w="640" h="2128">
                      <a:moveTo>
                        <a:pt x="192" y="44"/>
                      </a:moveTo>
                      <a:lnTo>
                        <a:pt x="264" y="244"/>
                      </a:lnTo>
                      <a:lnTo>
                        <a:pt x="320" y="504"/>
                      </a:lnTo>
                      <a:lnTo>
                        <a:pt x="336" y="604"/>
                      </a:lnTo>
                      <a:lnTo>
                        <a:pt x="208" y="484"/>
                      </a:lnTo>
                      <a:lnTo>
                        <a:pt x="156" y="364"/>
                      </a:lnTo>
                      <a:lnTo>
                        <a:pt x="136" y="296"/>
                      </a:lnTo>
                      <a:lnTo>
                        <a:pt x="136" y="168"/>
                      </a:lnTo>
                      <a:lnTo>
                        <a:pt x="116" y="248"/>
                      </a:lnTo>
                      <a:lnTo>
                        <a:pt x="108" y="344"/>
                      </a:lnTo>
                      <a:lnTo>
                        <a:pt x="136" y="424"/>
                      </a:lnTo>
                      <a:lnTo>
                        <a:pt x="172" y="492"/>
                      </a:lnTo>
                      <a:lnTo>
                        <a:pt x="232" y="576"/>
                      </a:lnTo>
                      <a:lnTo>
                        <a:pt x="288" y="668"/>
                      </a:lnTo>
                      <a:lnTo>
                        <a:pt x="348" y="880"/>
                      </a:lnTo>
                      <a:lnTo>
                        <a:pt x="380" y="952"/>
                      </a:lnTo>
                      <a:lnTo>
                        <a:pt x="376" y="1324"/>
                      </a:lnTo>
                      <a:lnTo>
                        <a:pt x="376" y="1616"/>
                      </a:lnTo>
                      <a:lnTo>
                        <a:pt x="360" y="1776"/>
                      </a:lnTo>
                      <a:lnTo>
                        <a:pt x="364" y="1848"/>
                      </a:lnTo>
                      <a:lnTo>
                        <a:pt x="376" y="1972"/>
                      </a:lnTo>
                      <a:lnTo>
                        <a:pt x="352" y="1984"/>
                      </a:lnTo>
                      <a:lnTo>
                        <a:pt x="312" y="1904"/>
                      </a:lnTo>
                      <a:lnTo>
                        <a:pt x="240" y="1804"/>
                      </a:lnTo>
                      <a:lnTo>
                        <a:pt x="128" y="1688"/>
                      </a:lnTo>
                      <a:lnTo>
                        <a:pt x="48" y="1592"/>
                      </a:lnTo>
                      <a:lnTo>
                        <a:pt x="16" y="1476"/>
                      </a:lnTo>
                      <a:lnTo>
                        <a:pt x="4" y="1412"/>
                      </a:lnTo>
                      <a:lnTo>
                        <a:pt x="0" y="1524"/>
                      </a:lnTo>
                      <a:lnTo>
                        <a:pt x="48" y="1648"/>
                      </a:lnTo>
                      <a:lnTo>
                        <a:pt x="132" y="1748"/>
                      </a:lnTo>
                      <a:lnTo>
                        <a:pt x="216" y="1876"/>
                      </a:lnTo>
                      <a:lnTo>
                        <a:pt x="256" y="1984"/>
                      </a:lnTo>
                      <a:lnTo>
                        <a:pt x="244" y="2072"/>
                      </a:lnTo>
                      <a:lnTo>
                        <a:pt x="280" y="2128"/>
                      </a:lnTo>
                      <a:lnTo>
                        <a:pt x="344" y="2124"/>
                      </a:lnTo>
                      <a:lnTo>
                        <a:pt x="388" y="2072"/>
                      </a:lnTo>
                      <a:lnTo>
                        <a:pt x="408" y="2116"/>
                      </a:lnTo>
                      <a:lnTo>
                        <a:pt x="452" y="2080"/>
                      </a:lnTo>
                      <a:lnTo>
                        <a:pt x="488" y="2020"/>
                      </a:lnTo>
                      <a:lnTo>
                        <a:pt x="460" y="1928"/>
                      </a:lnTo>
                      <a:lnTo>
                        <a:pt x="488" y="1796"/>
                      </a:lnTo>
                      <a:lnTo>
                        <a:pt x="524" y="1640"/>
                      </a:lnTo>
                      <a:lnTo>
                        <a:pt x="540" y="1480"/>
                      </a:lnTo>
                      <a:lnTo>
                        <a:pt x="520" y="1384"/>
                      </a:lnTo>
                      <a:lnTo>
                        <a:pt x="472" y="1304"/>
                      </a:lnTo>
                      <a:lnTo>
                        <a:pt x="508" y="1440"/>
                      </a:lnTo>
                      <a:lnTo>
                        <a:pt x="504" y="1564"/>
                      </a:lnTo>
                      <a:lnTo>
                        <a:pt x="472" y="1688"/>
                      </a:lnTo>
                      <a:lnTo>
                        <a:pt x="444" y="1836"/>
                      </a:lnTo>
                      <a:lnTo>
                        <a:pt x="440" y="1692"/>
                      </a:lnTo>
                      <a:lnTo>
                        <a:pt x="452" y="1424"/>
                      </a:lnTo>
                      <a:lnTo>
                        <a:pt x="448" y="1076"/>
                      </a:lnTo>
                      <a:lnTo>
                        <a:pt x="448" y="964"/>
                      </a:lnTo>
                      <a:lnTo>
                        <a:pt x="488" y="880"/>
                      </a:lnTo>
                      <a:lnTo>
                        <a:pt x="500" y="852"/>
                      </a:lnTo>
                      <a:lnTo>
                        <a:pt x="488" y="776"/>
                      </a:lnTo>
                      <a:lnTo>
                        <a:pt x="504" y="680"/>
                      </a:lnTo>
                      <a:lnTo>
                        <a:pt x="540" y="596"/>
                      </a:lnTo>
                      <a:lnTo>
                        <a:pt x="588" y="512"/>
                      </a:lnTo>
                      <a:lnTo>
                        <a:pt x="620" y="436"/>
                      </a:lnTo>
                      <a:lnTo>
                        <a:pt x="640" y="364"/>
                      </a:lnTo>
                      <a:lnTo>
                        <a:pt x="616" y="272"/>
                      </a:lnTo>
                      <a:lnTo>
                        <a:pt x="604" y="220"/>
                      </a:lnTo>
                      <a:lnTo>
                        <a:pt x="616" y="328"/>
                      </a:lnTo>
                      <a:lnTo>
                        <a:pt x="600" y="428"/>
                      </a:lnTo>
                      <a:lnTo>
                        <a:pt x="540" y="520"/>
                      </a:lnTo>
                      <a:lnTo>
                        <a:pt x="484" y="632"/>
                      </a:lnTo>
                      <a:lnTo>
                        <a:pt x="468" y="580"/>
                      </a:lnTo>
                      <a:lnTo>
                        <a:pt x="448" y="536"/>
                      </a:lnTo>
                      <a:lnTo>
                        <a:pt x="464" y="608"/>
                      </a:lnTo>
                      <a:lnTo>
                        <a:pt x="440" y="704"/>
                      </a:lnTo>
                      <a:lnTo>
                        <a:pt x="404" y="488"/>
                      </a:lnTo>
                      <a:lnTo>
                        <a:pt x="372" y="304"/>
                      </a:lnTo>
                      <a:lnTo>
                        <a:pt x="356" y="152"/>
                      </a:lnTo>
                      <a:lnTo>
                        <a:pt x="368" y="0"/>
                      </a:lnTo>
                      <a:lnTo>
                        <a:pt x="292" y="160"/>
                      </a:lnTo>
                      <a:lnTo>
                        <a:pt x="192" y="44"/>
                      </a:lnTo>
                      <a:close/>
                    </a:path>
                  </a:pathLst>
                </a:custGeom>
                <a:solidFill>
                  <a:srgbClr val="96969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8404200" y="4565520"/>
                <a:ext cx="311040" cy="1060560"/>
              </a:xfrm>
              <a:custGeom>
                <a:avLst/>
                <a:gdLst/>
                <a:ahLst/>
                <a:rect l="l" t="t" r="r" b="b"/>
                <a:pathLst>
                  <a:path w="600" h="2036">
                    <a:moveTo>
                      <a:pt x="520" y="2012"/>
                    </a:moveTo>
                    <a:lnTo>
                      <a:pt x="448" y="1764"/>
                    </a:lnTo>
                    <a:lnTo>
                      <a:pt x="384" y="1484"/>
                    </a:lnTo>
                    <a:lnTo>
                      <a:pt x="320" y="1304"/>
                    </a:lnTo>
                    <a:lnTo>
                      <a:pt x="264" y="1204"/>
                    </a:lnTo>
                    <a:lnTo>
                      <a:pt x="172" y="1156"/>
                    </a:lnTo>
                    <a:lnTo>
                      <a:pt x="128" y="1104"/>
                    </a:lnTo>
                    <a:lnTo>
                      <a:pt x="92" y="1036"/>
                    </a:lnTo>
                    <a:lnTo>
                      <a:pt x="68" y="980"/>
                    </a:lnTo>
                    <a:lnTo>
                      <a:pt x="64" y="924"/>
                    </a:lnTo>
                    <a:lnTo>
                      <a:pt x="52" y="836"/>
                    </a:lnTo>
                    <a:lnTo>
                      <a:pt x="36" y="708"/>
                    </a:lnTo>
                    <a:lnTo>
                      <a:pt x="16" y="592"/>
                    </a:lnTo>
                    <a:lnTo>
                      <a:pt x="0" y="520"/>
                    </a:lnTo>
                    <a:lnTo>
                      <a:pt x="4" y="356"/>
                    </a:lnTo>
                    <a:lnTo>
                      <a:pt x="8" y="260"/>
                    </a:lnTo>
                    <a:lnTo>
                      <a:pt x="36" y="168"/>
                    </a:lnTo>
                    <a:lnTo>
                      <a:pt x="72" y="92"/>
                    </a:lnTo>
                    <a:lnTo>
                      <a:pt x="108" y="48"/>
                    </a:lnTo>
                    <a:lnTo>
                      <a:pt x="176" y="12"/>
                    </a:lnTo>
                    <a:lnTo>
                      <a:pt x="256" y="0"/>
                    </a:lnTo>
                    <a:lnTo>
                      <a:pt x="308" y="8"/>
                    </a:lnTo>
                    <a:lnTo>
                      <a:pt x="368" y="40"/>
                    </a:lnTo>
                    <a:lnTo>
                      <a:pt x="420" y="108"/>
                    </a:lnTo>
                    <a:lnTo>
                      <a:pt x="476" y="212"/>
                    </a:lnTo>
                    <a:lnTo>
                      <a:pt x="488" y="292"/>
                    </a:lnTo>
                    <a:lnTo>
                      <a:pt x="520" y="436"/>
                    </a:lnTo>
                    <a:lnTo>
                      <a:pt x="544" y="576"/>
                    </a:lnTo>
                    <a:lnTo>
                      <a:pt x="556" y="736"/>
                    </a:lnTo>
                    <a:lnTo>
                      <a:pt x="576" y="788"/>
                    </a:lnTo>
                    <a:lnTo>
                      <a:pt x="596" y="836"/>
                    </a:lnTo>
                    <a:lnTo>
                      <a:pt x="596" y="948"/>
                    </a:lnTo>
                    <a:lnTo>
                      <a:pt x="552" y="1072"/>
                    </a:lnTo>
                    <a:lnTo>
                      <a:pt x="488" y="1160"/>
                    </a:lnTo>
                    <a:lnTo>
                      <a:pt x="464" y="1276"/>
                    </a:lnTo>
                    <a:lnTo>
                      <a:pt x="484" y="1408"/>
                    </a:lnTo>
                    <a:lnTo>
                      <a:pt x="512" y="1600"/>
                    </a:lnTo>
                    <a:lnTo>
                      <a:pt x="556" y="1796"/>
                    </a:lnTo>
                    <a:lnTo>
                      <a:pt x="600" y="2036"/>
                    </a:lnTo>
                    <a:lnTo>
                      <a:pt x="520" y="2012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115480" y="5411880"/>
                <a:ext cx="1014120" cy="1128600"/>
              </a:xfrm>
              <a:custGeom>
                <a:avLst/>
                <a:gdLst/>
                <a:ahLst/>
                <a:rect l="l" t="t" r="r" b="b"/>
                <a:pathLst>
                  <a:path w="639" h="711">
                    <a:moveTo>
                      <a:pt x="393" y="52"/>
                    </a:moveTo>
                    <a:lnTo>
                      <a:pt x="406" y="5"/>
                    </a:lnTo>
                    <a:lnTo>
                      <a:pt x="418" y="26"/>
                    </a:lnTo>
                    <a:lnTo>
                      <a:pt x="429" y="62"/>
                    </a:lnTo>
                    <a:lnTo>
                      <a:pt x="433" y="92"/>
                    </a:lnTo>
                    <a:lnTo>
                      <a:pt x="459" y="96"/>
                    </a:lnTo>
                    <a:lnTo>
                      <a:pt x="454" y="119"/>
                    </a:lnTo>
                    <a:lnTo>
                      <a:pt x="448" y="140"/>
                    </a:lnTo>
                    <a:lnTo>
                      <a:pt x="461" y="122"/>
                    </a:lnTo>
                    <a:lnTo>
                      <a:pt x="479" y="118"/>
                    </a:lnTo>
                    <a:lnTo>
                      <a:pt x="475" y="135"/>
                    </a:lnTo>
                    <a:lnTo>
                      <a:pt x="489" y="126"/>
                    </a:lnTo>
                    <a:lnTo>
                      <a:pt x="488" y="140"/>
                    </a:lnTo>
                    <a:lnTo>
                      <a:pt x="498" y="130"/>
                    </a:lnTo>
                    <a:lnTo>
                      <a:pt x="504" y="139"/>
                    </a:lnTo>
                    <a:lnTo>
                      <a:pt x="518" y="143"/>
                    </a:lnTo>
                    <a:lnTo>
                      <a:pt x="509" y="159"/>
                    </a:lnTo>
                    <a:lnTo>
                      <a:pt x="523" y="161"/>
                    </a:lnTo>
                    <a:lnTo>
                      <a:pt x="523" y="176"/>
                    </a:lnTo>
                    <a:lnTo>
                      <a:pt x="537" y="175"/>
                    </a:lnTo>
                    <a:lnTo>
                      <a:pt x="536" y="185"/>
                    </a:lnTo>
                    <a:lnTo>
                      <a:pt x="558" y="184"/>
                    </a:lnTo>
                    <a:lnTo>
                      <a:pt x="571" y="192"/>
                    </a:lnTo>
                    <a:lnTo>
                      <a:pt x="562" y="211"/>
                    </a:lnTo>
                    <a:lnTo>
                      <a:pt x="582" y="203"/>
                    </a:lnTo>
                    <a:lnTo>
                      <a:pt x="573" y="222"/>
                    </a:lnTo>
                    <a:lnTo>
                      <a:pt x="583" y="227"/>
                    </a:lnTo>
                    <a:lnTo>
                      <a:pt x="583" y="247"/>
                    </a:lnTo>
                    <a:lnTo>
                      <a:pt x="597" y="247"/>
                    </a:lnTo>
                    <a:lnTo>
                      <a:pt x="587" y="269"/>
                    </a:lnTo>
                    <a:lnTo>
                      <a:pt x="591" y="287"/>
                    </a:lnTo>
                    <a:lnTo>
                      <a:pt x="580" y="306"/>
                    </a:lnTo>
                    <a:lnTo>
                      <a:pt x="592" y="307"/>
                    </a:lnTo>
                    <a:lnTo>
                      <a:pt x="580" y="320"/>
                    </a:lnTo>
                    <a:lnTo>
                      <a:pt x="597" y="333"/>
                    </a:lnTo>
                    <a:lnTo>
                      <a:pt x="587" y="345"/>
                    </a:lnTo>
                    <a:lnTo>
                      <a:pt x="600" y="349"/>
                    </a:lnTo>
                    <a:lnTo>
                      <a:pt x="591" y="353"/>
                    </a:lnTo>
                    <a:lnTo>
                      <a:pt x="606" y="362"/>
                    </a:lnTo>
                    <a:lnTo>
                      <a:pt x="599" y="369"/>
                    </a:lnTo>
                    <a:lnTo>
                      <a:pt x="604" y="377"/>
                    </a:lnTo>
                    <a:lnTo>
                      <a:pt x="618" y="380"/>
                    </a:lnTo>
                    <a:lnTo>
                      <a:pt x="623" y="401"/>
                    </a:lnTo>
                    <a:lnTo>
                      <a:pt x="606" y="404"/>
                    </a:lnTo>
                    <a:lnTo>
                      <a:pt x="626" y="422"/>
                    </a:lnTo>
                    <a:lnTo>
                      <a:pt x="617" y="430"/>
                    </a:lnTo>
                    <a:lnTo>
                      <a:pt x="632" y="443"/>
                    </a:lnTo>
                    <a:lnTo>
                      <a:pt x="626" y="457"/>
                    </a:lnTo>
                    <a:lnTo>
                      <a:pt x="639" y="467"/>
                    </a:lnTo>
                    <a:lnTo>
                      <a:pt x="627" y="491"/>
                    </a:lnTo>
                    <a:lnTo>
                      <a:pt x="631" y="504"/>
                    </a:lnTo>
                    <a:lnTo>
                      <a:pt x="614" y="510"/>
                    </a:lnTo>
                    <a:lnTo>
                      <a:pt x="610" y="527"/>
                    </a:lnTo>
                    <a:lnTo>
                      <a:pt x="593" y="534"/>
                    </a:lnTo>
                    <a:lnTo>
                      <a:pt x="583" y="563"/>
                    </a:lnTo>
                    <a:lnTo>
                      <a:pt x="565" y="560"/>
                    </a:lnTo>
                    <a:lnTo>
                      <a:pt x="560" y="576"/>
                    </a:lnTo>
                    <a:lnTo>
                      <a:pt x="543" y="573"/>
                    </a:lnTo>
                    <a:lnTo>
                      <a:pt x="540" y="581"/>
                    </a:lnTo>
                    <a:lnTo>
                      <a:pt x="526" y="588"/>
                    </a:lnTo>
                    <a:lnTo>
                      <a:pt x="511" y="605"/>
                    </a:lnTo>
                    <a:lnTo>
                      <a:pt x="510" y="617"/>
                    </a:lnTo>
                    <a:lnTo>
                      <a:pt x="497" y="626"/>
                    </a:lnTo>
                    <a:lnTo>
                      <a:pt x="496" y="642"/>
                    </a:lnTo>
                    <a:lnTo>
                      <a:pt x="478" y="638"/>
                    </a:lnTo>
                    <a:lnTo>
                      <a:pt x="485" y="651"/>
                    </a:lnTo>
                    <a:lnTo>
                      <a:pt x="474" y="649"/>
                    </a:lnTo>
                    <a:lnTo>
                      <a:pt x="465" y="670"/>
                    </a:lnTo>
                    <a:lnTo>
                      <a:pt x="446" y="655"/>
                    </a:lnTo>
                    <a:lnTo>
                      <a:pt x="452" y="670"/>
                    </a:lnTo>
                    <a:lnTo>
                      <a:pt x="441" y="685"/>
                    </a:lnTo>
                    <a:lnTo>
                      <a:pt x="427" y="678"/>
                    </a:lnTo>
                    <a:lnTo>
                      <a:pt x="412" y="698"/>
                    </a:lnTo>
                    <a:lnTo>
                      <a:pt x="396" y="689"/>
                    </a:lnTo>
                    <a:lnTo>
                      <a:pt x="399" y="701"/>
                    </a:lnTo>
                    <a:lnTo>
                      <a:pt x="393" y="711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1" y="163"/>
                    </a:lnTo>
                    <a:lnTo>
                      <a:pt x="7" y="148"/>
                    </a:lnTo>
                    <a:lnTo>
                      <a:pt x="27" y="150"/>
                    </a:lnTo>
                    <a:lnTo>
                      <a:pt x="21" y="136"/>
                    </a:lnTo>
                    <a:lnTo>
                      <a:pt x="41" y="144"/>
                    </a:lnTo>
                    <a:lnTo>
                      <a:pt x="30" y="125"/>
                    </a:lnTo>
                    <a:lnTo>
                      <a:pt x="39" y="113"/>
                    </a:lnTo>
                    <a:lnTo>
                      <a:pt x="50" y="125"/>
                    </a:lnTo>
                    <a:lnTo>
                      <a:pt x="62" y="110"/>
                    </a:lnTo>
                    <a:lnTo>
                      <a:pt x="95" y="106"/>
                    </a:lnTo>
                    <a:lnTo>
                      <a:pt x="93" y="97"/>
                    </a:lnTo>
                    <a:lnTo>
                      <a:pt x="106" y="105"/>
                    </a:lnTo>
                    <a:lnTo>
                      <a:pt x="113" y="97"/>
                    </a:lnTo>
                    <a:lnTo>
                      <a:pt x="134" y="102"/>
                    </a:lnTo>
                    <a:lnTo>
                      <a:pt x="169" y="102"/>
                    </a:lnTo>
                    <a:lnTo>
                      <a:pt x="173" y="94"/>
                    </a:lnTo>
                    <a:lnTo>
                      <a:pt x="192" y="108"/>
                    </a:lnTo>
                    <a:lnTo>
                      <a:pt x="208" y="100"/>
                    </a:lnTo>
                    <a:lnTo>
                      <a:pt x="218" y="113"/>
                    </a:lnTo>
                    <a:lnTo>
                      <a:pt x="225" y="108"/>
                    </a:lnTo>
                    <a:lnTo>
                      <a:pt x="228" y="118"/>
                    </a:lnTo>
                    <a:lnTo>
                      <a:pt x="260" y="129"/>
                    </a:lnTo>
                    <a:lnTo>
                      <a:pt x="278" y="142"/>
                    </a:lnTo>
                    <a:lnTo>
                      <a:pt x="287" y="140"/>
                    </a:lnTo>
                    <a:lnTo>
                      <a:pt x="285" y="151"/>
                    </a:lnTo>
                    <a:lnTo>
                      <a:pt x="299" y="144"/>
                    </a:lnTo>
                    <a:lnTo>
                      <a:pt x="304" y="152"/>
                    </a:lnTo>
                    <a:lnTo>
                      <a:pt x="321" y="148"/>
                    </a:lnTo>
                    <a:lnTo>
                      <a:pt x="320" y="159"/>
                    </a:lnTo>
                    <a:lnTo>
                      <a:pt x="334" y="160"/>
                    </a:lnTo>
                    <a:lnTo>
                      <a:pt x="332" y="168"/>
                    </a:lnTo>
                    <a:lnTo>
                      <a:pt x="341" y="169"/>
                    </a:lnTo>
                    <a:lnTo>
                      <a:pt x="334" y="176"/>
                    </a:lnTo>
                    <a:lnTo>
                      <a:pt x="343" y="180"/>
                    </a:lnTo>
                    <a:lnTo>
                      <a:pt x="351" y="172"/>
                    </a:lnTo>
                    <a:lnTo>
                      <a:pt x="382" y="161"/>
                    </a:lnTo>
                    <a:lnTo>
                      <a:pt x="377" y="147"/>
                    </a:lnTo>
                    <a:lnTo>
                      <a:pt x="354" y="140"/>
                    </a:lnTo>
                    <a:lnTo>
                      <a:pt x="368" y="129"/>
                    </a:lnTo>
                    <a:lnTo>
                      <a:pt x="354" y="108"/>
                    </a:lnTo>
                    <a:lnTo>
                      <a:pt x="351" y="98"/>
                    </a:lnTo>
                    <a:lnTo>
                      <a:pt x="355" y="71"/>
                    </a:lnTo>
                    <a:lnTo>
                      <a:pt x="366" y="77"/>
                    </a:lnTo>
                    <a:lnTo>
                      <a:pt x="359" y="59"/>
                    </a:lnTo>
                    <a:lnTo>
                      <a:pt x="364" y="35"/>
                    </a:lnTo>
                    <a:lnTo>
                      <a:pt x="373" y="0"/>
                    </a:lnTo>
                    <a:lnTo>
                      <a:pt x="393" y="52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7807680" y="2860920"/>
              <a:ext cx="1161360" cy="3818880"/>
              <a:chOff x="7807680" y="2860920"/>
              <a:chExt cx="1161360" cy="38188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216640" y="4673520"/>
                <a:ext cx="453600" cy="1663200"/>
                <a:chOff x="8216640" y="4673520"/>
                <a:chExt cx="453600" cy="1663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8481600" y="5861160"/>
                  <a:ext cx="188640" cy="475560"/>
                </a:xfrm>
                <a:custGeom>
                  <a:avLst/>
                  <a:gdLst/>
                  <a:ahLst/>
                  <a:rect l="l" t="t" r="r" b="b"/>
                  <a:pathLst>
                    <a:path w="289" h="664">
                      <a:moveTo>
                        <a:pt x="146" y="25"/>
                      </a:moveTo>
                      <a:cubicBezTo>
                        <a:pt x="160" y="50"/>
                        <a:pt x="159" y="107"/>
                        <a:pt x="170" y="161"/>
                      </a:cubicBezTo>
                      <a:cubicBezTo>
                        <a:pt x="181" y="215"/>
                        <a:pt x="196" y="288"/>
                        <a:pt x="210" y="349"/>
                      </a:cubicBezTo>
                      <a:cubicBezTo>
                        <a:pt x="224" y="410"/>
                        <a:pt x="243" y="481"/>
                        <a:pt x="254" y="529"/>
                      </a:cubicBezTo>
                      <a:cubicBezTo>
                        <a:pt x="265" y="577"/>
                        <a:pt x="289" y="620"/>
                        <a:pt x="278" y="637"/>
                      </a:cubicBezTo>
                      <a:cubicBezTo>
                        <a:pt x="267" y="654"/>
                        <a:pt x="211" y="664"/>
                        <a:pt x="186" y="633"/>
                      </a:cubicBezTo>
                      <a:cubicBezTo>
                        <a:pt x="161" y="602"/>
                        <a:pt x="141" y="504"/>
                        <a:pt x="126" y="449"/>
                      </a:cubicBezTo>
                      <a:cubicBezTo>
                        <a:pt x="111" y="394"/>
                        <a:pt x="111" y="356"/>
                        <a:pt x="98" y="305"/>
                      </a:cubicBezTo>
                      <a:cubicBezTo>
                        <a:pt x="85" y="254"/>
                        <a:pt x="65" y="186"/>
                        <a:pt x="50" y="145"/>
                      </a:cubicBezTo>
                      <a:cubicBezTo>
                        <a:pt x="35" y="104"/>
                        <a:pt x="0" y="80"/>
                        <a:pt x="6" y="57"/>
                      </a:cubicBezTo>
                      <a:cubicBezTo>
                        <a:pt x="12" y="34"/>
                        <a:pt x="63" y="13"/>
                        <a:pt x="86" y="9"/>
                      </a:cubicBezTo>
                      <a:cubicBezTo>
                        <a:pt x="109" y="5"/>
                        <a:pt x="132" y="0"/>
                        <a:pt x="146" y="25"/>
                      </a:cubicBezTo>
                      <a:close/>
                    </a:path>
                  </a:pathLst>
                </a:custGeom>
                <a:solidFill>
                  <a:srgbClr val="596b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216640" y="4673520"/>
                  <a:ext cx="317520" cy="518400"/>
                </a:xfrm>
                <a:custGeom>
                  <a:avLst/>
                  <a:gdLst/>
                  <a:ahLst/>
                  <a:rect l="l" t="t" r="r" b="b"/>
                  <a:pathLst>
                    <a:path w="486" h="724">
                      <a:moveTo>
                        <a:pt x="76" y="691"/>
                      </a:moveTo>
                      <a:cubicBezTo>
                        <a:pt x="45" y="658"/>
                        <a:pt x="44" y="563"/>
                        <a:pt x="32" y="515"/>
                      </a:cubicBezTo>
                      <a:cubicBezTo>
                        <a:pt x="20" y="467"/>
                        <a:pt x="8" y="444"/>
                        <a:pt x="4" y="399"/>
                      </a:cubicBezTo>
                      <a:cubicBezTo>
                        <a:pt x="0" y="354"/>
                        <a:pt x="5" y="286"/>
                        <a:pt x="8" y="243"/>
                      </a:cubicBezTo>
                      <a:cubicBezTo>
                        <a:pt x="11" y="200"/>
                        <a:pt x="9" y="172"/>
                        <a:pt x="20" y="139"/>
                      </a:cubicBezTo>
                      <a:cubicBezTo>
                        <a:pt x="31" y="106"/>
                        <a:pt x="55" y="67"/>
                        <a:pt x="72" y="47"/>
                      </a:cubicBezTo>
                      <a:cubicBezTo>
                        <a:pt x="89" y="27"/>
                        <a:pt x="101" y="26"/>
                        <a:pt x="124" y="19"/>
                      </a:cubicBezTo>
                      <a:cubicBezTo>
                        <a:pt x="147" y="12"/>
                        <a:pt x="188" y="8"/>
                        <a:pt x="212" y="7"/>
                      </a:cubicBezTo>
                      <a:cubicBezTo>
                        <a:pt x="236" y="6"/>
                        <a:pt x="248" y="0"/>
                        <a:pt x="268" y="11"/>
                      </a:cubicBezTo>
                      <a:cubicBezTo>
                        <a:pt x="288" y="22"/>
                        <a:pt x="310" y="42"/>
                        <a:pt x="332" y="71"/>
                      </a:cubicBezTo>
                      <a:cubicBezTo>
                        <a:pt x="354" y="100"/>
                        <a:pt x="387" y="153"/>
                        <a:pt x="400" y="183"/>
                      </a:cubicBezTo>
                      <a:cubicBezTo>
                        <a:pt x="413" y="213"/>
                        <a:pt x="405" y="215"/>
                        <a:pt x="412" y="251"/>
                      </a:cubicBezTo>
                      <a:cubicBezTo>
                        <a:pt x="419" y="287"/>
                        <a:pt x="437" y="350"/>
                        <a:pt x="444" y="399"/>
                      </a:cubicBezTo>
                      <a:cubicBezTo>
                        <a:pt x="451" y="448"/>
                        <a:pt x="453" y="510"/>
                        <a:pt x="456" y="547"/>
                      </a:cubicBezTo>
                      <a:cubicBezTo>
                        <a:pt x="459" y="584"/>
                        <a:pt x="486" y="594"/>
                        <a:pt x="464" y="619"/>
                      </a:cubicBezTo>
                      <a:cubicBezTo>
                        <a:pt x="442" y="644"/>
                        <a:pt x="365" y="679"/>
                        <a:pt x="324" y="695"/>
                      </a:cubicBezTo>
                      <a:cubicBezTo>
                        <a:pt x="283" y="711"/>
                        <a:pt x="259" y="714"/>
                        <a:pt x="220" y="715"/>
                      </a:cubicBezTo>
                      <a:cubicBezTo>
                        <a:pt x="181" y="716"/>
                        <a:pt x="107" y="724"/>
                        <a:pt x="76" y="69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249760" y="5084640"/>
                  <a:ext cx="293040" cy="249120"/>
                </a:xfrm>
                <a:custGeom>
                  <a:avLst/>
                  <a:gdLst/>
                  <a:ahLst/>
                  <a:rect l="l" t="t" r="r" b="b"/>
                  <a:pathLst>
                    <a:path w="449" h="348">
                      <a:moveTo>
                        <a:pt x="233" y="345"/>
                      </a:moveTo>
                      <a:cubicBezTo>
                        <a:pt x="206" y="342"/>
                        <a:pt x="174" y="320"/>
                        <a:pt x="145" y="305"/>
                      </a:cubicBezTo>
                      <a:cubicBezTo>
                        <a:pt x="116" y="290"/>
                        <a:pt x="82" y="274"/>
                        <a:pt x="61" y="253"/>
                      </a:cubicBezTo>
                      <a:cubicBezTo>
                        <a:pt x="40" y="232"/>
                        <a:pt x="27" y="202"/>
                        <a:pt x="17" y="181"/>
                      </a:cubicBezTo>
                      <a:cubicBezTo>
                        <a:pt x="7" y="160"/>
                        <a:pt x="2" y="144"/>
                        <a:pt x="1" y="125"/>
                      </a:cubicBezTo>
                      <a:cubicBezTo>
                        <a:pt x="0" y="106"/>
                        <a:pt x="4" y="74"/>
                        <a:pt x="9" y="69"/>
                      </a:cubicBezTo>
                      <a:cubicBezTo>
                        <a:pt x="14" y="64"/>
                        <a:pt x="15" y="92"/>
                        <a:pt x="29" y="97"/>
                      </a:cubicBezTo>
                      <a:cubicBezTo>
                        <a:pt x="43" y="102"/>
                        <a:pt x="73" y="100"/>
                        <a:pt x="93" y="101"/>
                      </a:cubicBezTo>
                      <a:cubicBezTo>
                        <a:pt x="113" y="102"/>
                        <a:pt x="126" y="98"/>
                        <a:pt x="149" y="101"/>
                      </a:cubicBezTo>
                      <a:cubicBezTo>
                        <a:pt x="172" y="104"/>
                        <a:pt x="209" y="124"/>
                        <a:pt x="229" y="121"/>
                      </a:cubicBezTo>
                      <a:cubicBezTo>
                        <a:pt x="249" y="118"/>
                        <a:pt x="251" y="96"/>
                        <a:pt x="269" y="85"/>
                      </a:cubicBezTo>
                      <a:cubicBezTo>
                        <a:pt x="287" y="74"/>
                        <a:pt x="316" y="66"/>
                        <a:pt x="337" y="57"/>
                      </a:cubicBezTo>
                      <a:cubicBezTo>
                        <a:pt x="358" y="48"/>
                        <a:pt x="384" y="42"/>
                        <a:pt x="397" y="33"/>
                      </a:cubicBezTo>
                      <a:cubicBezTo>
                        <a:pt x="410" y="24"/>
                        <a:pt x="410" y="0"/>
                        <a:pt x="417" y="1"/>
                      </a:cubicBezTo>
                      <a:cubicBezTo>
                        <a:pt x="424" y="2"/>
                        <a:pt x="436" y="22"/>
                        <a:pt x="441" y="41"/>
                      </a:cubicBezTo>
                      <a:cubicBezTo>
                        <a:pt x="446" y="60"/>
                        <a:pt x="449" y="90"/>
                        <a:pt x="445" y="117"/>
                      </a:cubicBezTo>
                      <a:cubicBezTo>
                        <a:pt x="441" y="144"/>
                        <a:pt x="430" y="180"/>
                        <a:pt x="417" y="205"/>
                      </a:cubicBezTo>
                      <a:cubicBezTo>
                        <a:pt x="404" y="230"/>
                        <a:pt x="388" y="249"/>
                        <a:pt x="369" y="269"/>
                      </a:cubicBezTo>
                      <a:cubicBezTo>
                        <a:pt x="350" y="289"/>
                        <a:pt x="328" y="314"/>
                        <a:pt x="305" y="325"/>
                      </a:cubicBezTo>
                      <a:cubicBezTo>
                        <a:pt x="282" y="336"/>
                        <a:pt x="260" y="348"/>
                        <a:pt x="233" y="3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66040" y="5277960"/>
                  <a:ext cx="172440" cy="448200"/>
                </a:xfrm>
                <a:custGeom>
                  <a:avLst/>
                  <a:gdLst/>
                  <a:ahLst/>
                  <a:rect l="l" t="t" r="r" b="b"/>
                  <a:pathLst>
                    <a:path w="264" h="626">
                      <a:moveTo>
                        <a:pt x="179" y="611"/>
                      </a:moveTo>
                      <a:cubicBezTo>
                        <a:pt x="168" y="598"/>
                        <a:pt x="150" y="567"/>
                        <a:pt x="143" y="547"/>
                      </a:cubicBezTo>
                      <a:cubicBezTo>
                        <a:pt x="136" y="527"/>
                        <a:pt x="146" y="533"/>
                        <a:pt x="139" y="491"/>
                      </a:cubicBezTo>
                      <a:cubicBezTo>
                        <a:pt x="132" y="449"/>
                        <a:pt x="115" y="353"/>
                        <a:pt x="99" y="295"/>
                      </a:cubicBezTo>
                      <a:cubicBezTo>
                        <a:pt x="83" y="237"/>
                        <a:pt x="59" y="178"/>
                        <a:pt x="43" y="139"/>
                      </a:cubicBezTo>
                      <a:cubicBezTo>
                        <a:pt x="27" y="100"/>
                        <a:pt x="6" y="79"/>
                        <a:pt x="3" y="59"/>
                      </a:cubicBezTo>
                      <a:cubicBezTo>
                        <a:pt x="0" y="39"/>
                        <a:pt x="3" y="28"/>
                        <a:pt x="27" y="19"/>
                      </a:cubicBezTo>
                      <a:cubicBezTo>
                        <a:pt x="51" y="10"/>
                        <a:pt x="125" y="0"/>
                        <a:pt x="147" y="7"/>
                      </a:cubicBezTo>
                      <a:cubicBezTo>
                        <a:pt x="169" y="14"/>
                        <a:pt x="155" y="36"/>
                        <a:pt x="159" y="63"/>
                      </a:cubicBezTo>
                      <a:cubicBezTo>
                        <a:pt x="163" y="90"/>
                        <a:pt x="164" y="120"/>
                        <a:pt x="171" y="171"/>
                      </a:cubicBezTo>
                      <a:cubicBezTo>
                        <a:pt x="178" y="222"/>
                        <a:pt x="192" y="314"/>
                        <a:pt x="203" y="371"/>
                      </a:cubicBezTo>
                      <a:cubicBezTo>
                        <a:pt x="214" y="428"/>
                        <a:pt x="230" y="474"/>
                        <a:pt x="239" y="511"/>
                      </a:cubicBezTo>
                      <a:cubicBezTo>
                        <a:pt x="248" y="548"/>
                        <a:pt x="264" y="572"/>
                        <a:pt x="259" y="591"/>
                      </a:cubicBezTo>
                      <a:cubicBezTo>
                        <a:pt x="254" y="610"/>
                        <a:pt x="222" y="620"/>
                        <a:pt x="207" y="623"/>
                      </a:cubicBezTo>
                      <a:cubicBezTo>
                        <a:pt x="192" y="626"/>
                        <a:pt x="190" y="624"/>
                        <a:pt x="179" y="6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100000">
                      <a:srgbClr val="82a6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359560" y="5167800"/>
                  <a:ext cx="123840" cy="186840"/>
                </a:xfrm>
                <a:custGeom>
                  <a:avLst/>
                  <a:gdLst/>
                  <a:ahLst/>
                  <a:rect l="l" t="t" r="r" b="b"/>
                  <a:pathLst>
                    <a:path w="190" h="261">
                      <a:moveTo>
                        <a:pt x="29" y="245"/>
                      </a:moveTo>
                      <a:cubicBezTo>
                        <a:pt x="14" y="231"/>
                        <a:pt x="0" y="201"/>
                        <a:pt x="1" y="177"/>
                      </a:cubicBezTo>
                      <a:cubicBezTo>
                        <a:pt x="2" y="153"/>
                        <a:pt x="21" y="126"/>
                        <a:pt x="33" y="101"/>
                      </a:cubicBezTo>
                      <a:cubicBezTo>
                        <a:pt x="45" y="76"/>
                        <a:pt x="60" y="41"/>
                        <a:pt x="73" y="25"/>
                      </a:cubicBezTo>
                      <a:cubicBezTo>
                        <a:pt x="86" y="9"/>
                        <a:pt x="94" y="0"/>
                        <a:pt x="109" y="5"/>
                      </a:cubicBezTo>
                      <a:cubicBezTo>
                        <a:pt x="124" y="10"/>
                        <a:pt x="148" y="34"/>
                        <a:pt x="161" y="57"/>
                      </a:cubicBezTo>
                      <a:cubicBezTo>
                        <a:pt x="174" y="80"/>
                        <a:pt x="188" y="111"/>
                        <a:pt x="189" y="141"/>
                      </a:cubicBezTo>
                      <a:cubicBezTo>
                        <a:pt x="190" y="171"/>
                        <a:pt x="186" y="217"/>
                        <a:pt x="169" y="237"/>
                      </a:cubicBezTo>
                      <a:cubicBezTo>
                        <a:pt x="152" y="257"/>
                        <a:pt x="112" y="261"/>
                        <a:pt x="89" y="261"/>
                      </a:cubicBezTo>
                      <a:cubicBezTo>
                        <a:pt x="66" y="261"/>
                        <a:pt x="44" y="259"/>
                        <a:pt x="29" y="2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2a66d"/>
                    </a:gs>
                    <a:gs pos="100000">
                      <a:srgbClr val="596b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73520" y="4674960"/>
                  <a:ext cx="156600" cy="182520"/>
                </a:xfrm>
                <a:custGeom>
                  <a:avLst/>
                  <a:gdLst/>
                  <a:ahLst/>
                  <a:rect l="l" t="t" r="r" b="b"/>
                  <a:pathLst>
                    <a:path w="240" h="255">
                      <a:moveTo>
                        <a:pt x="189" y="241"/>
                      </a:moveTo>
                      <a:cubicBezTo>
                        <a:pt x="186" y="234"/>
                        <a:pt x="214" y="230"/>
                        <a:pt x="213" y="213"/>
                      </a:cubicBezTo>
                      <a:cubicBezTo>
                        <a:pt x="212" y="196"/>
                        <a:pt x="194" y="165"/>
                        <a:pt x="181" y="141"/>
                      </a:cubicBezTo>
                      <a:cubicBezTo>
                        <a:pt x="168" y="117"/>
                        <a:pt x="153" y="89"/>
                        <a:pt x="137" y="69"/>
                      </a:cubicBezTo>
                      <a:cubicBezTo>
                        <a:pt x="121" y="49"/>
                        <a:pt x="103" y="26"/>
                        <a:pt x="85" y="21"/>
                      </a:cubicBezTo>
                      <a:cubicBezTo>
                        <a:pt x="67" y="16"/>
                        <a:pt x="43" y="34"/>
                        <a:pt x="29" y="37"/>
                      </a:cubicBezTo>
                      <a:cubicBezTo>
                        <a:pt x="15" y="40"/>
                        <a:pt x="2" y="44"/>
                        <a:pt x="1" y="41"/>
                      </a:cubicBezTo>
                      <a:cubicBezTo>
                        <a:pt x="0" y="38"/>
                        <a:pt x="9" y="27"/>
                        <a:pt x="21" y="21"/>
                      </a:cubicBezTo>
                      <a:cubicBezTo>
                        <a:pt x="33" y="15"/>
                        <a:pt x="54" y="8"/>
                        <a:pt x="73" y="5"/>
                      </a:cubicBezTo>
                      <a:cubicBezTo>
                        <a:pt x="92" y="2"/>
                        <a:pt x="120" y="0"/>
                        <a:pt x="137" y="1"/>
                      </a:cubicBezTo>
                      <a:cubicBezTo>
                        <a:pt x="154" y="2"/>
                        <a:pt x="175" y="6"/>
                        <a:pt x="173" y="9"/>
                      </a:cubicBezTo>
                      <a:cubicBezTo>
                        <a:pt x="171" y="12"/>
                        <a:pt x="126" y="4"/>
                        <a:pt x="125" y="17"/>
                      </a:cubicBezTo>
                      <a:cubicBezTo>
                        <a:pt x="124" y="30"/>
                        <a:pt x="151" y="62"/>
                        <a:pt x="165" y="85"/>
                      </a:cubicBezTo>
                      <a:cubicBezTo>
                        <a:pt x="179" y="108"/>
                        <a:pt x="197" y="129"/>
                        <a:pt x="209" y="153"/>
                      </a:cubicBezTo>
                      <a:cubicBezTo>
                        <a:pt x="221" y="177"/>
                        <a:pt x="234" y="212"/>
                        <a:pt x="237" y="229"/>
                      </a:cubicBezTo>
                      <a:cubicBezTo>
                        <a:pt x="240" y="246"/>
                        <a:pt x="237" y="251"/>
                        <a:pt x="229" y="253"/>
                      </a:cubicBezTo>
                      <a:cubicBezTo>
                        <a:pt x="221" y="255"/>
                        <a:pt x="192" y="248"/>
                        <a:pt x="189" y="24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c4db"/>
                    </a:gs>
                    <a:gs pos="100000">
                      <a:srgbClr val="a1bd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424360" y="5684040"/>
                  <a:ext cx="186120" cy="244080"/>
                </a:xfrm>
                <a:custGeom>
                  <a:avLst/>
                  <a:gdLst/>
                  <a:ahLst/>
                  <a:rect l="l" t="t" r="r" b="b"/>
                  <a:pathLst>
                    <a:path w="285" h="341">
                      <a:moveTo>
                        <a:pt x="38" y="0"/>
                      </a:moveTo>
                      <a:cubicBezTo>
                        <a:pt x="32" y="2"/>
                        <a:pt x="27" y="4"/>
                        <a:pt x="22" y="20"/>
                      </a:cubicBezTo>
                      <a:cubicBezTo>
                        <a:pt x="17" y="36"/>
                        <a:pt x="0" y="71"/>
                        <a:pt x="6" y="96"/>
                      </a:cubicBezTo>
                      <a:cubicBezTo>
                        <a:pt x="12" y="121"/>
                        <a:pt x="44" y="142"/>
                        <a:pt x="58" y="168"/>
                      </a:cubicBezTo>
                      <a:cubicBezTo>
                        <a:pt x="72" y="194"/>
                        <a:pt x="84" y="227"/>
                        <a:pt x="90" y="252"/>
                      </a:cubicBezTo>
                      <a:cubicBezTo>
                        <a:pt x="96" y="277"/>
                        <a:pt x="84" y="305"/>
                        <a:pt x="94" y="320"/>
                      </a:cubicBezTo>
                      <a:cubicBezTo>
                        <a:pt x="104" y="335"/>
                        <a:pt x="133" y="339"/>
                        <a:pt x="150" y="340"/>
                      </a:cubicBezTo>
                      <a:cubicBezTo>
                        <a:pt x="167" y="341"/>
                        <a:pt x="177" y="332"/>
                        <a:pt x="194" y="324"/>
                      </a:cubicBezTo>
                      <a:cubicBezTo>
                        <a:pt x="211" y="316"/>
                        <a:pt x="245" y="304"/>
                        <a:pt x="254" y="292"/>
                      </a:cubicBezTo>
                      <a:cubicBezTo>
                        <a:pt x="263" y="280"/>
                        <a:pt x="253" y="267"/>
                        <a:pt x="250" y="252"/>
                      </a:cubicBezTo>
                      <a:cubicBezTo>
                        <a:pt x="247" y="237"/>
                        <a:pt x="235" y="222"/>
                        <a:pt x="238" y="204"/>
                      </a:cubicBezTo>
                      <a:cubicBezTo>
                        <a:pt x="241" y="186"/>
                        <a:pt x="259" y="159"/>
                        <a:pt x="266" y="144"/>
                      </a:cubicBezTo>
                      <a:cubicBezTo>
                        <a:pt x="273" y="129"/>
                        <a:pt x="285" y="120"/>
                        <a:pt x="278" y="112"/>
                      </a:cubicBezTo>
                      <a:cubicBezTo>
                        <a:pt x="271" y="104"/>
                        <a:pt x="251" y="102"/>
                        <a:pt x="226" y="96"/>
                      </a:cubicBezTo>
                      <a:cubicBezTo>
                        <a:pt x="201" y="90"/>
                        <a:pt x="160" y="89"/>
                        <a:pt x="126" y="76"/>
                      </a:cubicBezTo>
                      <a:cubicBezTo>
                        <a:pt x="92" y="63"/>
                        <a:pt x="37" y="33"/>
                        <a:pt x="22" y="20"/>
                      </a:cubicBezTo>
                    </a:path>
                  </a:pathLst>
                </a:custGeom>
                <a:solidFill>
                  <a:srgbClr val="7189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443080" y="5590080"/>
                  <a:ext cx="126000" cy="219240"/>
                </a:xfrm>
                <a:custGeom>
                  <a:avLst/>
                  <a:gdLst/>
                  <a:ahLst/>
                  <a:rect l="l" t="t" r="r" b="b"/>
                  <a:pathLst>
                    <a:path w="193" h="306">
                      <a:moveTo>
                        <a:pt x="109" y="143"/>
                      </a:moveTo>
                      <a:cubicBezTo>
                        <a:pt x="124" y="142"/>
                        <a:pt x="132" y="128"/>
                        <a:pt x="133" y="115"/>
                      </a:cubicBezTo>
                      <a:cubicBezTo>
                        <a:pt x="134" y="102"/>
                        <a:pt x="120" y="86"/>
                        <a:pt x="117" y="67"/>
                      </a:cubicBezTo>
                      <a:cubicBezTo>
                        <a:pt x="114" y="48"/>
                        <a:pt x="108" y="6"/>
                        <a:pt x="113" y="3"/>
                      </a:cubicBezTo>
                      <a:cubicBezTo>
                        <a:pt x="118" y="0"/>
                        <a:pt x="138" y="24"/>
                        <a:pt x="149" y="47"/>
                      </a:cubicBezTo>
                      <a:cubicBezTo>
                        <a:pt x="160" y="70"/>
                        <a:pt x="172" y="111"/>
                        <a:pt x="177" y="143"/>
                      </a:cubicBezTo>
                      <a:cubicBezTo>
                        <a:pt x="182" y="175"/>
                        <a:pt x="193" y="213"/>
                        <a:pt x="181" y="239"/>
                      </a:cubicBezTo>
                      <a:cubicBezTo>
                        <a:pt x="169" y="265"/>
                        <a:pt x="126" y="292"/>
                        <a:pt x="105" y="299"/>
                      </a:cubicBezTo>
                      <a:cubicBezTo>
                        <a:pt x="84" y="306"/>
                        <a:pt x="68" y="298"/>
                        <a:pt x="53" y="279"/>
                      </a:cubicBezTo>
                      <a:cubicBezTo>
                        <a:pt x="38" y="260"/>
                        <a:pt x="26" y="214"/>
                        <a:pt x="17" y="183"/>
                      </a:cubicBezTo>
                      <a:cubicBezTo>
                        <a:pt x="8" y="152"/>
                        <a:pt x="0" y="121"/>
                        <a:pt x="1" y="95"/>
                      </a:cubicBezTo>
                      <a:cubicBezTo>
                        <a:pt x="2" y="69"/>
                        <a:pt x="18" y="23"/>
                        <a:pt x="25" y="27"/>
                      </a:cubicBezTo>
                      <a:cubicBezTo>
                        <a:pt x="32" y="31"/>
                        <a:pt x="34" y="100"/>
                        <a:pt x="45" y="119"/>
                      </a:cubicBezTo>
                      <a:cubicBezTo>
                        <a:pt x="56" y="138"/>
                        <a:pt x="94" y="144"/>
                        <a:pt x="109" y="143"/>
                      </a:cubicBezTo>
                      <a:close/>
                    </a:path>
                  </a:pathLst>
                </a:custGeom>
                <a:solidFill>
                  <a:srgbClr val="596b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442000" y="5667840"/>
                  <a:ext cx="171720" cy="245520"/>
                </a:xfrm>
                <a:custGeom>
                  <a:avLst/>
                  <a:gdLst/>
                  <a:ahLst/>
                  <a:rect l="l" t="t" r="r" b="b"/>
                  <a:pathLst>
                    <a:path w="263" h="343">
                      <a:moveTo>
                        <a:pt x="191" y="335"/>
                      </a:moveTo>
                      <a:cubicBezTo>
                        <a:pt x="209" y="329"/>
                        <a:pt x="224" y="316"/>
                        <a:pt x="227" y="303"/>
                      </a:cubicBezTo>
                      <a:cubicBezTo>
                        <a:pt x="230" y="290"/>
                        <a:pt x="210" y="270"/>
                        <a:pt x="207" y="255"/>
                      </a:cubicBezTo>
                      <a:cubicBezTo>
                        <a:pt x="204" y="240"/>
                        <a:pt x="202" y="231"/>
                        <a:pt x="207" y="215"/>
                      </a:cubicBezTo>
                      <a:cubicBezTo>
                        <a:pt x="212" y="199"/>
                        <a:pt x="231" y="177"/>
                        <a:pt x="239" y="159"/>
                      </a:cubicBezTo>
                      <a:cubicBezTo>
                        <a:pt x="247" y="141"/>
                        <a:pt x="263" y="118"/>
                        <a:pt x="255" y="107"/>
                      </a:cubicBezTo>
                      <a:cubicBezTo>
                        <a:pt x="247" y="96"/>
                        <a:pt x="212" y="100"/>
                        <a:pt x="191" y="91"/>
                      </a:cubicBezTo>
                      <a:cubicBezTo>
                        <a:pt x="170" y="82"/>
                        <a:pt x="142" y="66"/>
                        <a:pt x="127" y="51"/>
                      </a:cubicBezTo>
                      <a:cubicBezTo>
                        <a:pt x="112" y="36"/>
                        <a:pt x="108" y="0"/>
                        <a:pt x="99" y="3"/>
                      </a:cubicBezTo>
                      <a:cubicBezTo>
                        <a:pt x="90" y="6"/>
                        <a:pt x="84" y="45"/>
                        <a:pt x="75" y="71"/>
                      </a:cubicBezTo>
                      <a:cubicBezTo>
                        <a:pt x="66" y="97"/>
                        <a:pt x="55" y="137"/>
                        <a:pt x="43" y="159"/>
                      </a:cubicBezTo>
                      <a:cubicBezTo>
                        <a:pt x="31" y="181"/>
                        <a:pt x="0" y="192"/>
                        <a:pt x="3" y="203"/>
                      </a:cubicBezTo>
                      <a:cubicBezTo>
                        <a:pt x="6" y="214"/>
                        <a:pt x="45" y="218"/>
                        <a:pt x="63" y="227"/>
                      </a:cubicBezTo>
                      <a:cubicBezTo>
                        <a:pt x="81" y="236"/>
                        <a:pt x="103" y="240"/>
                        <a:pt x="111" y="255"/>
                      </a:cubicBezTo>
                      <a:cubicBezTo>
                        <a:pt x="119" y="270"/>
                        <a:pt x="110" y="301"/>
                        <a:pt x="111" y="315"/>
                      </a:cubicBezTo>
                      <a:cubicBezTo>
                        <a:pt x="112" y="329"/>
                        <a:pt x="103" y="335"/>
                        <a:pt x="119" y="339"/>
                      </a:cubicBezTo>
                      <a:cubicBezTo>
                        <a:pt x="135" y="343"/>
                        <a:pt x="173" y="341"/>
                        <a:pt x="191" y="33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1bd7f"/>
                    </a:gs>
                    <a:gs pos="50000">
                      <a:srgbClr val="596b66"/>
                    </a:gs>
                    <a:gs pos="100000">
                      <a:srgbClr val="a1bd7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807680" y="2860920"/>
                <a:ext cx="1139760" cy="3011040"/>
                <a:chOff x="7807680" y="2860920"/>
                <a:chExt cx="1139760" cy="3011040"/>
              </a:xfrm>
            </p:grpSpPr>
            <p:sp>
              <p:nvSpPr>
                <p:cNvPr id="282" name=""/>
                <p:cNvSpPr/>
                <p:nvPr/>
              </p:nvSpPr>
              <p:spPr>
                <a:xfrm rot="21135600">
                  <a:off x="8308800" y="2949120"/>
                  <a:ext cx="215280" cy="153360"/>
                </a:xfrm>
                <a:custGeom>
                  <a:avLst/>
                  <a:gdLst/>
                  <a:ahLst/>
                  <a:rect l="l" t="t" r="r" b="b"/>
                  <a:pathLst>
                    <a:path w="293" h="181">
                      <a:moveTo>
                        <a:pt x="14" y="168"/>
                      </a:moveTo>
                      <a:cubicBezTo>
                        <a:pt x="0" y="155"/>
                        <a:pt x="16" y="40"/>
                        <a:pt x="22" y="20"/>
                      </a:cubicBezTo>
                      <a:cubicBezTo>
                        <a:pt x="28" y="0"/>
                        <a:pt x="39" y="50"/>
                        <a:pt x="50" y="48"/>
                      </a:cubicBezTo>
                      <a:cubicBezTo>
                        <a:pt x="61" y="46"/>
                        <a:pt x="77" y="10"/>
                        <a:pt x="86" y="8"/>
                      </a:cubicBezTo>
                      <a:cubicBezTo>
                        <a:pt x="95" y="6"/>
                        <a:pt x="96" y="35"/>
                        <a:pt x="106" y="36"/>
                      </a:cubicBezTo>
                      <a:cubicBezTo>
                        <a:pt x="116" y="37"/>
                        <a:pt x="135" y="13"/>
                        <a:pt x="146" y="12"/>
                      </a:cubicBezTo>
                      <a:cubicBezTo>
                        <a:pt x="157" y="11"/>
                        <a:pt x="163" y="28"/>
                        <a:pt x="174" y="28"/>
                      </a:cubicBezTo>
                      <a:cubicBezTo>
                        <a:pt x="185" y="28"/>
                        <a:pt x="197" y="12"/>
                        <a:pt x="210" y="12"/>
                      </a:cubicBezTo>
                      <a:cubicBezTo>
                        <a:pt x="223" y="12"/>
                        <a:pt x="241" y="23"/>
                        <a:pt x="254" y="28"/>
                      </a:cubicBezTo>
                      <a:cubicBezTo>
                        <a:pt x="267" y="33"/>
                        <a:pt x="293" y="31"/>
                        <a:pt x="286" y="40"/>
                      </a:cubicBezTo>
                      <a:cubicBezTo>
                        <a:pt x="279" y="49"/>
                        <a:pt x="240" y="71"/>
                        <a:pt x="210" y="80"/>
                      </a:cubicBezTo>
                      <a:cubicBezTo>
                        <a:pt x="180" y="89"/>
                        <a:pt x="139" y="79"/>
                        <a:pt x="106" y="96"/>
                      </a:cubicBezTo>
                      <a:cubicBezTo>
                        <a:pt x="73" y="113"/>
                        <a:pt x="28" y="181"/>
                        <a:pt x="14" y="168"/>
                      </a:cubicBezTo>
                      <a:close/>
                    </a:path>
                  </a:pathLst>
                </a:custGeom>
                <a:solidFill>
                  <a:srgbClr val="e1a3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1135600">
                  <a:off x="7852680" y="3414240"/>
                  <a:ext cx="132480" cy="174600"/>
                </a:xfrm>
                <a:custGeom>
                  <a:avLst/>
                  <a:gdLst/>
                  <a:ahLst/>
                  <a:rect l="l" t="t" r="r" b="b"/>
                  <a:pathLst>
                    <a:path w="180" h="206">
                      <a:moveTo>
                        <a:pt x="47" y="4"/>
                      </a:moveTo>
                      <a:cubicBezTo>
                        <a:pt x="31" y="0"/>
                        <a:pt x="17" y="39"/>
                        <a:pt x="15" y="52"/>
                      </a:cubicBezTo>
                      <a:cubicBezTo>
                        <a:pt x="13" y="65"/>
                        <a:pt x="37" y="72"/>
                        <a:pt x="35" y="80"/>
                      </a:cubicBezTo>
                      <a:cubicBezTo>
                        <a:pt x="33" y="88"/>
                        <a:pt x="2" y="91"/>
                        <a:pt x="3" y="100"/>
                      </a:cubicBezTo>
                      <a:cubicBezTo>
                        <a:pt x="4" y="109"/>
                        <a:pt x="42" y="125"/>
                        <a:pt x="43" y="136"/>
                      </a:cubicBezTo>
                      <a:cubicBezTo>
                        <a:pt x="44" y="147"/>
                        <a:pt x="0" y="156"/>
                        <a:pt x="7" y="164"/>
                      </a:cubicBezTo>
                      <a:cubicBezTo>
                        <a:pt x="14" y="172"/>
                        <a:pt x="55" y="180"/>
                        <a:pt x="83" y="184"/>
                      </a:cubicBezTo>
                      <a:cubicBezTo>
                        <a:pt x="111" y="188"/>
                        <a:pt x="170" y="206"/>
                        <a:pt x="175" y="188"/>
                      </a:cubicBezTo>
                      <a:cubicBezTo>
                        <a:pt x="180" y="170"/>
                        <a:pt x="133" y="105"/>
                        <a:pt x="111" y="76"/>
                      </a:cubicBezTo>
                      <a:cubicBezTo>
                        <a:pt x="89" y="47"/>
                        <a:pt x="63" y="8"/>
                        <a:pt x="47" y="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e9f1"/>
                    </a:gs>
                    <a:gs pos="100000">
                      <a:srgbClr val="e7b7c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21135600">
                  <a:off x="7829640" y="3385800"/>
                  <a:ext cx="233640" cy="190800"/>
                </a:xfrm>
                <a:custGeom>
                  <a:avLst/>
                  <a:gdLst/>
                  <a:ahLst/>
                  <a:rect l="l" t="t" r="r" b="b"/>
                  <a:pathLst>
                    <a:path w="318" h="225">
                      <a:moveTo>
                        <a:pt x="75" y="5"/>
                      </a:moveTo>
                      <a:cubicBezTo>
                        <a:pt x="54" y="0"/>
                        <a:pt x="42" y="5"/>
                        <a:pt x="31" y="13"/>
                      </a:cubicBezTo>
                      <a:cubicBezTo>
                        <a:pt x="20" y="21"/>
                        <a:pt x="0" y="46"/>
                        <a:pt x="11" y="53"/>
                      </a:cubicBezTo>
                      <a:cubicBezTo>
                        <a:pt x="22" y="60"/>
                        <a:pt x="80" y="44"/>
                        <a:pt x="99" y="53"/>
                      </a:cubicBezTo>
                      <a:cubicBezTo>
                        <a:pt x="118" y="62"/>
                        <a:pt x="117" y="86"/>
                        <a:pt x="127" y="109"/>
                      </a:cubicBezTo>
                      <a:cubicBezTo>
                        <a:pt x="137" y="132"/>
                        <a:pt x="140" y="170"/>
                        <a:pt x="159" y="189"/>
                      </a:cubicBezTo>
                      <a:cubicBezTo>
                        <a:pt x="178" y="208"/>
                        <a:pt x="219" y="225"/>
                        <a:pt x="243" y="221"/>
                      </a:cubicBezTo>
                      <a:cubicBezTo>
                        <a:pt x="267" y="217"/>
                        <a:pt x="318" y="195"/>
                        <a:pt x="303" y="165"/>
                      </a:cubicBezTo>
                      <a:cubicBezTo>
                        <a:pt x="288" y="135"/>
                        <a:pt x="194" y="64"/>
                        <a:pt x="155" y="41"/>
                      </a:cubicBezTo>
                      <a:cubicBezTo>
                        <a:pt x="116" y="18"/>
                        <a:pt x="96" y="10"/>
                        <a:pt x="75" y="5"/>
                      </a:cubicBezTo>
                      <a:close/>
                    </a:path>
                  </a:pathLst>
                </a:custGeom>
                <a:solidFill>
                  <a:srgbClr val="e1a3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21135600">
                  <a:off x="7859520" y="3096000"/>
                  <a:ext cx="454680" cy="235800"/>
                </a:xfrm>
                <a:custGeom>
                  <a:avLst/>
                  <a:gdLst/>
                  <a:ahLst/>
                  <a:rect l="l" t="t" r="r" b="b"/>
                  <a:pathLst>
                    <a:path w="618" h="278">
                      <a:moveTo>
                        <a:pt x="7" y="261"/>
                      </a:moveTo>
                      <a:cubicBezTo>
                        <a:pt x="0" y="248"/>
                        <a:pt x="1" y="210"/>
                        <a:pt x="7" y="197"/>
                      </a:cubicBezTo>
                      <a:cubicBezTo>
                        <a:pt x="13" y="184"/>
                        <a:pt x="36" y="195"/>
                        <a:pt x="43" y="185"/>
                      </a:cubicBezTo>
                      <a:cubicBezTo>
                        <a:pt x="50" y="175"/>
                        <a:pt x="41" y="144"/>
                        <a:pt x="47" y="137"/>
                      </a:cubicBezTo>
                      <a:cubicBezTo>
                        <a:pt x="53" y="130"/>
                        <a:pt x="72" y="148"/>
                        <a:pt x="79" y="141"/>
                      </a:cubicBezTo>
                      <a:cubicBezTo>
                        <a:pt x="86" y="134"/>
                        <a:pt x="80" y="105"/>
                        <a:pt x="91" y="97"/>
                      </a:cubicBezTo>
                      <a:cubicBezTo>
                        <a:pt x="102" y="89"/>
                        <a:pt x="128" y="102"/>
                        <a:pt x="143" y="93"/>
                      </a:cubicBezTo>
                      <a:cubicBezTo>
                        <a:pt x="158" y="84"/>
                        <a:pt x="168" y="52"/>
                        <a:pt x="179" y="45"/>
                      </a:cubicBezTo>
                      <a:cubicBezTo>
                        <a:pt x="190" y="38"/>
                        <a:pt x="197" y="57"/>
                        <a:pt x="207" y="53"/>
                      </a:cubicBezTo>
                      <a:cubicBezTo>
                        <a:pt x="217" y="49"/>
                        <a:pt x="226" y="25"/>
                        <a:pt x="239" y="21"/>
                      </a:cubicBezTo>
                      <a:cubicBezTo>
                        <a:pt x="252" y="17"/>
                        <a:pt x="274" y="32"/>
                        <a:pt x="287" y="29"/>
                      </a:cubicBezTo>
                      <a:cubicBezTo>
                        <a:pt x="300" y="26"/>
                        <a:pt x="302" y="0"/>
                        <a:pt x="315" y="1"/>
                      </a:cubicBezTo>
                      <a:cubicBezTo>
                        <a:pt x="328" y="2"/>
                        <a:pt x="344" y="32"/>
                        <a:pt x="363" y="37"/>
                      </a:cubicBezTo>
                      <a:cubicBezTo>
                        <a:pt x="382" y="42"/>
                        <a:pt x="414" y="33"/>
                        <a:pt x="431" y="33"/>
                      </a:cubicBezTo>
                      <a:cubicBezTo>
                        <a:pt x="448" y="33"/>
                        <a:pt x="452" y="31"/>
                        <a:pt x="463" y="37"/>
                      </a:cubicBezTo>
                      <a:cubicBezTo>
                        <a:pt x="474" y="43"/>
                        <a:pt x="485" y="70"/>
                        <a:pt x="495" y="69"/>
                      </a:cubicBezTo>
                      <a:cubicBezTo>
                        <a:pt x="505" y="68"/>
                        <a:pt x="514" y="32"/>
                        <a:pt x="523" y="33"/>
                      </a:cubicBezTo>
                      <a:cubicBezTo>
                        <a:pt x="532" y="34"/>
                        <a:pt x="540" y="75"/>
                        <a:pt x="547" y="77"/>
                      </a:cubicBezTo>
                      <a:cubicBezTo>
                        <a:pt x="554" y="79"/>
                        <a:pt x="556" y="41"/>
                        <a:pt x="567" y="45"/>
                      </a:cubicBezTo>
                      <a:cubicBezTo>
                        <a:pt x="578" y="49"/>
                        <a:pt x="618" y="76"/>
                        <a:pt x="615" y="101"/>
                      </a:cubicBezTo>
                      <a:cubicBezTo>
                        <a:pt x="612" y="126"/>
                        <a:pt x="592" y="189"/>
                        <a:pt x="547" y="193"/>
                      </a:cubicBezTo>
                      <a:cubicBezTo>
                        <a:pt x="502" y="197"/>
                        <a:pt x="396" y="122"/>
                        <a:pt x="347" y="125"/>
                      </a:cubicBezTo>
                      <a:cubicBezTo>
                        <a:pt x="298" y="128"/>
                        <a:pt x="285" y="192"/>
                        <a:pt x="251" y="209"/>
                      </a:cubicBezTo>
                      <a:cubicBezTo>
                        <a:pt x="217" y="226"/>
                        <a:pt x="176" y="214"/>
                        <a:pt x="143" y="225"/>
                      </a:cubicBezTo>
                      <a:cubicBezTo>
                        <a:pt x="110" y="236"/>
                        <a:pt x="74" y="268"/>
                        <a:pt x="51" y="273"/>
                      </a:cubicBezTo>
                      <a:cubicBezTo>
                        <a:pt x="28" y="278"/>
                        <a:pt x="14" y="274"/>
                        <a:pt x="7" y="2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c4db"/>
                    </a:gs>
                    <a:gs pos="100000">
                      <a:srgbClr val="e1a3b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135600">
                  <a:off x="7839720" y="3123360"/>
                  <a:ext cx="554760" cy="516600"/>
                </a:xfrm>
                <a:custGeom>
                  <a:avLst/>
                  <a:gdLst/>
                  <a:ahLst/>
                  <a:rect l="l" t="t" r="r" b="b"/>
                  <a:pathLst>
                    <a:path w="754" h="609">
                      <a:moveTo>
                        <a:pt x="333" y="518"/>
                      </a:moveTo>
                      <a:cubicBezTo>
                        <a:pt x="263" y="489"/>
                        <a:pt x="226" y="459"/>
                        <a:pt x="189" y="430"/>
                      </a:cubicBezTo>
                      <a:cubicBezTo>
                        <a:pt x="152" y="401"/>
                        <a:pt x="143" y="371"/>
                        <a:pt x="113" y="346"/>
                      </a:cubicBezTo>
                      <a:cubicBezTo>
                        <a:pt x="83" y="321"/>
                        <a:pt x="18" y="295"/>
                        <a:pt x="9" y="278"/>
                      </a:cubicBezTo>
                      <a:cubicBezTo>
                        <a:pt x="0" y="261"/>
                        <a:pt x="50" y="257"/>
                        <a:pt x="57" y="246"/>
                      </a:cubicBezTo>
                      <a:cubicBezTo>
                        <a:pt x="64" y="235"/>
                        <a:pt x="43" y="220"/>
                        <a:pt x="49" y="214"/>
                      </a:cubicBezTo>
                      <a:cubicBezTo>
                        <a:pt x="55" y="208"/>
                        <a:pt x="86" y="218"/>
                        <a:pt x="93" y="210"/>
                      </a:cubicBezTo>
                      <a:cubicBezTo>
                        <a:pt x="100" y="202"/>
                        <a:pt x="87" y="173"/>
                        <a:pt x="93" y="166"/>
                      </a:cubicBezTo>
                      <a:cubicBezTo>
                        <a:pt x="99" y="159"/>
                        <a:pt x="121" y="173"/>
                        <a:pt x="129" y="166"/>
                      </a:cubicBezTo>
                      <a:cubicBezTo>
                        <a:pt x="137" y="159"/>
                        <a:pt x="132" y="133"/>
                        <a:pt x="141" y="126"/>
                      </a:cubicBezTo>
                      <a:cubicBezTo>
                        <a:pt x="150" y="119"/>
                        <a:pt x="172" y="133"/>
                        <a:pt x="181" y="126"/>
                      </a:cubicBezTo>
                      <a:cubicBezTo>
                        <a:pt x="190" y="119"/>
                        <a:pt x="183" y="92"/>
                        <a:pt x="193" y="86"/>
                      </a:cubicBezTo>
                      <a:cubicBezTo>
                        <a:pt x="203" y="80"/>
                        <a:pt x="232" y="97"/>
                        <a:pt x="241" y="90"/>
                      </a:cubicBezTo>
                      <a:cubicBezTo>
                        <a:pt x="250" y="83"/>
                        <a:pt x="238" y="53"/>
                        <a:pt x="245" y="46"/>
                      </a:cubicBezTo>
                      <a:cubicBezTo>
                        <a:pt x="252" y="39"/>
                        <a:pt x="273" y="53"/>
                        <a:pt x="285" y="46"/>
                      </a:cubicBezTo>
                      <a:cubicBezTo>
                        <a:pt x="297" y="39"/>
                        <a:pt x="302" y="4"/>
                        <a:pt x="317" y="2"/>
                      </a:cubicBezTo>
                      <a:cubicBezTo>
                        <a:pt x="332" y="0"/>
                        <a:pt x="359" y="31"/>
                        <a:pt x="377" y="34"/>
                      </a:cubicBezTo>
                      <a:cubicBezTo>
                        <a:pt x="395" y="37"/>
                        <a:pt x="411" y="15"/>
                        <a:pt x="425" y="18"/>
                      </a:cubicBezTo>
                      <a:cubicBezTo>
                        <a:pt x="439" y="21"/>
                        <a:pt x="441" y="45"/>
                        <a:pt x="461" y="54"/>
                      </a:cubicBezTo>
                      <a:cubicBezTo>
                        <a:pt x="481" y="63"/>
                        <a:pt x="528" y="63"/>
                        <a:pt x="545" y="70"/>
                      </a:cubicBezTo>
                      <a:cubicBezTo>
                        <a:pt x="562" y="77"/>
                        <a:pt x="556" y="97"/>
                        <a:pt x="565" y="98"/>
                      </a:cubicBezTo>
                      <a:cubicBezTo>
                        <a:pt x="574" y="99"/>
                        <a:pt x="586" y="73"/>
                        <a:pt x="597" y="78"/>
                      </a:cubicBezTo>
                      <a:cubicBezTo>
                        <a:pt x="608" y="83"/>
                        <a:pt x="613" y="116"/>
                        <a:pt x="629" y="126"/>
                      </a:cubicBezTo>
                      <a:cubicBezTo>
                        <a:pt x="645" y="136"/>
                        <a:pt x="681" y="111"/>
                        <a:pt x="693" y="138"/>
                      </a:cubicBezTo>
                      <a:cubicBezTo>
                        <a:pt x="705" y="165"/>
                        <a:pt x="692" y="253"/>
                        <a:pt x="701" y="286"/>
                      </a:cubicBezTo>
                      <a:cubicBezTo>
                        <a:pt x="710" y="319"/>
                        <a:pt x="744" y="314"/>
                        <a:pt x="749" y="338"/>
                      </a:cubicBezTo>
                      <a:cubicBezTo>
                        <a:pt x="754" y="362"/>
                        <a:pt x="740" y="396"/>
                        <a:pt x="729" y="430"/>
                      </a:cubicBezTo>
                      <a:cubicBezTo>
                        <a:pt x="718" y="464"/>
                        <a:pt x="701" y="513"/>
                        <a:pt x="681" y="542"/>
                      </a:cubicBezTo>
                      <a:cubicBezTo>
                        <a:pt x="661" y="571"/>
                        <a:pt x="667" y="609"/>
                        <a:pt x="609" y="606"/>
                      </a:cubicBezTo>
                      <a:cubicBezTo>
                        <a:pt x="551" y="603"/>
                        <a:pt x="403" y="547"/>
                        <a:pt x="333" y="51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fec4d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135600">
                  <a:off x="8000280" y="3439800"/>
                  <a:ext cx="442800" cy="304200"/>
                </a:xfrm>
                <a:custGeom>
                  <a:avLst/>
                  <a:gdLst/>
                  <a:ahLst/>
                  <a:rect l="l" t="t" r="r" b="b"/>
                  <a:pathLst>
                    <a:path w="602" h="359">
                      <a:moveTo>
                        <a:pt x="499" y="7"/>
                      </a:moveTo>
                      <a:cubicBezTo>
                        <a:pt x="476" y="0"/>
                        <a:pt x="480" y="126"/>
                        <a:pt x="455" y="135"/>
                      </a:cubicBezTo>
                      <a:cubicBezTo>
                        <a:pt x="430" y="144"/>
                        <a:pt x="374" y="64"/>
                        <a:pt x="351" y="59"/>
                      </a:cubicBezTo>
                      <a:cubicBezTo>
                        <a:pt x="328" y="54"/>
                        <a:pt x="340" y="108"/>
                        <a:pt x="319" y="107"/>
                      </a:cubicBezTo>
                      <a:cubicBezTo>
                        <a:pt x="298" y="106"/>
                        <a:pt x="237" y="55"/>
                        <a:pt x="223" y="55"/>
                      </a:cubicBezTo>
                      <a:cubicBezTo>
                        <a:pt x="209" y="55"/>
                        <a:pt x="256" y="111"/>
                        <a:pt x="235" y="107"/>
                      </a:cubicBezTo>
                      <a:cubicBezTo>
                        <a:pt x="214" y="103"/>
                        <a:pt x="120" y="38"/>
                        <a:pt x="99" y="31"/>
                      </a:cubicBezTo>
                      <a:cubicBezTo>
                        <a:pt x="78" y="24"/>
                        <a:pt x="127" y="64"/>
                        <a:pt x="111" y="63"/>
                      </a:cubicBezTo>
                      <a:cubicBezTo>
                        <a:pt x="95" y="62"/>
                        <a:pt x="6" y="12"/>
                        <a:pt x="3" y="23"/>
                      </a:cubicBezTo>
                      <a:cubicBezTo>
                        <a:pt x="0" y="34"/>
                        <a:pt x="60" y="102"/>
                        <a:pt x="91" y="131"/>
                      </a:cubicBezTo>
                      <a:cubicBezTo>
                        <a:pt x="122" y="160"/>
                        <a:pt x="146" y="170"/>
                        <a:pt x="187" y="195"/>
                      </a:cubicBezTo>
                      <a:cubicBezTo>
                        <a:pt x="228" y="220"/>
                        <a:pt x="293" y="253"/>
                        <a:pt x="339" y="279"/>
                      </a:cubicBezTo>
                      <a:cubicBezTo>
                        <a:pt x="385" y="305"/>
                        <a:pt x="430" y="359"/>
                        <a:pt x="463" y="351"/>
                      </a:cubicBezTo>
                      <a:cubicBezTo>
                        <a:pt x="496" y="343"/>
                        <a:pt x="517" y="260"/>
                        <a:pt x="539" y="231"/>
                      </a:cubicBezTo>
                      <a:cubicBezTo>
                        <a:pt x="561" y="202"/>
                        <a:pt x="602" y="211"/>
                        <a:pt x="595" y="175"/>
                      </a:cubicBezTo>
                      <a:cubicBezTo>
                        <a:pt x="588" y="139"/>
                        <a:pt x="522" y="14"/>
                        <a:pt x="499" y="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d0de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135600">
                  <a:off x="8410680" y="2890080"/>
                  <a:ext cx="487080" cy="771840"/>
                </a:xfrm>
                <a:custGeom>
                  <a:avLst/>
                  <a:gdLst/>
                  <a:ahLst/>
                  <a:rect l="l" t="t" r="r" b="b"/>
                  <a:pathLst>
                    <a:path w="662" h="910">
                      <a:moveTo>
                        <a:pt x="21" y="747"/>
                      </a:moveTo>
                      <a:cubicBezTo>
                        <a:pt x="32" y="696"/>
                        <a:pt x="47" y="597"/>
                        <a:pt x="81" y="483"/>
                      </a:cubicBezTo>
                      <a:cubicBezTo>
                        <a:pt x="115" y="369"/>
                        <a:pt x="196" y="126"/>
                        <a:pt x="225" y="63"/>
                      </a:cubicBezTo>
                      <a:cubicBezTo>
                        <a:pt x="254" y="0"/>
                        <a:pt x="247" y="101"/>
                        <a:pt x="257" y="107"/>
                      </a:cubicBezTo>
                      <a:cubicBezTo>
                        <a:pt x="267" y="113"/>
                        <a:pt x="276" y="94"/>
                        <a:pt x="285" y="99"/>
                      </a:cubicBezTo>
                      <a:cubicBezTo>
                        <a:pt x="294" y="104"/>
                        <a:pt x="297" y="129"/>
                        <a:pt x="309" y="135"/>
                      </a:cubicBezTo>
                      <a:cubicBezTo>
                        <a:pt x="321" y="141"/>
                        <a:pt x="349" y="128"/>
                        <a:pt x="357" y="135"/>
                      </a:cubicBezTo>
                      <a:cubicBezTo>
                        <a:pt x="365" y="142"/>
                        <a:pt x="349" y="169"/>
                        <a:pt x="357" y="175"/>
                      </a:cubicBezTo>
                      <a:cubicBezTo>
                        <a:pt x="365" y="181"/>
                        <a:pt x="396" y="166"/>
                        <a:pt x="405" y="171"/>
                      </a:cubicBezTo>
                      <a:cubicBezTo>
                        <a:pt x="414" y="176"/>
                        <a:pt x="405" y="198"/>
                        <a:pt x="413" y="203"/>
                      </a:cubicBezTo>
                      <a:cubicBezTo>
                        <a:pt x="421" y="208"/>
                        <a:pt x="444" y="190"/>
                        <a:pt x="453" y="199"/>
                      </a:cubicBezTo>
                      <a:cubicBezTo>
                        <a:pt x="462" y="208"/>
                        <a:pt x="456" y="251"/>
                        <a:pt x="465" y="259"/>
                      </a:cubicBezTo>
                      <a:cubicBezTo>
                        <a:pt x="474" y="267"/>
                        <a:pt x="494" y="242"/>
                        <a:pt x="505" y="247"/>
                      </a:cubicBezTo>
                      <a:cubicBezTo>
                        <a:pt x="516" y="252"/>
                        <a:pt x="518" y="285"/>
                        <a:pt x="529" y="291"/>
                      </a:cubicBezTo>
                      <a:cubicBezTo>
                        <a:pt x="540" y="297"/>
                        <a:pt x="563" y="276"/>
                        <a:pt x="569" y="283"/>
                      </a:cubicBezTo>
                      <a:cubicBezTo>
                        <a:pt x="575" y="290"/>
                        <a:pt x="562" y="316"/>
                        <a:pt x="565" y="331"/>
                      </a:cubicBezTo>
                      <a:cubicBezTo>
                        <a:pt x="568" y="346"/>
                        <a:pt x="575" y="364"/>
                        <a:pt x="585" y="375"/>
                      </a:cubicBezTo>
                      <a:cubicBezTo>
                        <a:pt x="595" y="386"/>
                        <a:pt x="619" y="384"/>
                        <a:pt x="625" y="395"/>
                      </a:cubicBezTo>
                      <a:cubicBezTo>
                        <a:pt x="631" y="406"/>
                        <a:pt x="618" y="425"/>
                        <a:pt x="621" y="439"/>
                      </a:cubicBezTo>
                      <a:cubicBezTo>
                        <a:pt x="624" y="453"/>
                        <a:pt x="635" y="467"/>
                        <a:pt x="641" y="479"/>
                      </a:cubicBezTo>
                      <a:cubicBezTo>
                        <a:pt x="647" y="491"/>
                        <a:pt x="660" y="501"/>
                        <a:pt x="657" y="511"/>
                      </a:cubicBezTo>
                      <a:cubicBezTo>
                        <a:pt x="654" y="521"/>
                        <a:pt x="626" y="528"/>
                        <a:pt x="625" y="539"/>
                      </a:cubicBezTo>
                      <a:cubicBezTo>
                        <a:pt x="624" y="550"/>
                        <a:pt x="650" y="564"/>
                        <a:pt x="653" y="575"/>
                      </a:cubicBezTo>
                      <a:cubicBezTo>
                        <a:pt x="656" y="586"/>
                        <a:pt x="640" y="596"/>
                        <a:pt x="641" y="603"/>
                      </a:cubicBezTo>
                      <a:cubicBezTo>
                        <a:pt x="642" y="610"/>
                        <a:pt x="660" y="610"/>
                        <a:pt x="661" y="619"/>
                      </a:cubicBezTo>
                      <a:cubicBezTo>
                        <a:pt x="662" y="628"/>
                        <a:pt x="651" y="645"/>
                        <a:pt x="645" y="655"/>
                      </a:cubicBezTo>
                      <a:cubicBezTo>
                        <a:pt x="639" y="665"/>
                        <a:pt x="644" y="661"/>
                        <a:pt x="625" y="679"/>
                      </a:cubicBezTo>
                      <a:cubicBezTo>
                        <a:pt x="606" y="697"/>
                        <a:pt x="563" y="728"/>
                        <a:pt x="529" y="763"/>
                      </a:cubicBezTo>
                      <a:cubicBezTo>
                        <a:pt x="495" y="798"/>
                        <a:pt x="457" y="872"/>
                        <a:pt x="421" y="891"/>
                      </a:cubicBezTo>
                      <a:cubicBezTo>
                        <a:pt x="385" y="910"/>
                        <a:pt x="347" y="883"/>
                        <a:pt x="313" y="879"/>
                      </a:cubicBezTo>
                      <a:cubicBezTo>
                        <a:pt x="279" y="875"/>
                        <a:pt x="248" y="866"/>
                        <a:pt x="217" y="867"/>
                      </a:cubicBezTo>
                      <a:cubicBezTo>
                        <a:pt x="186" y="868"/>
                        <a:pt x="158" y="900"/>
                        <a:pt x="125" y="887"/>
                      </a:cubicBezTo>
                      <a:cubicBezTo>
                        <a:pt x="92" y="874"/>
                        <a:pt x="34" y="814"/>
                        <a:pt x="17" y="791"/>
                      </a:cubicBezTo>
                      <a:cubicBezTo>
                        <a:pt x="0" y="768"/>
                        <a:pt x="10" y="798"/>
                        <a:pt x="21" y="74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e9f1"/>
                    </a:gs>
                    <a:gs pos="100000">
                      <a:srgbClr val="e7b7c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21135600">
                  <a:off x="8481600" y="3188520"/>
                  <a:ext cx="288360" cy="481680"/>
                </a:xfrm>
                <a:custGeom>
                  <a:avLst/>
                  <a:gdLst/>
                  <a:ahLst/>
                  <a:rect l="l" t="t" r="r" b="b"/>
                  <a:pathLst>
                    <a:path w="392" h="568">
                      <a:moveTo>
                        <a:pt x="0" y="457"/>
                      </a:moveTo>
                      <a:cubicBezTo>
                        <a:pt x="0" y="422"/>
                        <a:pt x="14" y="387"/>
                        <a:pt x="32" y="349"/>
                      </a:cubicBezTo>
                      <a:cubicBezTo>
                        <a:pt x="50" y="311"/>
                        <a:pt x="81" y="281"/>
                        <a:pt x="108" y="225"/>
                      </a:cubicBezTo>
                      <a:cubicBezTo>
                        <a:pt x="135" y="169"/>
                        <a:pt x="181" y="26"/>
                        <a:pt x="192" y="13"/>
                      </a:cubicBezTo>
                      <a:cubicBezTo>
                        <a:pt x="203" y="0"/>
                        <a:pt x="171" y="131"/>
                        <a:pt x="176" y="149"/>
                      </a:cubicBezTo>
                      <a:cubicBezTo>
                        <a:pt x="181" y="167"/>
                        <a:pt x="217" y="104"/>
                        <a:pt x="220" y="121"/>
                      </a:cubicBezTo>
                      <a:cubicBezTo>
                        <a:pt x="223" y="138"/>
                        <a:pt x="183" y="237"/>
                        <a:pt x="192" y="249"/>
                      </a:cubicBezTo>
                      <a:cubicBezTo>
                        <a:pt x="201" y="261"/>
                        <a:pt x="269" y="183"/>
                        <a:pt x="276" y="193"/>
                      </a:cubicBezTo>
                      <a:cubicBezTo>
                        <a:pt x="283" y="203"/>
                        <a:pt x="213" y="298"/>
                        <a:pt x="232" y="309"/>
                      </a:cubicBezTo>
                      <a:cubicBezTo>
                        <a:pt x="251" y="320"/>
                        <a:pt x="384" y="248"/>
                        <a:pt x="388" y="261"/>
                      </a:cubicBezTo>
                      <a:cubicBezTo>
                        <a:pt x="392" y="274"/>
                        <a:pt x="272" y="360"/>
                        <a:pt x="256" y="385"/>
                      </a:cubicBezTo>
                      <a:cubicBezTo>
                        <a:pt x="240" y="410"/>
                        <a:pt x="301" y="394"/>
                        <a:pt x="292" y="409"/>
                      </a:cubicBezTo>
                      <a:cubicBezTo>
                        <a:pt x="283" y="424"/>
                        <a:pt x="233" y="455"/>
                        <a:pt x="204" y="473"/>
                      </a:cubicBezTo>
                      <a:cubicBezTo>
                        <a:pt x="175" y="491"/>
                        <a:pt x="149" y="503"/>
                        <a:pt x="120" y="517"/>
                      </a:cubicBezTo>
                      <a:cubicBezTo>
                        <a:pt x="91" y="531"/>
                        <a:pt x="52" y="568"/>
                        <a:pt x="32" y="557"/>
                      </a:cubicBezTo>
                      <a:cubicBezTo>
                        <a:pt x="12" y="546"/>
                        <a:pt x="0" y="492"/>
                        <a:pt x="0" y="45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e9f1"/>
                    </a:gs>
                    <a:gs pos="100000">
                      <a:srgbClr val="e7b7c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21135600">
                  <a:off x="8241120" y="2964960"/>
                  <a:ext cx="339840" cy="628560"/>
                </a:xfrm>
                <a:custGeom>
                  <a:avLst/>
                  <a:gdLst/>
                  <a:ahLst/>
                  <a:rect l="l" t="t" r="r" b="b"/>
                  <a:pathLst>
                    <a:path w="462" h="741">
                      <a:moveTo>
                        <a:pt x="193" y="705"/>
                      </a:moveTo>
                      <a:cubicBezTo>
                        <a:pt x="174" y="690"/>
                        <a:pt x="163" y="656"/>
                        <a:pt x="141" y="629"/>
                      </a:cubicBezTo>
                      <a:cubicBezTo>
                        <a:pt x="119" y="602"/>
                        <a:pt x="80" y="577"/>
                        <a:pt x="61" y="545"/>
                      </a:cubicBezTo>
                      <a:cubicBezTo>
                        <a:pt x="42" y="513"/>
                        <a:pt x="35" y="466"/>
                        <a:pt x="25" y="437"/>
                      </a:cubicBezTo>
                      <a:cubicBezTo>
                        <a:pt x="15" y="408"/>
                        <a:pt x="2" y="397"/>
                        <a:pt x="1" y="369"/>
                      </a:cubicBezTo>
                      <a:cubicBezTo>
                        <a:pt x="0" y="341"/>
                        <a:pt x="6" y="284"/>
                        <a:pt x="17" y="269"/>
                      </a:cubicBezTo>
                      <a:cubicBezTo>
                        <a:pt x="28" y="254"/>
                        <a:pt x="58" y="286"/>
                        <a:pt x="65" y="281"/>
                      </a:cubicBezTo>
                      <a:cubicBezTo>
                        <a:pt x="72" y="276"/>
                        <a:pt x="56" y="245"/>
                        <a:pt x="61" y="237"/>
                      </a:cubicBezTo>
                      <a:cubicBezTo>
                        <a:pt x="66" y="229"/>
                        <a:pt x="92" y="245"/>
                        <a:pt x="93" y="233"/>
                      </a:cubicBezTo>
                      <a:cubicBezTo>
                        <a:pt x="94" y="221"/>
                        <a:pt x="67" y="175"/>
                        <a:pt x="69" y="165"/>
                      </a:cubicBezTo>
                      <a:cubicBezTo>
                        <a:pt x="71" y="155"/>
                        <a:pt x="98" y="180"/>
                        <a:pt x="105" y="173"/>
                      </a:cubicBezTo>
                      <a:cubicBezTo>
                        <a:pt x="112" y="166"/>
                        <a:pt x="104" y="130"/>
                        <a:pt x="113" y="125"/>
                      </a:cubicBezTo>
                      <a:cubicBezTo>
                        <a:pt x="122" y="120"/>
                        <a:pt x="153" y="146"/>
                        <a:pt x="161" y="141"/>
                      </a:cubicBezTo>
                      <a:cubicBezTo>
                        <a:pt x="169" y="136"/>
                        <a:pt x="155" y="100"/>
                        <a:pt x="161" y="93"/>
                      </a:cubicBezTo>
                      <a:cubicBezTo>
                        <a:pt x="167" y="86"/>
                        <a:pt x="184" y="101"/>
                        <a:pt x="197" y="97"/>
                      </a:cubicBezTo>
                      <a:cubicBezTo>
                        <a:pt x="210" y="93"/>
                        <a:pt x="222" y="69"/>
                        <a:pt x="237" y="69"/>
                      </a:cubicBezTo>
                      <a:cubicBezTo>
                        <a:pt x="252" y="69"/>
                        <a:pt x="274" y="104"/>
                        <a:pt x="285" y="97"/>
                      </a:cubicBezTo>
                      <a:cubicBezTo>
                        <a:pt x="296" y="90"/>
                        <a:pt x="291" y="38"/>
                        <a:pt x="301" y="25"/>
                      </a:cubicBezTo>
                      <a:cubicBezTo>
                        <a:pt x="311" y="12"/>
                        <a:pt x="332" y="14"/>
                        <a:pt x="345" y="17"/>
                      </a:cubicBezTo>
                      <a:cubicBezTo>
                        <a:pt x="358" y="20"/>
                        <a:pt x="369" y="44"/>
                        <a:pt x="381" y="41"/>
                      </a:cubicBezTo>
                      <a:cubicBezTo>
                        <a:pt x="393" y="38"/>
                        <a:pt x="404" y="2"/>
                        <a:pt x="417" y="1"/>
                      </a:cubicBezTo>
                      <a:cubicBezTo>
                        <a:pt x="430" y="0"/>
                        <a:pt x="460" y="2"/>
                        <a:pt x="461" y="37"/>
                      </a:cubicBezTo>
                      <a:cubicBezTo>
                        <a:pt x="462" y="72"/>
                        <a:pt x="441" y="151"/>
                        <a:pt x="425" y="209"/>
                      </a:cubicBezTo>
                      <a:cubicBezTo>
                        <a:pt x="409" y="267"/>
                        <a:pt x="386" y="323"/>
                        <a:pt x="365" y="385"/>
                      </a:cubicBezTo>
                      <a:cubicBezTo>
                        <a:pt x="344" y="447"/>
                        <a:pt x="320" y="525"/>
                        <a:pt x="301" y="581"/>
                      </a:cubicBezTo>
                      <a:cubicBezTo>
                        <a:pt x="282" y="637"/>
                        <a:pt x="272" y="701"/>
                        <a:pt x="253" y="721"/>
                      </a:cubicBezTo>
                      <a:cubicBezTo>
                        <a:pt x="234" y="741"/>
                        <a:pt x="212" y="720"/>
                        <a:pt x="193" y="7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fec4d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21135600">
                  <a:off x="7859160" y="3511800"/>
                  <a:ext cx="334800" cy="153360"/>
                </a:xfrm>
                <a:custGeom>
                  <a:avLst/>
                  <a:gdLst/>
                  <a:ahLst/>
                  <a:rect l="l" t="t" r="r" b="b"/>
                  <a:pathLst>
                    <a:path w="455" h="181">
                      <a:moveTo>
                        <a:pt x="403" y="173"/>
                      </a:moveTo>
                      <a:cubicBezTo>
                        <a:pt x="372" y="169"/>
                        <a:pt x="315" y="163"/>
                        <a:pt x="259" y="149"/>
                      </a:cubicBezTo>
                      <a:cubicBezTo>
                        <a:pt x="203" y="135"/>
                        <a:pt x="109" y="102"/>
                        <a:pt x="67" y="89"/>
                      </a:cubicBezTo>
                      <a:cubicBezTo>
                        <a:pt x="25" y="76"/>
                        <a:pt x="14" y="77"/>
                        <a:pt x="7" y="69"/>
                      </a:cubicBezTo>
                      <a:cubicBezTo>
                        <a:pt x="0" y="61"/>
                        <a:pt x="18" y="48"/>
                        <a:pt x="27" y="41"/>
                      </a:cubicBezTo>
                      <a:cubicBezTo>
                        <a:pt x="36" y="34"/>
                        <a:pt x="51" y="29"/>
                        <a:pt x="63" y="29"/>
                      </a:cubicBezTo>
                      <a:cubicBezTo>
                        <a:pt x="75" y="29"/>
                        <a:pt x="93" y="44"/>
                        <a:pt x="99" y="41"/>
                      </a:cubicBezTo>
                      <a:cubicBezTo>
                        <a:pt x="105" y="38"/>
                        <a:pt x="94" y="15"/>
                        <a:pt x="99" y="13"/>
                      </a:cubicBezTo>
                      <a:cubicBezTo>
                        <a:pt x="104" y="11"/>
                        <a:pt x="114" y="27"/>
                        <a:pt x="127" y="29"/>
                      </a:cubicBezTo>
                      <a:cubicBezTo>
                        <a:pt x="140" y="31"/>
                        <a:pt x="164" y="30"/>
                        <a:pt x="175" y="25"/>
                      </a:cubicBezTo>
                      <a:cubicBezTo>
                        <a:pt x="186" y="20"/>
                        <a:pt x="184" y="0"/>
                        <a:pt x="195" y="1"/>
                      </a:cubicBezTo>
                      <a:cubicBezTo>
                        <a:pt x="206" y="2"/>
                        <a:pt x="231" y="28"/>
                        <a:pt x="243" y="33"/>
                      </a:cubicBezTo>
                      <a:cubicBezTo>
                        <a:pt x="255" y="38"/>
                        <a:pt x="256" y="19"/>
                        <a:pt x="267" y="29"/>
                      </a:cubicBezTo>
                      <a:cubicBezTo>
                        <a:pt x="278" y="39"/>
                        <a:pt x="294" y="76"/>
                        <a:pt x="307" y="93"/>
                      </a:cubicBezTo>
                      <a:cubicBezTo>
                        <a:pt x="320" y="110"/>
                        <a:pt x="324" y="116"/>
                        <a:pt x="347" y="129"/>
                      </a:cubicBezTo>
                      <a:cubicBezTo>
                        <a:pt x="370" y="142"/>
                        <a:pt x="439" y="165"/>
                        <a:pt x="447" y="173"/>
                      </a:cubicBezTo>
                      <a:cubicBezTo>
                        <a:pt x="455" y="181"/>
                        <a:pt x="434" y="177"/>
                        <a:pt x="403" y="17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fec4d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1135600">
                  <a:off x="8132400" y="3508200"/>
                  <a:ext cx="410400" cy="272880"/>
                </a:xfrm>
                <a:custGeom>
                  <a:avLst/>
                  <a:gdLst/>
                  <a:ahLst/>
                  <a:rect l="l" t="t" r="r" b="b"/>
                  <a:pathLst>
                    <a:path w="558" h="322">
                      <a:moveTo>
                        <a:pt x="70" y="224"/>
                      </a:moveTo>
                      <a:cubicBezTo>
                        <a:pt x="57" y="214"/>
                        <a:pt x="29" y="189"/>
                        <a:pt x="18" y="176"/>
                      </a:cubicBezTo>
                      <a:cubicBezTo>
                        <a:pt x="7" y="163"/>
                        <a:pt x="0" y="153"/>
                        <a:pt x="2" y="144"/>
                      </a:cubicBezTo>
                      <a:cubicBezTo>
                        <a:pt x="4" y="135"/>
                        <a:pt x="17" y="123"/>
                        <a:pt x="30" y="120"/>
                      </a:cubicBezTo>
                      <a:cubicBezTo>
                        <a:pt x="43" y="117"/>
                        <a:pt x="60" y="118"/>
                        <a:pt x="82" y="124"/>
                      </a:cubicBezTo>
                      <a:cubicBezTo>
                        <a:pt x="104" y="130"/>
                        <a:pt x="135" y="142"/>
                        <a:pt x="162" y="156"/>
                      </a:cubicBezTo>
                      <a:cubicBezTo>
                        <a:pt x="189" y="170"/>
                        <a:pt x="226" y="197"/>
                        <a:pt x="246" y="208"/>
                      </a:cubicBezTo>
                      <a:cubicBezTo>
                        <a:pt x="266" y="219"/>
                        <a:pt x="269" y="230"/>
                        <a:pt x="282" y="224"/>
                      </a:cubicBezTo>
                      <a:cubicBezTo>
                        <a:pt x="295" y="218"/>
                        <a:pt x="313" y="189"/>
                        <a:pt x="326" y="172"/>
                      </a:cubicBezTo>
                      <a:cubicBezTo>
                        <a:pt x="339" y="155"/>
                        <a:pt x="351" y="135"/>
                        <a:pt x="358" y="120"/>
                      </a:cubicBezTo>
                      <a:cubicBezTo>
                        <a:pt x="365" y="105"/>
                        <a:pt x="360" y="91"/>
                        <a:pt x="370" y="80"/>
                      </a:cubicBezTo>
                      <a:cubicBezTo>
                        <a:pt x="380" y="69"/>
                        <a:pt x="405" y="65"/>
                        <a:pt x="418" y="52"/>
                      </a:cubicBezTo>
                      <a:cubicBezTo>
                        <a:pt x="431" y="39"/>
                        <a:pt x="442" y="0"/>
                        <a:pt x="450" y="0"/>
                      </a:cubicBezTo>
                      <a:cubicBezTo>
                        <a:pt x="458" y="0"/>
                        <a:pt x="459" y="41"/>
                        <a:pt x="466" y="52"/>
                      </a:cubicBezTo>
                      <a:cubicBezTo>
                        <a:pt x="473" y="63"/>
                        <a:pt x="481" y="57"/>
                        <a:pt x="490" y="68"/>
                      </a:cubicBezTo>
                      <a:cubicBezTo>
                        <a:pt x="499" y="79"/>
                        <a:pt x="514" y="100"/>
                        <a:pt x="522" y="116"/>
                      </a:cubicBezTo>
                      <a:cubicBezTo>
                        <a:pt x="530" y="132"/>
                        <a:pt x="558" y="154"/>
                        <a:pt x="538" y="164"/>
                      </a:cubicBezTo>
                      <a:cubicBezTo>
                        <a:pt x="518" y="174"/>
                        <a:pt x="434" y="154"/>
                        <a:pt x="402" y="176"/>
                      </a:cubicBezTo>
                      <a:cubicBezTo>
                        <a:pt x="370" y="198"/>
                        <a:pt x="372" y="273"/>
                        <a:pt x="346" y="296"/>
                      </a:cubicBezTo>
                      <a:cubicBezTo>
                        <a:pt x="320" y="319"/>
                        <a:pt x="288" y="322"/>
                        <a:pt x="246" y="312"/>
                      </a:cubicBezTo>
                      <a:cubicBezTo>
                        <a:pt x="204" y="302"/>
                        <a:pt x="124" y="251"/>
                        <a:pt x="94" y="236"/>
                      </a:cubicBezTo>
                      <a:cubicBezTo>
                        <a:pt x="64" y="221"/>
                        <a:pt x="83" y="234"/>
                        <a:pt x="70" y="22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d0de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1135600">
                  <a:off x="8191080" y="3560760"/>
                  <a:ext cx="426600" cy="717480"/>
                </a:xfrm>
                <a:custGeom>
                  <a:avLst/>
                  <a:gdLst/>
                  <a:ahLst/>
                  <a:rect l="l" t="t" r="r" b="b"/>
                  <a:pathLst>
                    <a:path w="580" h="846">
                      <a:moveTo>
                        <a:pt x="297" y="835"/>
                      </a:moveTo>
                      <a:cubicBezTo>
                        <a:pt x="263" y="828"/>
                        <a:pt x="254" y="810"/>
                        <a:pt x="237" y="787"/>
                      </a:cubicBezTo>
                      <a:cubicBezTo>
                        <a:pt x="220" y="764"/>
                        <a:pt x="210" y="738"/>
                        <a:pt x="197" y="695"/>
                      </a:cubicBezTo>
                      <a:cubicBezTo>
                        <a:pt x="184" y="652"/>
                        <a:pt x="174" y="585"/>
                        <a:pt x="161" y="527"/>
                      </a:cubicBezTo>
                      <a:cubicBezTo>
                        <a:pt x="148" y="469"/>
                        <a:pt x="136" y="398"/>
                        <a:pt x="121" y="347"/>
                      </a:cubicBezTo>
                      <a:cubicBezTo>
                        <a:pt x="106" y="296"/>
                        <a:pt x="86" y="258"/>
                        <a:pt x="69" y="219"/>
                      </a:cubicBezTo>
                      <a:cubicBezTo>
                        <a:pt x="52" y="180"/>
                        <a:pt x="28" y="134"/>
                        <a:pt x="17" y="111"/>
                      </a:cubicBezTo>
                      <a:cubicBezTo>
                        <a:pt x="6" y="88"/>
                        <a:pt x="0" y="86"/>
                        <a:pt x="5" y="79"/>
                      </a:cubicBezTo>
                      <a:cubicBezTo>
                        <a:pt x="10" y="72"/>
                        <a:pt x="24" y="65"/>
                        <a:pt x="49" y="71"/>
                      </a:cubicBezTo>
                      <a:cubicBezTo>
                        <a:pt x="74" y="77"/>
                        <a:pt x="118" y="96"/>
                        <a:pt x="153" y="115"/>
                      </a:cubicBezTo>
                      <a:cubicBezTo>
                        <a:pt x="188" y="134"/>
                        <a:pt x="240" y="166"/>
                        <a:pt x="257" y="183"/>
                      </a:cubicBezTo>
                      <a:cubicBezTo>
                        <a:pt x="274" y="200"/>
                        <a:pt x="253" y="212"/>
                        <a:pt x="257" y="215"/>
                      </a:cubicBezTo>
                      <a:cubicBezTo>
                        <a:pt x="261" y="218"/>
                        <a:pt x="279" y="212"/>
                        <a:pt x="281" y="203"/>
                      </a:cubicBezTo>
                      <a:cubicBezTo>
                        <a:pt x="283" y="194"/>
                        <a:pt x="259" y="181"/>
                        <a:pt x="269" y="159"/>
                      </a:cubicBezTo>
                      <a:cubicBezTo>
                        <a:pt x="279" y="137"/>
                        <a:pt x="317" y="95"/>
                        <a:pt x="341" y="71"/>
                      </a:cubicBezTo>
                      <a:cubicBezTo>
                        <a:pt x="365" y="47"/>
                        <a:pt x="396" y="25"/>
                        <a:pt x="413" y="15"/>
                      </a:cubicBezTo>
                      <a:cubicBezTo>
                        <a:pt x="430" y="5"/>
                        <a:pt x="427" y="0"/>
                        <a:pt x="445" y="11"/>
                      </a:cubicBezTo>
                      <a:cubicBezTo>
                        <a:pt x="463" y="22"/>
                        <a:pt x="502" y="67"/>
                        <a:pt x="521" y="83"/>
                      </a:cubicBezTo>
                      <a:cubicBezTo>
                        <a:pt x="540" y="99"/>
                        <a:pt x="549" y="79"/>
                        <a:pt x="557" y="107"/>
                      </a:cubicBezTo>
                      <a:cubicBezTo>
                        <a:pt x="565" y="135"/>
                        <a:pt x="566" y="196"/>
                        <a:pt x="569" y="251"/>
                      </a:cubicBezTo>
                      <a:cubicBezTo>
                        <a:pt x="572" y="306"/>
                        <a:pt x="572" y="381"/>
                        <a:pt x="573" y="439"/>
                      </a:cubicBezTo>
                      <a:cubicBezTo>
                        <a:pt x="574" y="497"/>
                        <a:pt x="580" y="548"/>
                        <a:pt x="573" y="599"/>
                      </a:cubicBezTo>
                      <a:cubicBezTo>
                        <a:pt x="566" y="650"/>
                        <a:pt x="555" y="704"/>
                        <a:pt x="533" y="743"/>
                      </a:cubicBezTo>
                      <a:cubicBezTo>
                        <a:pt x="511" y="782"/>
                        <a:pt x="478" y="816"/>
                        <a:pt x="441" y="831"/>
                      </a:cubicBezTo>
                      <a:cubicBezTo>
                        <a:pt x="404" y="846"/>
                        <a:pt x="331" y="842"/>
                        <a:pt x="297" y="83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21135600">
                  <a:off x="8402400" y="4041360"/>
                  <a:ext cx="207360" cy="317160"/>
                </a:xfrm>
                <a:custGeom>
                  <a:avLst/>
                  <a:gdLst/>
                  <a:ahLst/>
                  <a:rect l="l" t="t" r="r" b="b"/>
                  <a:pathLst>
                    <a:path w="282" h="374">
                      <a:moveTo>
                        <a:pt x="111" y="343"/>
                      </a:moveTo>
                      <a:cubicBezTo>
                        <a:pt x="91" y="327"/>
                        <a:pt x="68" y="292"/>
                        <a:pt x="51" y="271"/>
                      </a:cubicBezTo>
                      <a:cubicBezTo>
                        <a:pt x="34" y="250"/>
                        <a:pt x="18" y="244"/>
                        <a:pt x="11" y="219"/>
                      </a:cubicBezTo>
                      <a:cubicBezTo>
                        <a:pt x="4" y="194"/>
                        <a:pt x="0" y="146"/>
                        <a:pt x="11" y="123"/>
                      </a:cubicBezTo>
                      <a:cubicBezTo>
                        <a:pt x="22" y="100"/>
                        <a:pt x="56" y="93"/>
                        <a:pt x="79" y="79"/>
                      </a:cubicBezTo>
                      <a:cubicBezTo>
                        <a:pt x="102" y="65"/>
                        <a:pt x="134" y="52"/>
                        <a:pt x="151" y="39"/>
                      </a:cubicBezTo>
                      <a:cubicBezTo>
                        <a:pt x="168" y="26"/>
                        <a:pt x="170" y="0"/>
                        <a:pt x="183" y="3"/>
                      </a:cubicBezTo>
                      <a:cubicBezTo>
                        <a:pt x="196" y="6"/>
                        <a:pt x="216" y="41"/>
                        <a:pt x="231" y="55"/>
                      </a:cubicBezTo>
                      <a:cubicBezTo>
                        <a:pt x="246" y="69"/>
                        <a:pt x="268" y="64"/>
                        <a:pt x="275" y="87"/>
                      </a:cubicBezTo>
                      <a:cubicBezTo>
                        <a:pt x="282" y="110"/>
                        <a:pt x="279" y="156"/>
                        <a:pt x="271" y="191"/>
                      </a:cubicBezTo>
                      <a:cubicBezTo>
                        <a:pt x="263" y="226"/>
                        <a:pt x="244" y="266"/>
                        <a:pt x="227" y="295"/>
                      </a:cubicBezTo>
                      <a:cubicBezTo>
                        <a:pt x="210" y="324"/>
                        <a:pt x="190" y="360"/>
                        <a:pt x="171" y="367"/>
                      </a:cubicBezTo>
                      <a:cubicBezTo>
                        <a:pt x="152" y="374"/>
                        <a:pt x="131" y="359"/>
                        <a:pt x="111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8264160" y="4203720"/>
                  <a:ext cx="588600" cy="1668240"/>
                  <a:chOff x="8264160" y="4203720"/>
                  <a:chExt cx="588600" cy="16682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21135600">
                    <a:off x="8513640" y="4208760"/>
                    <a:ext cx="126360" cy="69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815">
                        <a:moveTo>
                          <a:pt x="57" y="610"/>
                        </a:moveTo>
                        <a:cubicBezTo>
                          <a:pt x="55" y="543"/>
                          <a:pt x="54" y="477"/>
                          <a:pt x="49" y="410"/>
                        </a:cubicBezTo>
                        <a:cubicBezTo>
                          <a:pt x="44" y="343"/>
                          <a:pt x="35" y="259"/>
                          <a:pt x="29" y="210"/>
                        </a:cubicBezTo>
                        <a:cubicBezTo>
                          <a:pt x="23" y="161"/>
                          <a:pt x="16" y="138"/>
                          <a:pt x="13" y="114"/>
                        </a:cubicBezTo>
                        <a:cubicBezTo>
                          <a:pt x="10" y="90"/>
                          <a:pt x="0" y="67"/>
                          <a:pt x="9" y="66"/>
                        </a:cubicBezTo>
                        <a:cubicBezTo>
                          <a:pt x="18" y="65"/>
                          <a:pt x="46" y="114"/>
                          <a:pt x="65" y="106"/>
                        </a:cubicBezTo>
                        <a:cubicBezTo>
                          <a:pt x="84" y="98"/>
                          <a:pt x="108" y="31"/>
                          <a:pt x="125" y="18"/>
                        </a:cubicBezTo>
                        <a:cubicBezTo>
                          <a:pt x="142" y="5"/>
                          <a:pt x="166" y="0"/>
                          <a:pt x="169" y="26"/>
                        </a:cubicBezTo>
                        <a:cubicBezTo>
                          <a:pt x="172" y="52"/>
                          <a:pt x="144" y="110"/>
                          <a:pt x="141" y="174"/>
                        </a:cubicBezTo>
                        <a:cubicBezTo>
                          <a:pt x="138" y="238"/>
                          <a:pt x="146" y="347"/>
                          <a:pt x="149" y="410"/>
                        </a:cubicBezTo>
                        <a:cubicBezTo>
                          <a:pt x="152" y="473"/>
                          <a:pt x="158" y="500"/>
                          <a:pt x="157" y="554"/>
                        </a:cubicBezTo>
                        <a:cubicBezTo>
                          <a:pt x="156" y="608"/>
                          <a:pt x="156" y="695"/>
                          <a:pt x="141" y="734"/>
                        </a:cubicBezTo>
                        <a:cubicBezTo>
                          <a:pt x="126" y="773"/>
                          <a:pt x="82" y="815"/>
                          <a:pt x="69" y="790"/>
                        </a:cubicBezTo>
                        <a:cubicBezTo>
                          <a:pt x="56" y="765"/>
                          <a:pt x="68" y="620"/>
                          <a:pt x="65" y="582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29312f"/>
                      </a:gs>
                      <a:gs pos="100000">
                        <a:srgbClr val="596b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21135600">
                    <a:off x="8432280" y="4298760"/>
                    <a:ext cx="381600" cy="59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19" h="705">
                        <a:moveTo>
                          <a:pt x="252" y="605"/>
                        </a:moveTo>
                        <a:cubicBezTo>
                          <a:pt x="261" y="598"/>
                          <a:pt x="258" y="546"/>
                          <a:pt x="272" y="521"/>
                        </a:cubicBezTo>
                        <a:cubicBezTo>
                          <a:pt x="286" y="496"/>
                          <a:pt x="314" y="479"/>
                          <a:pt x="336" y="453"/>
                        </a:cubicBezTo>
                        <a:cubicBezTo>
                          <a:pt x="358" y="427"/>
                          <a:pt x="381" y="394"/>
                          <a:pt x="404" y="365"/>
                        </a:cubicBezTo>
                        <a:cubicBezTo>
                          <a:pt x="427" y="336"/>
                          <a:pt x="456" y="314"/>
                          <a:pt x="472" y="277"/>
                        </a:cubicBezTo>
                        <a:cubicBezTo>
                          <a:pt x="488" y="240"/>
                          <a:pt x="496" y="171"/>
                          <a:pt x="500" y="141"/>
                        </a:cubicBezTo>
                        <a:cubicBezTo>
                          <a:pt x="504" y="111"/>
                          <a:pt x="494" y="77"/>
                          <a:pt x="496" y="97"/>
                        </a:cubicBezTo>
                        <a:cubicBezTo>
                          <a:pt x="498" y="117"/>
                          <a:pt x="519" y="215"/>
                          <a:pt x="512" y="261"/>
                        </a:cubicBezTo>
                        <a:cubicBezTo>
                          <a:pt x="505" y="307"/>
                          <a:pt x="480" y="339"/>
                          <a:pt x="456" y="373"/>
                        </a:cubicBezTo>
                        <a:cubicBezTo>
                          <a:pt x="432" y="407"/>
                          <a:pt x="391" y="430"/>
                          <a:pt x="368" y="465"/>
                        </a:cubicBezTo>
                        <a:cubicBezTo>
                          <a:pt x="345" y="500"/>
                          <a:pt x="326" y="548"/>
                          <a:pt x="316" y="581"/>
                        </a:cubicBezTo>
                        <a:cubicBezTo>
                          <a:pt x="306" y="614"/>
                          <a:pt x="317" y="644"/>
                          <a:pt x="308" y="665"/>
                        </a:cubicBezTo>
                        <a:cubicBezTo>
                          <a:pt x="299" y="686"/>
                          <a:pt x="277" y="705"/>
                          <a:pt x="264" y="705"/>
                        </a:cubicBezTo>
                        <a:cubicBezTo>
                          <a:pt x="251" y="705"/>
                          <a:pt x="244" y="666"/>
                          <a:pt x="232" y="665"/>
                        </a:cubicBezTo>
                        <a:cubicBezTo>
                          <a:pt x="220" y="664"/>
                          <a:pt x="206" y="700"/>
                          <a:pt x="192" y="701"/>
                        </a:cubicBezTo>
                        <a:cubicBezTo>
                          <a:pt x="178" y="702"/>
                          <a:pt x="159" y="698"/>
                          <a:pt x="148" y="669"/>
                        </a:cubicBezTo>
                        <a:cubicBezTo>
                          <a:pt x="137" y="640"/>
                          <a:pt x="139" y="575"/>
                          <a:pt x="128" y="529"/>
                        </a:cubicBezTo>
                        <a:cubicBezTo>
                          <a:pt x="117" y="483"/>
                          <a:pt x="103" y="435"/>
                          <a:pt x="84" y="393"/>
                        </a:cubicBezTo>
                        <a:cubicBezTo>
                          <a:pt x="65" y="351"/>
                          <a:pt x="29" y="327"/>
                          <a:pt x="16" y="277"/>
                        </a:cubicBezTo>
                        <a:cubicBezTo>
                          <a:pt x="3" y="227"/>
                          <a:pt x="0" y="137"/>
                          <a:pt x="4" y="93"/>
                        </a:cubicBezTo>
                        <a:cubicBezTo>
                          <a:pt x="8" y="49"/>
                          <a:pt x="36" y="0"/>
                          <a:pt x="40" y="13"/>
                        </a:cubicBezTo>
                        <a:cubicBezTo>
                          <a:pt x="44" y="26"/>
                          <a:pt x="19" y="118"/>
                          <a:pt x="28" y="169"/>
                        </a:cubicBezTo>
                        <a:cubicBezTo>
                          <a:pt x="37" y="220"/>
                          <a:pt x="68" y="280"/>
                          <a:pt x="92" y="321"/>
                        </a:cubicBezTo>
                        <a:cubicBezTo>
                          <a:pt x="116" y="362"/>
                          <a:pt x="151" y="376"/>
                          <a:pt x="172" y="417"/>
                        </a:cubicBezTo>
                        <a:cubicBezTo>
                          <a:pt x="193" y="458"/>
                          <a:pt x="202" y="535"/>
                          <a:pt x="216" y="565"/>
                        </a:cubicBezTo>
                        <a:cubicBezTo>
                          <a:pt x="230" y="595"/>
                          <a:pt x="243" y="612"/>
                          <a:pt x="252" y="6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96b66"/>
                      </a:gs>
                      <a:gs pos="100000">
                        <a:srgbClr val="3540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21135600">
                    <a:off x="8327520" y="4878000"/>
                    <a:ext cx="41580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1144">
                        <a:moveTo>
                          <a:pt x="342" y="1128"/>
                        </a:moveTo>
                        <a:cubicBezTo>
                          <a:pt x="359" y="1123"/>
                          <a:pt x="402" y="1087"/>
                          <a:pt x="414" y="1060"/>
                        </a:cubicBezTo>
                        <a:cubicBezTo>
                          <a:pt x="426" y="1033"/>
                          <a:pt x="407" y="1004"/>
                          <a:pt x="414" y="964"/>
                        </a:cubicBezTo>
                        <a:cubicBezTo>
                          <a:pt x="421" y="924"/>
                          <a:pt x="440" y="869"/>
                          <a:pt x="458" y="820"/>
                        </a:cubicBezTo>
                        <a:cubicBezTo>
                          <a:pt x="476" y="771"/>
                          <a:pt x="507" y="720"/>
                          <a:pt x="522" y="672"/>
                        </a:cubicBezTo>
                        <a:cubicBezTo>
                          <a:pt x="537" y="624"/>
                          <a:pt x="547" y="574"/>
                          <a:pt x="546" y="532"/>
                        </a:cubicBezTo>
                        <a:cubicBezTo>
                          <a:pt x="545" y="490"/>
                          <a:pt x="519" y="429"/>
                          <a:pt x="514" y="420"/>
                        </a:cubicBezTo>
                        <a:cubicBezTo>
                          <a:pt x="509" y="411"/>
                          <a:pt x="515" y="450"/>
                          <a:pt x="514" y="480"/>
                        </a:cubicBezTo>
                        <a:cubicBezTo>
                          <a:pt x="513" y="510"/>
                          <a:pt x="518" y="551"/>
                          <a:pt x="506" y="600"/>
                        </a:cubicBezTo>
                        <a:cubicBezTo>
                          <a:pt x="494" y="649"/>
                          <a:pt x="459" y="732"/>
                          <a:pt x="442" y="776"/>
                        </a:cubicBezTo>
                        <a:cubicBezTo>
                          <a:pt x="425" y="820"/>
                          <a:pt x="407" y="881"/>
                          <a:pt x="406" y="864"/>
                        </a:cubicBezTo>
                        <a:cubicBezTo>
                          <a:pt x="405" y="847"/>
                          <a:pt x="424" y="737"/>
                          <a:pt x="434" y="672"/>
                        </a:cubicBezTo>
                        <a:cubicBezTo>
                          <a:pt x="444" y="607"/>
                          <a:pt x="455" y="541"/>
                          <a:pt x="466" y="472"/>
                        </a:cubicBezTo>
                        <a:cubicBezTo>
                          <a:pt x="477" y="403"/>
                          <a:pt x="490" y="321"/>
                          <a:pt x="502" y="256"/>
                        </a:cubicBezTo>
                        <a:cubicBezTo>
                          <a:pt x="514" y="191"/>
                          <a:pt x="529" y="113"/>
                          <a:pt x="538" y="80"/>
                        </a:cubicBezTo>
                        <a:cubicBezTo>
                          <a:pt x="547" y="47"/>
                          <a:pt x="565" y="65"/>
                          <a:pt x="558" y="56"/>
                        </a:cubicBezTo>
                        <a:cubicBezTo>
                          <a:pt x="551" y="47"/>
                          <a:pt x="516" y="31"/>
                          <a:pt x="498" y="24"/>
                        </a:cubicBezTo>
                        <a:cubicBezTo>
                          <a:pt x="480" y="17"/>
                          <a:pt x="455" y="0"/>
                          <a:pt x="446" y="16"/>
                        </a:cubicBezTo>
                        <a:cubicBezTo>
                          <a:pt x="437" y="32"/>
                          <a:pt x="451" y="70"/>
                          <a:pt x="446" y="120"/>
                        </a:cubicBezTo>
                        <a:cubicBezTo>
                          <a:pt x="441" y="170"/>
                          <a:pt x="431" y="229"/>
                          <a:pt x="418" y="316"/>
                        </a:cubicBezTo>
                        <a:cubicBezTo>
                          <a:pt x="405" y="403"/>
                          <a:pt x="382" y="551"/>
                          <a:pt x="366" y="644"/>
                        </a:cubicBezTo>
                        <a:cubicBezTo>
                          <a:pt x="350" y="737"/>
                          <a:pt x="332" y="813"/>
                          <a:pt x="322" y="872"/>
                        </a:cubicBezTo>
                        <a:cubicBezTo>
                          <a:pt x="312" y="931"/>
                          <a:pt x="321" y="1000"/>
                          <a:pt x="306" y="1000"/>
                        </a:cubicBezTo>
                        <a:cubicBezTo>
                          <a:pt x="291" y="1000"/>
                          <a:pt x="263" y="914"/>
                          <a:pt x="234" y="872"/>
                        </a:cubicBezTo>
                        <a:cubicBezTo>
                          <a:pt x="205" y="830"/>
                          <a:pt x="162" y="787"/>
                          <a:pt x="134" y="748"/>
                        </a:cubicBezTo>
                        <a:cubicBezTo>
                          <a:pt x="106" y="709"/>
                          <a:pt x="84" y="675"/>
                          <a:pt x="66" y="636"/>
                        </a:cubicBezTo>
                        <a:cubicBezTo>
                          <a:pt x="48" y="597"/>
                          <a:pt x="34" y="543"/>
                          <a:pt x="26" y="512"/>
                        </a:cubicBezTo>
                        <a:cubicBezTo>
                          <a:pt x="18" y="481"/>
                          <a:pt x="21" y="445"/>
                          <a:pt x="18" y="452"/>
                        </a:cubicBezTo>
                        <a:cubicBezTo>
                          <a:pt x="15" y="459"/>
                          <a:pt x="0" y="513"/>
                          <a:pt x="6" y="552"/>
                        </a:cubicBezTo>
                        <a:cubicBezTo>
                          <a:pt x="12" y="591"/>
                          <a:pt x="29" y="639"/>
                          <a:pt x="54" y="688"/>
                        </a:cubicBezTo>
                        <a:cubicBezTo>
                          <a:pt x="79" y="737"/>
                          <a:pt x="131" y="797"/>
                          <a:pt x="154" y="844"/>
                        </a:cubicBezTo>
                        <a:cubicBezTo>
                          <a:pt x="177" y="891"/>
                          <a:pt x="187" y="929"/>
                          <a:pt x="190" y="968"/>
                        </a:cubicBezTo>
                        <a:cubicBezTo>
                          <a:pt x="193" y="1007"/>
                          <a:pt x="169" y="1048"/>
                          <a:pt x="174" y="1076"/>
                        </a:cubicBezTo>
                        <a:cubicBezTo>
                          <a:pt x="179" y="1104"/>
                          <a:pt x="203" y="1128"/>
                          <a:pt x="222" y="1136"/>
                        </a:cubicBezTo>
                        <a:cubicBezTo>
                          <a:pt x="241" y="1144"/>
                          <a:pt x="271" y="1131"/>
                          <a:pt x="286" y="1124"/>
                        </a:cubicBezTo>
                        <a:cubicBezTo>
                          <a:pt x="301" y="1117"/>
                          <a:pt x="305" y="1090"/>
                          <a:pt x="314" y="1092"/>
                        </a:cubicBezTo>
                        <a:cubicBezTo>
                          <a:pt x="323" y="1094"/>
                          <a:pt x="325" y="1133"/>
                          <a:pt x="342" y="11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96b66"/>
                      </a:gs>
                      <a:gs pos="100000">
                        <a:srgbClr val="3540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21135600">
                    <a:off x="8563680" y="4635000"/>
                    <a:ext cx="13968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365">
                        <a:moveTo>
                          <a:pt x="17" y="321"/>
                        </a:moveTo>
                        <a:cubicBezTo>
                          <a:pt x="0" y="307"/>
                          <a:pt x="2" y="300"/>
                          <a:pt x="1" y="277"/>
                        </a:cubicBezTo>
                        <a:cubicBezTo>
                          <a:pt x="0" y="254"/>
                          <a:pt x="7" y="210"/>
                          <a:pt x="9" y="181"/>
                        </a:cubicBezTo>
                        <a:cubicBezTo>
                          <a:pt x="11" y="152"/>
                          <a:pt x="8" y="128"/>
                          <a:pt x="13" y="101"/>
                        </a:cubicBezTo>
                        <a:cubicBezTo>
                          <a:pt x="18" y="74"/>
                          <a:pt x="27" y="16"/>
                          <a:pt x="37" y="21"/>
                        </a:cubicBezTo>
                        <a:cubicBezTo>
                          <a:pt x="47" y="26"/>
                          <a:pt x="70" y="101"/>
                          <a:pt x="73" y="133"/>
                        </a:cubicBezTo>
                        <a:cubicBezTo>
                          <a:pt x="76" y="165"/>
                          <a:pt x="56" y="200"/>
                          <a:pt x="57" y="213"/>
                        </a:cubicBezTo>
                        <a:cubicBezTo>
                          <a:pt x="58" y="226"/>
                          <a:pt x="74" y="227"/>
                          <a:pt x="81" y="213"/>
                        </a:cubicBezTo>
                        <a:cubicBezTo>
                          <a:pt x="88" y="199"/>
                          <a:pt x="86" y="148"/>
                          <a:pt x="97" y="129"/>
                        </a:cubicBezTo>
                        <a:cubicBezTo>
                          <a:pt x="108" y="110"/>
                          <a:pt x="134" y="118"/>
                          <a:pt x="145" y="97"/>
                        </a:cubicBezTo>
                        <a:cubicBezTo>
                          <a:pt x="156" y="76"/>
                          <a:pt x="154" y="10"/>
                          <a:pt x="161" y="5"/>
                        </a:cubicBezTo>
                        <a:cubicBezTo>
                          <a:pt x="168" y="0"/>
                          <a:pt x="188" y="41"/>
                          <a:pt x="189" y="69"/>
                        </a:cubicBezTo>
                        <a:cubicBezTo>
                          <a:pt x="190" y="97"/>
                          <a:pt x="168" y="139"/>
                          <a:pt x="165" y="173"/>
                        </a:cubicBezTo>
                        <a:cubicBezTo>
                          <a:pt x="162" y="207"/>
                          <a:pt x="175" y="246"/>
                          <a:pt x="169" y="273"/>
                        </a:cubicBezTo>
                        <a:cubicBezTo>
                          <a:pt x="163" y="300"/>
                          <a:pt x="140" y="318"/>
                          <a:pt x="129" y="333"/>
                        </a:cubicBezTo>
                        <a:cubicBezTo>
                          <a:pt x="118" y="348"/>
                          <a:pt x="124" y="365"/>
                          <a:pt x="105" y="361"/>
                        </a:cubicBezTo>
                        <a:cubicBezTo>
                          <a:pt x="86" y="357"/>
                          <a:pt x="34" y="335"/>
                          <a:pt x="17" y="32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96b66"/>
                      </a:gs>
                      <a:gs pos="100000">
                        <a:srgbClr val="71896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7835760" y="5663880"/>
                <a:ext cx="1133280" cy="1015920"/>
                <a:chOff x="7835760" y="5663880"/>
                <a:chExt cx="1133280" cy="10159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714520" y="6075360"/>
                  <a:ext cx="254520" cy="381960"/>
                </a:xfrm>
                <a:custGeom>
                  <a:avLst/>
                  <a:gdLst/>
                  <a:ahLst/>
                  <a:rect l="l" t="t" r="r" b="b"/>
                  <a:pathLst>
                    <a:path w="855" h="1313">
                      <a:moveTo>
                        <a:pt x="537" y="10"/>
                      </a:moveTo>
                      <a:cubicBezTo>
                        <a:pt x="582" y="0"/>
                        <a:pt x="640" y="55"/>
                        <a:pt x="657" y="76"/>
                      </a:cubicBezTo>
                      <a:cubicBezTo>
                        <a:pt x="674" y="97"/>
                        <a:pt x="625" y="119"/>
                        <a:pt x="639" y="136"/>
                      </a:cubicBezTo>
                      <a:cubicBezTo>
                        <a:pt x="653" y="153"/>
                        <a:pt x="720" y="153"/>
                        <a:pt x="741" y="178"/>
                      </a:cubicBezTo>
                      <a:cubicBezTo>
                        <a:pt x="762" y="203"/>
                        <a:pt x="769" y="264"/>
                        <a:pt x="765" y="286"/>
                      </a:cubicBezTo>
                      <a:cubicBezTo>
                        <a:pt x="761" y="308"/>
                        <a:pt x="716" y="290"/>
                        <a:pt x="717" y="310"/>
                      </a:cubicBezTo>
                      <a:cubicBezTo>
                        <a:pt x="718" y="330"/>
                        <a:pt x="769" y="383"/>
                        <a:pt x="771" y="406"/>
                      </a:cubicBezTo>
                      <a:cubicBezTo>
                        <a:pt x="773" y="429"/>
                        <a:pt x="721" y="428"/>
                        <a:pt x="729" y="448"/>
                      </a:cubicBezTo>
                      <a:cubicBezTo>
                        <a:pt x="737" y="468"/>
                        <a:pt x="809" y="503"/>
                        <a:pt x="819" y="526"/>
                      </a:cubicBezTo>
                      <a:cubicBezTo>
                        <a:pt x="829" y="549"/>
                        <a:pt x="783" y="562"/>
                        <a:pt x="789" y="586"/>
                      </a:cubicBezTo>
                      <a:cubicBezTo>
                        <a:pt x="795" y="610"/>
                        <a:pt x="855" y="638"/>
                        <a:pt x="855" y="670"/>
                      </a:cubicBezTo>
                      <a:cubicBezTo>
                        <a:pt x="855" y="702"/>
                        <a:pt x="799" y="746"/>
                        <a:pt x="789" y="778"/>
                      </a:cubicBezTo>
                      <a:cubicBezTo>
                        <a:pt x="779" y="810"/>
                        <a:pt x="808" y="841"/>
                        <a:pt x="795" y="862"/>
                      </a:cubicBezTo>
                      <a:cubicBezTo>
                        <a:pt x="782" y="883"/>
                        <a:pt x="725" y="883"/>
                        <a:pt x="711" y="904"/>
                      </a:cubicBezTo>
                      <a:cubicBezTo>
                        <a:pt x="697" y="925"/>
                        <a:pt x="729" y="965"/>
                        <a:pt x="711" y="988"/>
                      </a:cubicBezTo>
                      <a:cubicBezTo>
                        <a:pt x="693" y="1011"/>
                        <a:pt x="626" y="1019"/>
                        <a:pt x="603" y="1042"/>
                      </a:cubicBezTo>
                      <a:cubicBezTo>
                        <a:pt x="580" y="1065"/>
                        <a:pt x="582" y="1102"/>
                        <a:pt x="573" y="1126"/>
                      </a:cubicBezTo>
                      <a:cubicBezTo>
                        <a:pt x="564" y="1150"/>
                        <a:pt x="570" y="1176"/>
                        <a:pt x="549" y="1186"/>
                      </a:cubicBezTo>
                      <a:cubicBezTo>
                        <a:pt x="528" y="1196"/>
                        <a:pt x="470" y="1174"/>
                        <a:pt x="447" y="1186"/>
                      </a:cubicBezTo>
                      <a:cubicBezTo>
                        <a:pt x="424" y="1198"/>
                        <a:pt x="445" y="1245"/>
                        <a:pt x="411" y="1258"/>
                      </a:cubicBezTo>
                      <a:cubicBezTo>
                        <a:pt x="377" y="1271"/>
                        <a:pt x="304" y="1262"/>
                        <a:pt x="243" y="1264"/>
                      </a:cubicBezTo>
                      <a:cubicBezTo>
                        <a:pt x="182" y="1266"/>
                        <a:pt x="81" y="1313"/>
                        <a:pt x="45" y="1270"/>
                      </a:cubicBezTo>
                      <a:cubicBezTo>
                        <a:pt x="9" y="1227"/>
                        <a:pt x="0" y="1098"/>
                        <a:pt x="27" y="1006"/>
                      </a:cubicBezTo>
                      <a:cubicBezTo>
                        <a:pt x="54" y="914"/>
                        <a:pt x="178" y="814"/>
                        <a:pt x="207" y="718"/>
                      </a:cubicBezTo>
                      <a:cubicBezTo>
                        <a:pt x="236" y="622"/>
                        <a:pt x="171" y="527"/>
                        <a:pt x="201" y="430"/>
                      </a:cubicBezTo>
                      <a:cubicBezTo>
                        <a:pt x="231" y="333"/>
                        <a:pt x="332" y="206"/>
                        <a:pt x="387" y="136"/>
                      </a:cubicBezTo>
                      <a:cubicBezTo>
                        <a:pt x="442" y="66"/>
                        <a:pt x="492" y="20"/>
                        <a:pt x="537" y="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458560" y="5701320"/>
                  <a:ext cx="442800" cy="537480"/>
                </a:xfrm>
                <a:custGeom>
                  <a:avLst/>
                  <a:gdLst/>
                  <a:ahLst/>
                  <a:rect l="l" t="t" r="r" b="b"/>
                  <a:pathLst>
                    <a:path w="1487" h="1847">
                      <a:moveTo>
                        <a:pt x="64" y="497"/>
                      </a:moveTo>
                      <a:cubicBezTo>
                        <a:pt x="73" y="413"/>
                        <a:pt x="93" y="356"/>
                        <a:pt x="124" y="317"/>
                      </a:cubicBezTo>
                      <a:cubicBezTo>
                        <a:pt x="155" y="278"/>
                        <a:pt x="215" y="281"/>
                        <a:pt x="250" y="263"/>
                      </a:cubicBezTo>
                      <a:cubicBezTo>
                        <a:pt x="285" y="245"/>
                        <a:pt x="311" y="219"/>
                        <a:pt x="334" y="209"/>
                      </a:cubicBezTo>
                      <a:cubicBezTo>
                        <a:pt x="357" y="199"/>
                        <a:pt x="376" y="221"/>
                        <a:pt x="388" y="203"/>
                      </a:cubicBezTo>
                      <a:cubicBezTo>
                        <a:pt x="400" y="185"/>
                        <a:pt x="384" y="125"/>
                        <a:pt x="406" y="101"/>
                      </a:cubicBezTo>
                      <a:cubicBezTo>
                        <a:pt x="428" y="77"/>
                        <a:pt x="490" y="72"/>
                        <a:pt x="520" y="59"/>
                      </a:cubicBezTo>
                      <a:cubicBezTo>
                        <a:pt x="550" y="46"/>
                        <a:pt x="560" y="18"/>
                        <a:pt x="586" y="23"/>
                      </a:cubicBezTo>
                      <a:cubicBezTo>
                        <a:pt x="612" y="28"/>
                        <a:pt x="651" y="91"/>
                        <a:pt x="676" y="89"/>
                      </a:cubicBezTo>
                      <a:cubicBezTo>
                        <a:pt x="701" y="87"/>
                        <a:pt x="714" y="22"/>
                        <a:pt x="736" y="11"/>
                      </a:cubicBezTo>
                      <a:cubicBezTo>
                        <a:pt x="758" y="0"/>
                        <a:pt x="793" y="12"/>
                        <a:pt x="808" y="23"/>
                      </a:cubicBezTo>
                      <a:cubicBezTo>
                        <a:pt x="823" y="34"/>
                        <a:pt x="815" y="72"/>
                        <a:pt x="826" y="77"/>
                      </a:cubicBezTo>
                      <a:cubicBezTo>
                        <a:pt x="837" y="82"/>
                        <a:pt x="864" y="47"/>
                        <a:pt x="874" y="53"/>
                      </a:cubicBezTo>
                      <a:cubicBezTo>
                        <a:pt x="884" y="59"/>
                        <a:pt x="875" y="110"/>
                        <a:pt x="886" y="113"/>
                      </a:cubicBezTo>
                      <a:cubicBezTo>
                        <a:pt x="897" y="116"/>
                        <a:pt x="926" y="68"/>
                        <a:pt x="940" y="71"/>
                      </a:cubicBezTo>
                      <a:cubicBezTo>
                        <a:pt x="954" y="74"/>
                        <a:pt x="952" y="118"/>
                        <a:pt x="970" y="131"/>
                      </a:cubicBezTo>
                      <a:cubicBezTo>
                        <a:pt x="988" y="144"/>
                        <a:pt x="1040" y="133"/>
                        <a:pt x="1048" y="149"/>
                      </a:cubicBezTo>
                      <a:cubicBezTo>
                        <a:pt x="1056" y="165"/>
                        <a:pt x="1013" y="211"/>
                        <a:pt x="1018" y="227"/>
                      </a:cubicBezTo>
                      <a:cubicBezTo>
                        <a:pt x="1023" y="243"/>
                        <a:pt x="1068" y="231"/>
                        <a:pt x="1078" y="245"/>
                      </a:cubicBezTo>
                      <a:cubicBezTo>
                        <a:pt x="1088" y="259"/>
                        <a:pt x="1066" y="299"/>
                        <a:pt x="1078" y="311"/>
                      </a:cubicBezTo>
                      <a:cubicBezTo>
                        <a:pt x="1090" y="323"/>
                        <a:pt x="1132" y="308"/>
                        <a:pt x="1150" y="317"/>
                      </a:cubicBezTo>
                      <a:cubicBezTo>
                        <a:pt x="1168" y="326"/>
                        <a:pt x="1165" y="356"/>
                        <a:pt x="1186" y="365"/>
                      </a:cubicBezTo>
                      <a:cubicBezTo>
                        <a:pt x="1207" y="374"/>
                        <a:pt x="1250" y="362"/>
                        <a:pt x="1276" y="371"/>
                      </a:cubicBezTo>
                      <a:cubicBezTo>
                        <a:pt x="1302" y="380"/>
                        <a:pt x="1336" y="399"/>
                        <a:pt x="1342" y="419"/>
                      </a:cubicBezTo>
                      <a:cubicBezTo>
                        <a:pt x="1348" y="439"/>
                        <a:pt x="1305" y="480"/>
                        <a:pt x="1312" y="491"/>
                      </a:cubicBezTo>
                      <a:cubicBezTo>
                        <a:pt x="1319" y="502"/>
                        <a:pt x="1374" y="472"/>
                        <a:pt x="1384" y="485"/>
                      </a:cubicBezTo>
                      <a:cubicBezTo>
                        <a:pt x="1394" y="498"/>
                        <a:pt x="1367" y="547"/>
                        <a:pt x="1372" y="569"/>
                      </a:cubicBezTo>
                      <a:cubicBezTo>
                        <a:pt x="1377" y="591"/>
                        <a:pt x="1407" y="595"/>
                        <a:pt x="1414" y="617"/>
                      </a:cubicBezTo>
                      <a:cubicBezTo>
                        <a:pt x="1421" y="639"/>
                        <a:pt x="1404" y="685"/>
                        <a:pt x="1414" y="701"/>
                      </a:cubicBezTo>
                      <a:cubicBezTo>
                        <a:pt x="1424" y="717"/>
                        <a:pt x="1473" y="693"/>
                        <a:pt x="1474" y="713"/>
                      </a:cubicBezTo>
                      <a:cubicBezTo>
                        <a:pt x="1475" y="733"/>
                        <a:pt x="1426" y="792"/>
                        <a:pt x="1420" y="821"/>
                      </a:cubicBezTo>
                      <a:cubicBezTo>
                        <a:pt x="1414" y="850"/>
                        <a:pt x="1432" y="865"/>
                        <a:pt x="1438" y="887"/>
                      </a:cubicBezTo>
                      <a:cubicBezTo>
                        <a:pt x="1444" y="909"/>
                        <a:pt x="1462" y="932"/>
                        <a:pt x="1456" y="953"/>
                      </a:cubicBezTo>
                      <a:cubicBezTo>
                        <a:pt x="1450" y="974"/>
                        <a:pt x="1406" y="994"/>
                        <a:pt x="1402" y="1013"/>
                      </a:cubicBezTo>
                      <a:cubicBezTo>
                        <a:pt x="1398" y="1032"/>
                        <a:pt x="1432" y="1050"/>
                        <a:pt x="1432" y="1067"/>
                      </a:cubicBezTo>
                      <a:cubicBezTo>
                        <a:pt x="1432" y="1084"/>
                        <a:pt x="1394" y="1093"/>
                        <a:pt x="1402" y="1115"/>
                      </a:cubicBezTo>
                      <a:cubicBezTo>
                        <a:pt x="1410" y="1137"/>
                        <a:pt x="1473" y="1176"/>
                        <a:pt x="1480" y="1199"/>
                      </a:cubicBezTo>
                      <a:cubicBezTo>
                        <a:pt x="1487" y="1222"/>
                        <a:pt x="1445" y="1236"/>
                        <a:pt x="1444" y="1253"/>
                      </a:cubicBezTo>
                      <a:cubicBezTo>
                        <a:pt x="1443" y="1270"/>
                        <a:pt x="1487" y="1275"/>
                        <a:pt x="1474" y="1301"/>
                      </a:cubicBezTo>
                      <a:cubicBezTo>
                        <a:pt x="1461" y="1327"/>
                        <a:pt x="1392" y="1387"/>
                        <a:pt x="1366" y="1409"/>
                      </a:cubicBezTo>
                      <a:cubicBezTo>
                        <a:pt x="1340" y="1431"/>
                        <a:pt x="1315" y="1419"/>
                        <a:pt x="1318" y="1433"/>
                      </a:cubicBezTo>
                      <a:cubicBezTo>
                        <a:pt x="1321" y="1447"/>
                        <a:pt x="1381" y="1463"/>
                        <a:pt x="1384" y="1493"/>
                      </a:cubicBezTo>
                      <a:cubicBezTo>
                        <a:pt x="1387" y="1523"/>
                        <a:pt x="1360" y="1588"/>
                        <a:pt x="1336" y="1613"/>
                      </a:cubicBezTo>
                      <a:cubicBezTo>
                        <a:pt x="1312" y="1638"/>
                        <a:pt x="1264" y="1627"/>
                        <a:pt x="1240" y="1643"/>
                      </a:cubicBezTo>
                      <a:cubicBezTo>
                        <a:pt x="1216" y="1659"/>
                        <a:pt x="1217" y="1690"/>
                        <a:pt x="1192" y="1709"/>
                      </a:cubicBezTo>
                      <a:cubicBezTo>
                        <a:pt x="1167" y="1728"/>
                        <a:pt x="1148" y="1745"/>
                        <a:pt x="1090" y="1757"/>
                      </a:cubicBezTo>
                      <a:cubicBezTo>
                        <a:pt x="1032" y="1769"/>
                        <a:pt x="944" y="1847"/>
                        <a:pt x="844" y="1781"/>
                      </a:cubicBezTo>
                      <a:cubicBezTo>
                        <a:pt x="744" y="1715"/>
                        <a:pt x="619" y="1521"/>
                        <a:pt x="490" y="1361"/>
                      </a:cubicBezTo>
                      <a:cubicBezTo>
                        <a:pt x="361" y="1201"/>
                        <a:pt x="140" y="966"/>
                        <a:pt x="70" y="821"/>
                      </a:cubicBezTo>
                      <a:cubicBezTo>
                        <a:pt x="0" y="676"/>
                        <a:pt x="55" y="581"/>
                        <a:pt x="64" y="49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835760" y="5663880"/>
                  <a:ext cx="557280" cy="480600"/>
                </a:xfrm>
                <a:custGeom>
                  <a:avLst/>
                  <a:gdLst/>
                  <a:ahLst/>
                  <a:rect l="l" t="t" r="r" b="b"/>
                  <a:pathLst>
                    <a:path w="1871" h="1652">
                      <a:moveTo>
                        <a:pt x="367" y="1622"/>
                      </a:moveTo>
                      <a:cubicBezTo>
                        <a:pt x="279" y="1652"/>
                        <a:pt x="221" y="1581"/>
                        <a:pt x="193" y="1550"/>
                      </a:cubicBezTo>
                      <a:cubicBezTo>
                        <a:pt x="165" y="1519"/>
                        <a:pt x="212" y="1457"/>
                        <a:pt x="199" y="1436"/>
                      </a:cubicBezTo>
                      <a:cubicBezTo>
                        <a:pt x="186" y="1415"/>
                        <a:pt x="143" y="1445"/>
                        <a:pt x="115" y="1424"/>
                      </a:cubicBezTo>
                      <a:cubicBezTo>
                        <a:pt x="87" y="1403"/>
                        <a:pt x="31" y="1342"/>
                        <a:pt x="31" y="1310"/>
                      </a:cubicBezTo>
                      <a:cubicBezTo>
                        <a:pt x="31" y="1278"/>
                        <a:pt x="116" y="1252"/>
                        <a:pt x="115" y="1232"/>
                      </a:cubicBezTo>
                      <a:cubicBezTo>
                        <a:pt x="114" y="1212"/>
                        <a:pt x="36" y="1206"/>
                        <a:pt x="25" y="1190"/>
                      </a:cubicBezTo>
                      <a:cubicBezTo>
                        <a:pt x="14" y="1174"/>
                        <a:pt x="53" y="1152"/>
                        <a:pt x="49" y="1136"/>
                      </a:cubicBezTo>
                      <a:cubicBezTo>
                        <a:pt x="45" y="1120"/>
                        <a:pt x="2" y="1109"/>
                        <a:pt x="1" y="1094"/>
                      </a:cubicBezTo>
                      <a:cubicBezTo>
                        <a:pt x="0" y="1079"/>
                        <a:pt x="40" y="1059"/>
                        <a:pt x="43" y="1046"/>
                      </a:cubicBezTo>
                      <a:cubicBezTo>
                        <a:pt x="46" y="1033"/>
                        <a:pt x="10" y="1025"/>
                        <a:pt x="19" y="1016"/>
                      </a:cubicBezTo>
                      <a:cubicBezTo>
                        <a:pt x="28" y="1007"/>
                        <a:pt x="90" y="1012"/>
                        <a:pt x="97" y="992"/>
                      </a:cubicBezTo>
                      <a:cubicBezTo>
                        <a:pt x="104" y="972"/>
                        <a:pt x="59" y="916"/>
                        <a:pt x="61" y="896"/>
                      </a:cubicBezTo>
                      <a:cubicBezTo>
                        <a:pt x="63" y="876"/>
                        <a:pt x="103" y="888"/>
                        <a:pt x="109" y="872"/>
                      </a:cubicBezTo>
                      <a:cubicBezTo>
                        <a:pt x="115" y="856"/>
                        <a:pt x="83" y="819"/>
                        <a:pt x="97" y="800"/>
                      </a:cubicBezTo>
                      <a:cubicBezTo>
                        <a:pt x="111" y="781"/>
                        <a:pt x="185" y="772"/>
                        <a:pt x="193" y="758"/>
                      </a:cubicBezTo>
                      <a:cubicBezTo>
                        <a:pt x="201" y="744"/>
                        <a:pt x="147" y="735"/>
                        <a:pt x="145" y="716"/>
                      </a:cubicBezTo>
                      <a:cubicBezTo>
                        <a:pt x="143" y="697"/>
                        <a:pt x="171" y="668"/>
                        <a:pt x="181" y="644"/>
                      </a:cubicBezTo>
                      <a:cubicBezTo>
                        <a:pt x="191" y="620"/>
                        <a:pt x="190" y="587"/>
                        <a:pt x="205" y="572"/>
                      </a:cubicBezTo>
                      <a:cubicBezTo>
                        <a:pt x="220" y="557"/>
                        <a:pt x="266" y="567"/>
                        <a:pt x="271" y="554"/>
                      </a:cubicBezTo>
                      <a:cubicBezTo>
                        <a:pt x="276" y="541"/>
                        <a:pt x="229" y="512"/>
                        <a:pt x="235" y="494"/>
                      </a:cubicBezTo>
                      <a:cubicBezTo>
                        <a:pt x="241" y="476"/>
                        <a:pt x="298" y="474"/>
                        <a:pt x="307" y="446"/>
                      </a:cubicBezTo>
                      <a:cubicBezTo>
                        <a:pt x="316" y="418"/>
                        <a:pt x="284" y="345"/>
                        <a:pt x="289" y="326"/>
                      </a:cubicBezTo>
                      <a:cubicBezTo>
                        <a:pt x="294" y="307"/>
                        <a:pt x="327" y="338"/>
                        <a:pt x="337" y="332"/>
                      </a:cubicBezTo>
                      <a:cubicBezTo>
                        <a:pt x="347" y="326"/>
                        <a:pt x="334" y="297"/>
                        <a:pt x="349" y="290"/>
                      </a:cubicBezTo>
                      <a:cubicBezTo>
                        <a:pt x="364" y="283"/>
                        <a:pt x="417" y="302"/>
                        <a:pt x="427" y="290"/>
                      </a:cubicBezTo>
                      <a:cubicBezTo>
                        <a:pt x="437" y="278"/>
                        <a:pt x="394" y="220"/>
                        <a:pt x="409" y="218"/>
                      </a:cubicBezTo>
                      <a:cubicBezTo>
                        <a:pt x="424" y="216"/>
                        <a:pt x="511" y="283"/>
                        <a:pt x="517" y="278"/>
                      </a:cubicBezTo>
                      <a:cubicBezTo>
                        <a:pt x="523" y="273"/>
                        <a:pt x="452" y="219"/>
                        <a:pt x="445" y="188"/>
                      </a:cubicBezTo>
                      <a:cubicBezTo>
                        <a:pt x="438" y="157"/>
                        <a:pt x="456" y="98"/>
                        <a:pt x="475" y="92"/>
                      </a:cubicBezTo>
                      <a:cubicBezTo>
                        <a:pt x="494" y="86"/>
                        <a:pt x="531" y="153"/>
                        <a:pt x="559" y="152"/>
                      </a:cubicBezTo>
                      <a:cubicBezTo>
                        <a:pt x="587" y="151"/>
                        <a:pt x="605" y="99"/>
                        <a:pt x="643" y="86"/>
                      </a:cubicBezTo>
                      <a:cubicBezTo>
                        <a:pt x="681" y="73"/>
                        <a:pt x="760" y="85"/>
                        <a:pt x="787" y="74"/>
                      </a:cubicBezTo>
                      <a:cubicBezTo>
                        <a:pt x="814" y="63"/>
                        <a:pt x="792" y="26"/>
                        <a:pt x="805" y="20"/>
                      </a:cubicBezTo>
                      <a:cubicBezTo>
                        <a:pt x="818" y="14"/>
                        <a:pt x="848" y="40"/>
                        <a:pt x="865" y="38"/>
                      </a:cubicBezTo>
                      <a:cubicBezTo>
                        <a:pt x="882" y="36"/>
                        <a:pt x="874" y="6"/>
                        <a:pt x="907" y="8"/>
                      </a:cubicBezTo>
                      <a:cubicBezTo>
                        <a:pt x="940" y="10"/>
                        <a:pt x="1013" y="44"/>
                        <a:pt x="1063" y="50"/>
                      </a:cubicBezTo>
                      <a:cubicBezTo>
                        <a:pt x="1113" y="56"/>
                        <a:pt x="1174" y="52"/>
                        <a:pt x="1207" y="44"/>
                      </a:cubicBezTo>
                      <a:cubicBezTo>
                        <a:pt x="1240" y="36"/>
                        <a:pt x="1237" y="0"/>
                        <a:pt x="1261" y="2"/>
                      </a:cubicBezTo>
                      <a:cubicBezTo>
                        <a:pt x="1285" y="4"/>
                        <a:pt x="1322" y="51"/>
                        <a:pt x="1351" y="56"/>
                      </a:cubicBezTo>
                      <a:cubicBezTo>
                        <a:pt x="1380" y="61"/>
                        <a:pt x="1414" y="23"/>
                        <a:pt x="1435" y="32"/>
                      </a:cubicBezTo>
                      <a:cubicBezTo>
                        <a:pt x="1456" y="41"/>
                        <a:pt x="1461" y="102"/>
                        <a:pt x="1477" y="110"/>
                      </a:cubicBezTo>
                      <a:cubicBezTo>
                        <a:pt x="1493" y="118"/>
                        <a:pt x="1518" y="76"/>
                        <a:pt x="1531" y="80"/>
                      </a:cubicBezTo>
                      <a:cubicBezTo>
                        <a:pt x="1544" y="84"/>
                        <a:pt x="1533" y="120"/>
                        <a:pt x="1555" y="134"/>
                      </a:cubicBezTo>
                      <a:cubicBezTo>
                        <a:pt x="1577" y="148"/>
                        <a:pt x="1629" y="149"/>
                        <a:pt x="1663" y="164"/>
                      </a:cubicBezTo>
                      <a:cubicBezTo>
                        <a:pt x="1697" y="179"/>
                        <a:pt x="1730" y="194"/>
                        <a:pt x="1759" y="224"/>
                      </a:cubicBezTo>
                      <a:cubicBezTo>
                        <a:pt x="1788" y="254"/>
                        <a:pt x="1871" y="281"/>
                        <a:pt x="1837" y="344"/>
                      </a:cubicBezTo>
                      <a:cubicBezTo>
                        <a:pt x="1803" y="407"/>
                        <a:pt x="1660" y="494"/>
                        <a:pt x="1555" y="602"/>
                      </a:cubicBezTo>
                      <a:cubicBezTo>
                        <a:pt x="1450" y="710"/>
                        <a:pt x="1346" y="864"/>
                        <a:pt x="1207" y="992"/>
                      </a:cubicBezTo>
                      <a:cubicBezTo>
                        <a:pt x="1068" y="1120"/>
                        <a:pt x="862" y="1262"/>
                        <a:pt x="721" y="1370"/>
                      </a:cubicBezTo>
                      <a:cubicBezTo>
                        <a:pt x="580" y="1478"/>
                        <a:pt x="455" y="1592"/>
                        <a:pt x="367" y="162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837200" y="5970240"/>
                  <a:ext cx="296280" cy="605520"/>
                </a:xfrm>
                <a:custGeom>
                  <a:avLst/>
                  <a:gdLst/>
                  <a:ahLst/>
                  <a:rect l="l" t="t" r="r" b="b"/>
                  <a:pathLst>
                    <a:path w="995" h="2081">
                      <a:moveTo>
                        <a:pt x="836" y="119"/>
                      </a:moveTo>
                      <a:cubicBezTo>
                        <a:pt x="804" y="34"/>
                        <a:pt x="744" y="22"/>
                        <a:pt x="698" y="11"/>
                      </a:cubicBezTo>
                      <a:cubicBezTo>
                        <a:pt x="652" y="0"/>
                        <a:pt x="606" y="40"/>
                        <a:pt x="560" y="53"/>
                      </a:cubicBezTo>
                      <a:cubicBezTo>
                        <a:pt x="514" y="66"/>
                        <a:pt x="459" y="50"/>
                        <a:pt x="422" y="89"/>
                      </a:cubicBezTo>
                      <a:cubicBezTo>
                        <a:pt x="385" y="128"/>
                        <a:pt x="359" y="227"/>
                        <a:pt x="338" y="287"/>
                      </a:cubicBezTo>
                      <a:cubicBezTo>
                        <a:pt x="317" y="347"/>
                        <a:pt x="324" y="401"/>
                        <a:pt x="296" y="449"/>
                      </a:cubicBezTo>
                      <a:cubicBezTo>
                        <a:pt x="268" y="497"/>
                        <a:pt x="185" y="546"/>
                        <a:pt x="170" y="575"/>
                      </a:cubicBezTo>
                      <a:cubicBezTo>
                        <a:pt x="155" y="604"/>
                        <a:pt x="213" y="602"/>
                        <a:pt x="206" y="623"/>
                      </a:cubicBezTo>
                      <a:cubicBezTo>
                        <a:pt x="199" y="644"/>
                        <a:pt x="134" y="672"/>
                        <a:pt x="128" y="701"/>
                      </a:cubicBezTo>
                      <a:cubicBezTo>
                        <a:pt x="122" y="730"/>
                        <a:pt x="173" y="771"/>
                        <a:pt x="170" y="797"/>
                      </a:cubicBezTo>
                      <a:cubicBezTo>
                        <a:pt x="167" y="823"/>
                        <a:pt x="127" y="837"/>
                        <a:pt x="110" y="857"/>
                      </a:cubicBezTo>
                      <a:cubicBezTo>
                        <a:pt x="93" y="877"/>
                        <a:pt x="73" y="898"/>
                        <a:pt x="68" y="917"/>
                      </a:cubicBezTo>
                      <a:cubicBezTo>
                        <a:pt x="63" y="936"/>
                        <a:pt x="90" y="954"/>
                        <a:pt x="80" y="971"/>
                      </a:cubicBezTo>
                      <a:cubicBezTo>
                        <a:pt x="70" y="988"/>
                        <a:pt x="16" y="1001"/>
                        <a:pt x="8" y="1019"/>
                      </a:cubicBezTo>
                      <a:cubicBezTo>
                        <a:pt x="0" y="1037"/>
                        <a:pt x="31" y="1063"/>
                        <a:pt x="32" y="1079"/>
                      </a:cubicBezTo>
                      <a:cubicBezTo>
                        <a:pt x="33" y="1095"/>
                        <a:pt x="7" y="1103"/>
                        <a:pt x="14" y="1115"/>
                      </a:cubicBezTo>
                      <a:cubicBezTo>
                        <a:pt x="21" y="1127"/>
                        <a:pt x="70" y="1131"/>
                        <a:pt x="74" y="1151"/>
                      </a:cubicBezTo>
                      <a:cubicBezTo>
                        <a:pt x="78" y="1171"/>
                        <a:pt x="33" y="1204"/>
                        <a:pt x="38" y="1235"/>
                      </a:cubicBezTo>
                      <a:cubicBezTo>
                        <a:pt x="43" y="1266"/>
                        <a:pt x="83" y="1313"/>
                        <a:pt x="104" y="1337"/>
                      </a:cubicBezTo>
                      <a:cubicBezTo>
                        <a:pt x="125" y="1361"/>
                        <a:pt x="160" y="1361"/>
                        <a:pt x="164" y="1379"/>
                      </a:cubicBezTo>
                      <a:cubicBezTo>
                        <a:pt x="168" y="1397"/>
                        <a:pt x="120" y="1427"/>
                        <a:pt x="128" y="1445"/>
                      </a:cubicBezTo>
                      <a:cubicBezTo>
                        <a:pt x="136" y="1463"/>
                        <a:pt x="200" y="1472"/>
                        <a:pt x="212" y="1487"/>
                      </a:cubicBezTo>
                      <a:cubicBezTo>
                        <a:pt x="224" y="1502"/>
                        <a:pt x="189" y="1526"/>
                        <a:pt x="200" y="1535"/>
                      </a:cubicBezTo>
                      <a:cubicBezTo>
                        <a:pt x="211" y="1544"/>
                        <a:pt x="260" y="1531"/>
                        <a:pt x="278" y="1541"/>
                      </a:cubicBezTo>
                      <a:cubicBezTo>
                        <a:pt x="296" y="1551"/>
                        <a:pt x="287" y="1585"/>
                        <a:pt x="308" y="1595"/>
                      </a:cubicBezTo>
                      <a:cubicBezTo>
                        <a:pt x="329" y="1605"/>
                        <a:pt x="383" y="1589"/>
                        <a:pt x="404" y="1601"/>
                      </a:cubicBezTo>
                      <a:cubicBezTo>
                        <a:pt x="425" y="1613"/>
                        <a:pt x="426" y="1650"/>
                        <a:pt x="434" y="1667"/>
                      </a:cubicBezTo>
                      <a:cubicBezTo>
                        <a:pt x="442" y="1684"/>
                        <a:pt x="438" y="1685"/>
                        <a:pt x="452" y="1703"/>
                      </a:cubicBezTo>
                      <a:cubicBezTo>
                        <a:pt x="466" y="1721"/>
                        <a:pt x="514" y="1752"/>
                        <a:pt x="518" y="1775"/>
                      </a:cubicBezTo>
                      <a:cubicBezTo>
                        <a:pt x="522" y="1798"/>
                        <a:pt x="469" y="1829"/>
                        <a:pt x="476" y="1841"/>
                      </a:cubicBezTo>
                      <a:cubicBezTo>
                        <a:pt x="483" y="1853"/>
                        <a:pt x="546" y="1836"/>
                        <a:pt x="560" y="1847"/>
                      </a:cubicBezTo>
                      <a:cubicBezTo>
                        <a:pt x="574" y="1858"/>
                        <a:pt x="540" y="1896"/>
                        <a:pt x="560" y="1907"/>
                      </a:cubicBezTo>
                      <a:cubicBezTo>
                        <a:pt x="580" y="1918"/>
                        <a:pt x="660" y="1897"/>
                        <a:pt x="680" y="1913"/>
                      </a:cubicBezTo>
                      <a:cubicBezTo>
                        <a:pt x="700" y="1929"/>
                        <a:pt x="667" y="1987"/>
                        <a:pt x="680" y="2003"/>
                      </a:cubicBezTo>
                      <a:cubicBezTo>
                        <a:pt x="693" y="2019"/>
                        <a:pt x="734" y="2002"/>
                        <a:pt x="758" y="2009"/>
                      </a:cubicBezTo>
                      <a:cubicBezTo>
                        <a:pt x="782" y="2016"/>
                        <a:pt x="799" y="2081"/>
                        <a:pt x="824" y="2045"/>
                      </a:cubicBezTo>
                      <a:cubicBezTo>
                        <a:pt x="849" y="2009"/>
                        <a:pt x="880" y="1947"/>
                        <a:pt x="908" y="1793"/>
                      </a:cubicBezTo>
                      <a:cubicBezTo>
                        <a:pt x="936" y="1639"/>
                        <a:pt x="995" y="1333"/>
                        <a:pt x="992" y="1121"/>
                      </a:cubicBezTo>
                      <a:cubicBezTo>
                        <a:pt x="989" y="909"/>
                        <a:pt x="914" y="686"/>
                        <a:pt x="890" y="521"/>
                      </a:cubicBezTo>
                      <a:cubicBezTo>
                        <a:pt x="866" y="356"/>
                        <a:pt x="868" y="204"/>
                        <a:pt x="836" y="11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030520" y="5967720"/>
                  <a:ext cx="165600" cy="291600"/>
                </a:xfrm>
                <a:custGeom>
                  <a:avLst/>
                  <a:gdLst/>
                  <a:ahLst/>
                  <a:rect l="l" t="t" r="r" b="b"/>
                  <a:pathLst>
                    <a:path w="557" h="1003">
                      <a:moveTo>
                        <a:pt x="343" y="68"/>
                      </a:moveTo>
                      <a:cubicBezTo>
                        <a:pt x="287" y="42"/>
                        <a:pt x="222" y="0"/>
                        <a:pt x="193" y="8"/>
                      </a:cubicBezTo>
                      <a:cubicBezTo>
                        <a:pt x="164" y="16"/>
                        <a:pt x="184" y="87"/>
                        <a:pt x="169" y="116"/>
                      </a:cubicBezTo>
                      <a:cubicBezTo>
                        <a:pt x="154" y="145"/>
                        <a:pt x="106" y="165"/>
                        <a:pt x="103" y="182"/>
                      </a:cubicBezTo>
                      <a:cubicBezTo>
                        <a:pt x="100" y="199"/>
                        <a:pt x="153" y="204"/>
                        <a:pt x="151" y="218"/>
                      </a:cubicBezTo>
                      <a:cubicBezTo>
                        <a:pt x="149" y="232"/>
                        <a:pt x="92" y="246"/>
                        <a:pt x="91" y="266"/>
                      </a:cubicBezTo>
                      <a:cubicBezTo>
                        <a:pt x="90" y="286"/>
                        <a:pt x="150" y="308"/>
                        <a:pt x="145" y="338"/>
                      </a:cubicBezTo>
                      <a:cubicBezTo>
                        <a:pt x="140" y="368"/>
                        <a:pt x="82" y="414"/>
                        <a:pt x="61" y="446"/>
                      </a:cubicBezTo>
                      <a:cubicBezTo>
                        <a:pt x="40" y="478"/>
                        <a:pt x="11" y="500"/>
                        <a:pt x="19" y="530"/>
                      </a:cubicBezTo>
                      <a:cubicBezTo>
                        <a:pt x="27" y="560"/>
                        <a:pt x="97" y="587"/>
                        <a:pt x="109" y="626"/>
                      </a:cubicBezTo>
                      <a:cubicBezTo>
                        <a:pt x="121" y="665"/>
                        <a:pt x="106" y="729"/>
                        <a:pt x="91" y="764"/>
                      </a:cubicBezTo>
                      <a:cubicBezTo>
                        <a:pt x="76" y="799"/>
                        <a:pt x="0" y="816"/>
                        <a:pt x="19" y="836"/>
                      </a:cubicBezTo>
                      <a:cubicBezTo>
                        <a:pt x="38" y="856"/>
                        <a:pt x="151" y="865"/>
                        <a:pt x="205" y="884"/>
                      </a:cubicBezTo>
                      <a:cubicBezTo>
                        <a:pt x="259" y="903"/>
                        <a:pt x="323" y="1003"/>
                        <a:pt x="343" y="950"/>
                      </a:cubicBezTo>
                      <a:cubicBezTo>
                        <a:pt x="363" y="897"/>
                        <a:pt x="297" y="665"/>
                        <a:pt x="325" y="566"/>
                      </a:cubicBezTo>
                      <a:cubicBezTo>
                        <a:pt x="353" y="467"/>
                        <a:pt x="477" y="423"/>
                        <a:pt x="511" y="356"/>
                      </a:cubicBezTo>
                      <a:cubicBezTo>
                        <a:pt x="545" y="289"/>
                        <a:pt x="557" y="210"/>
                        <a:pt x="529" y="164"/>
                      </a:cubicBezTo>
                      <a:cubicBezTo>
                        <a:pt x="501" y="118"/>
                        <a:pt x="399" y="94"/>
                        <a:pt x="343" y="6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db1d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997400" y="6225480"/>
                  <a:ext cx="403560" cy="446760"/>
                </a:xfrm>
                <a:custGeom>
                  <a:avLst/>
                  <a:gdLst/>
                  <a:ahLst/>
                  <a:rect l="l" t="t" r="r" b="b"/>
                  <a:pathLst>
                    <a:path w="1355" h="1535">
                      <a:moveTo>
                        <a:pt x="712" y="76"/>
                      </a:moveTo>
                      <a:cubicBezTo>
                        <a:pt x="619" y="0"/>
                        <a:pt x="436" y="153"/>
                        <a:pt x="328" y="196"/>
                      </a:cubicBezTo>
                      <a:cubicBezTo>
                        <a:pt x="220" y="239"/>
                        <a:pt x="118" y="267"/>
                        <a:pt x="64" y="334"/>
                      </a:cubicBezTo>
                      <a:cubicBezTo>
                        <a:pt x="10" y="401"/>
                        <a:pt x="8" y="528"/>
                        <a:pt x="4" y="598"/>
                      </a:cubicBezTo>
                      <a:cubicBezTo>
                        <a:pt x="0" y="668"/>
                        <a:pt x="17" y="735"/>
                        <a:pt x="40" y="754"/>
                      </a:cubicBezTo>
                      <a:cubicBezTo>
                        <a:pt x="63" y="773"/>
                        <a:pt x="115" y="715"/>
                        <a:pt x="142" y="712"/>
                      </a:cubicBezTo>
                      <a:cubicBezTo>
                        <a:pt x="169" y="709"/>
                        <a:pt x="194" y="715"/>
                        <a:pt x="202" y="736"/>
                      </a:cubicBezTo>
                      <a:cubicBezTo>
                        <a:pt x="210" y="757"/>
                        <a:pt x="184" y="819"/>
                        <a:pt x="190" y="838"/>
                      </a:cubicBezTo>
                      <a:cubicBezTo>
                        <a:pt x="196" y="857"/>
                        <a:pt x="235" y="831"/>
                        <a:pt x="238" y="850"/>
                      </a:cubicBezTo>
                      <a:cubicBezTo>
                        <a:pt x="241" y="869"/>
                        <a:pt x="206" y="928"/>
                        <a:pt x="208" y="952"/>
                      </a:cubicBezTo>
                      <a:cubicBezTo>
                        <a:pt x="210" y="976"/>
                        <a:pt x="250" y="973"/>
                        <a:pt x="250" y="994"/>
                      </a:cubicBezTo>
                      <a:cubicBezTo>
                        <a:pt x="250" y="1015"/>
                        <a:pt x="208" y="1057"/>
                        <a:pt x="208" y="1078"/>
                      </a:cubicBezTo>
                      <a:cubicBezTo>
                        <a:pt x="208" y="1099"/>
                        <a:pt x="245" y="1101"/>
                        <a:pt x="250" y="1120"/>
                      </a:cubicBezTo>
                      <a:cubicBezTo>
                        <a:pt x="255" y="1139"/>
                        <a:pt x="228" y="1175"/>
                        <a:pt x="238" y="1192"/>
                      </a:cubicBezTo>
                      <a:cubicBezTo>
                        <a:pt x="248" y="1209"/>
                        <a:pt x="295" y="1203"/>
                        <a:pt x="310" y="1222"/>
                      </a:cubicBezTo>
                      <a:cubicBezTo>
                        <a:pt x="325" y="1241"/>
                        <a:pt x="312" y="1303"/>
                        <a:pt x="328" y="1306"/>
                      </a:cubicBezTo>
                      <a:cubicBezTo>
                        <a:pt x="344" y="1309"/>
                        <a:pt x="393" y="1228"/>
                        <a:pt x="406" y="1240"/>
                      </a:cubicBezTo>
                      <a:cubicBezTo>
                        <a:pt x="419" y="1252"/>
                        <a:pt x="397" y="1349"/>
                        <a:pt x="406" y="1378"/>
                      </a:cubicBezTo>
                      <a:cubicBezTo>
                        <a:pt x="415" y="1407"/>
                        <a:pt x="445" y="1423"/>
                        <a:pt x="460" y="1414"/>
                      </a:cubicBezTo>
                      <a:cubicBezTo>
                        <a:pt x="475" y="1405"/>
                        <a:pt x="486" y="1322"/>
                        <a:pt x="496" y="1324"/>
                      </a:cubicBezTo>
                      <a:cubicBezTo>
                        <a:pt x="506" y="1326"/>
                        <a:pt x="505" y="1407"/>
                        <a:pt x="520" y="1426"/>
                      </a:cubicBezTo>
                      <a:cubicBezTo>
                        <a:pt x="535" y="1445"/>
                        <a:pt x="569" y="1447"/>
                        <a:pt x="586" y="1438"/>
                      </a:cubicBezTo>
                      <a:cubicBezTo>
                        <a:pt x="603" y="1429"/>
                        <a:pt x="616" y="1362"/>
                        <a:pt x="622" y="1372"/>
                      </a:cubicBezTo>
                      <a:cubicBezTo>
                        <a:pt x="628" y="1382"/>
                        <a:pt x="608" y="1476"/>
                        <a:pt x="622" y="1498"/>
                      </a:cubicBezTo>
                      <a:cubicBezTo>
                        <a:pt x="636" y="1520"/>
                        <a:pt x="688" y="1511"/>
                        <a:pt x="706" y="1504"/>
                      </a:cubicBezTo>
                      <a:cubicBezTo>
                        <a:pt x="724" y="1497"/>
                        <a:pt x="721" y="1454"/>
                        <a:pt x="730" y="1456"/>
                      </a:cubicBezTo>
                      <a:cubicBezTo>
                        <a:pt x="739" y="1458"/>
                        <a:pt x="739" y="1509"/>
                        <a:pt x="760" y="1516"/>
                      </a:cubicBezTo>
                      <a:cubicBezTo>
                        <a:pt x="781" y="1523"/>
                        <a:pt x="837" y="1513"/>
                        <a:pt x="856" y="1498"/>
                      </a:cubicBezTo>
                      <a:cubicBezTo>
                        <a:pt x="875" y="1483"/>
                        <a:pt x="866" y="1423"/>
                        <a:pt x="874" y="1426"/>
                      </a:cubicBezTo>
                      <a:cubicBezTo>
                        <a:pt x="882" y="1429"/>
                        <a:pt x="883" y="1499"/>
                        <a:pt x="904" y="1516"/>
                      </a:cubicBezTo>
                      <a:cubicBezTo>
                        <a:pt x="925" y="1533"/>
                        <a:pt x="976" y="1535"/>
                        <a:pt x="1000" y="1528"/>
                      </a:cubicBezTo>
                      <a:cubicBezTo>
                        <a:pt x="1024" y="1521"/>
                        <a:pt x="1038" y="1489"/>
                        <a:pt x="1048" y="1474"/>
                      </a:cubicBezTo>
                      <a:cubicBezTo>
                        <a:pt x="1058" y="1459"/>
                        <a:pt x="1050" y="1433"/>
                        <a:pt x="1060" y="1438"/>
                      </a:cubicBezTo>
                      <a:cubicBezTo>
                        <a:pt x="1070" y="1443"/>
                        <a:pt x="1088" y="1500"/>
                        <a:pt x="1108" y="1504"/>
                      </a:cubicBezTo>
                      <a:cubicBezTo>
                        <a:pt x="1128" y="1508"/>
                        <a:pt x="1161" y="1471"/>
                        <a:pt x="1180" y="1462"/>
                      </a:cubicBezTo>
                      <a:cubicBezTo>
                        <a:pt x="1199" y="1453"/>
                        <a:pt x="1213" y="1466"/>
                        <a:pt x="1222" y="1450"/>
                      </a:cubicBezTo>
                      <a:cubicBezTo>
                        <a:pt x="1231" y="1434"/>
                        <a:pt x="1223" y="1378"/>
                        <a:pt x="1234" y="1366"/>
                      </a:cubicBezTo>
                      <a:cubicBezTo>
                        <a:pt x="1245" y="1354"/>
                        <a:pt x="1270" y="1395"/>
                        <a:pt x="1288" y="1378"/>
                      </a:cubicBezTo>
                      <a:cubicBezTo>
                        <a:pt x="1306" y="1361"/>
                        <a:pt x="1355" y="1327"/>
                        <a:pt x="1342" y="1264"/>
                      </a:cubicBezTo>
                      <a:cubicBezTo>
                        <a:pt x="1329" y="1201"/>
                        <a:pt x="1286" y="1102"/>
                        <a:pt x="1210" y="1000"/>
                      </a:cubicBezTo>
                      <a:cubicBezTo>
                        <a:pt x="1134" y="898"/>
                        <a:pt x="969" y="807"/>
                        <a:pt x="886" y="652"/>
                      </a:cubicBezTo>
                      <a:cubicBezTo>
                        <a:pt x="803" y="497"/>
                        <a:pt x="805" y="152"/>
                        <a:pt x="712" y="7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341560" y="6393960"/>
                  <a:ext cx="470880" cy="285840"/>
                </a:xfrm>
                <a:custGeom>
                  <a:avLst/>
                  <a:gdLst/>
                  <a:ahLst/>
                  <a:rect l="l" t="t" r="r" b="b"/>
                  <a:pathLst>
                    <a:path w="1581" h="982">
                      <a:moveTo>
                        <a:pt x="0" y="499"/>
                      </a:moveTo>
                      <a:cubicBezTo>
                        <a:pt x="33" y="548"/>
                        <a:pt x="67" y="597"/>
                        <a:pt x="96" y="637"/>
                      </a:cubicBezTo>
                      <a:cubicBezTo>
                        <a:pt x="125" y="677"/>
                        <a:pt x="150" y="717"/>
                        <a:pt x="174" y="739"/>
                      </a:cubicBezTo>
                      <a:cubicBezTo>
                        <a:pt x="198" y="761"/>
                        <a:pt x="228" y="753"/>
                        <a:pt x="240" y="769"/>
                      </a:cubicBezTo>
                      <a:cubicBezTo>
                        <a:pt x="252" y="785"/>
                        <a:pt x="225" y="809"/>
                        <a:pt x="246" y="835"/>
                      </a:cubicBezTo>
                      <a:cubicBezTo>
                        <a:pt x="267" y="861"/>
                        <a:pt x="333" y="914"/>
                        <a:pt x="366" y="925"/>
                      </a:cubicBezTo>
                      <a:cubicBezTo>
                        <a:pt x="399" y="936"/>
                        <a:pt x="426" y="893"/>
                        <a:pt x="444" y="901"/>
                      </a:cubicBezTo>
                      <a:cubicBezTo>
                        <a:pt x="462" y="909"/>
                        <a:pt x="449" y="964"/>
                        <a:pt x="474" y="973"/>
                      </a:cubicBezTo>
                      <a:cubicBezTo>
                        <a:pt x="499" y="982"/>
                        <a:pt x="569" y="965"/>
                        <a:pt x="594" y="955"/>
                      </a:cubicBezTo>
                      <a:cubicBezTo>
                        <a:pt x="619" y="945"/>
                        <a:pt x="606" y="919"/>
                        <a:pt x="624" y="913"/>
                      </a:cubicBezTo>
                      <a:cubicBezTo>
                        <a:pt x="642" y="907"/>
                        <a:pt x="674" y="923"/>
                        <a:pt x="702" y="919"/>
                      </a:cubicBezTo>
                      <a:cubicBezTo>
                        <a:pt x="730" y="915"/>
                        <a:pt x="778" y="908"/>
                        <a:pt x="792" y="889"/>
                      </a:cubicBezTo>
                      <a:cubicBezTo>
                        <a:pt x="806" y="870"/>
                        <a:pt x="774" y="813"/>
                        <a:pt x="786" y="805"/>
                      </a:cubicBezTo>
                      <a:cubicBezTo>
                        <a:pt x="798" y="797"/>
                        <a:pt x="839" y="847"/>
                        <a:pt x="864" y="841"/>
                      </a:cubicBezTo>
                      <a:cubicBezTo>
                        <a:pt x="889" y="835"/>
                        <a:pt x="910" y="781"/>
                        <a:pt x="936" y="769"/>
                      </a:cubicBezTo>
                      <a:cubicBezTo>
                        <a:pt x="962" y="757"/>
                        <a:pt x="997" y="783"/>
                        <a:pt x="1020" y="769"/>
                      </a:cubicBezTo>
                      <a:cubicBezTo>
                        <a:pt x="1043" y="755"/>
                        <a:pt x="1070" y="711"/>
                        <a:pt x="1074" y="685"/>
                      </a:cubicBezTo>
                      <a:cubicBezTo>
                        <a:pt x="1078" y="659"/>
                        <a:pt x="1031" y="614"/>
                        <a:pt x="1044" y="613"/>
                      </a:cubicBezTo>
                      <a:cubicBezTo>
                        <a:pt x="1057" y="612"/>
                        <a:pt x="1127" y="681"/>
                        <a:pt x="1152" y="679"/>
                      </a:cubicBezTo>
                      <a:cubicBezTo>
                        <a:pt x="1177" y="677"/>
                        <a:pt x="1178" y="618"/>
                        <a:pt x="1194" y="601"/>
                      </a:cubicBezTo>
                      <a:cubicBezTo>
                        <a:pt x="1210" y="584"/>
                        <a:pt x="1239" y="590"/>
                        <a:pt x="1248" y="577"/>
                      </a:cubicBezTo>
                      <a:cubicBezTo>
                        <a:pt x="1257" y="564"/>
                        <a:pt x="1235" y="530"/>
                        <a:pt x="1248" y="523"/>
                      </a:cubicBezTo>
                      <a:cubicBezTo>
                        <a:pt x="1261" y="516"/>
                        <a:pt x="1314" y="546"/>
                        <a:pt x="1326" y="535"/>
                      </a:cubicBezTo>
                      <a:cubicBezTo>
                        <a:pt x="1338" y="524"/>
                        <a:pt x="1307" y="478"/>
                        <a:pt x="1320" y="457"/>
                      </a:cubicBezTo>
                      <a:cubicBezTo>
                        <a:pt x="1333" y="436"/>
                        <a:pt x="1391" y="430"/>
                        <a:pt x="1404" y="409"/>
                      </a:cubicBezTo>
                      <a:cubicBezTo>
                        <a:pt x="1417" y="388"/>
                        <a:pt x="1387" y="358"/>
                        <a:pt x="1398" y="331"/>
                      </a:cubicBezTo>
                      <a:cubicBezTo>
                        <a:pt x="1409" y="304"/>
                        <a:pt x="1441" y="271"/>
                        <a:pt x="1470" y="247"/>
                      </a:cubicBezTo>
                      <a:cubicBezTo>
                        <a:pt x="1499" y="223"/>
                        <a:pt x="1563" y="203"/>
                        <a:pt x="1572" y="187"/>
                      </a:cubicBezTo>
                      <a:cubicBezTo>
                        <a:pt x="1581" y="171"/>
                        <a:pt x="1556" y="160"/>
                        <a:pt x="1524" y="151"/>
                      </a:cubicBezTo>
                      <a:cubicBezTo>
                        <a:pt x="1492" y="142"/>
                        <a:pt x="1418" y="156"/>
                        <a:pt x="1380" y="133"/>
                      </a:cubicBezTo>
                      <a:cubicBezTo>
                        <a:pt x="1342" y="110"/>
                        <a:pt x="1372" y="26"/>
                        <a:pt x="1296" y="13"/>
                      </a:cubicBezTo>
                      <a:cubicBezTo>
                        <a:pt x="1220" y="0"/>
                        <a:pt x="1064" y="50"/>
                        <a:pt x="924" y="55"/>
                      </a:cubicBezTo>
                      <a:cubicBezTo>
                        <a:pt x="784" y="60"/>
                        <a:pt x="620" y="51"/>
                        <a:pt x="456" y="43"/>
                      </a:cubicBezTo>
                      <a:lnTo>
                        <a:pt x="0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db1d0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098560" y="5781240"/>
                  <a:ext cx="201960" cy="252720"/>
                </a:xfrm>
                <a:custGeom>
                  <a:avLst/>
                  <a:gdLst/>
                  <a:ahLst/>
                  <a:rect l="l" t="t" r="r" b="b"/>
                  <a:pathLst>
                    <a:path w="679" h="869">
                      <a:moveTo>
                        <a:pt x="613" y="40"/>
                      </a:moveTo>
                      <a:cubicBezTo>
                        <a:pt x="585" y="0"/>
                        <a:pt x="535" y="34"/>
                        <a:pt x="509" y="40"/>
                      </a:cubicBezTo>
                      <a:cubicBezTo>
                        <a:pt x="483" y="46"/>
                        <a:pt x="480" y="77"/>
                        <a:pt x="457" y="76"/>
                      </a:cubicBezTo>
                      <a:cubicBezTo>
                        <a:pt x="434" y="75"/>
                        <a:pt x="394" y="36"/>
                        <a:pt x="369" y="36"/>
                      </a:cubicBezTo>
                      <a:cubicBezTo>
                        <a:pt x="344" y="36"/>
                        <a:pt x="326" y="66"/>
                        <a:pt x="305" y="76"/>
                      </a:cubicBezTo>
                      <a:cubicBezTo>
                        <a:pt x="284" y="86"/>
                        <a:pt x="275" y="97"/>
                        <a:pt x="245" y="96"/>
                      </a:cubicBezTo>
                      <a:cubicBezTo>
                        <a:pt x="215" y="95"/>
                        <a:pt x="158" y="67"/>
                        <a:pt x="125" y="72"/>
                      </a:cubicBezTo>
                      <a:cubicBezTo>
                        <a:pt x="92" y="77"/>
                        <a:pt x="52" y="101"/>
                        <a:pt x="45" y="124"/>
                      </a:cubicBezTo>
                      <a:cubicBezTo>
                        <a:pt x="38" y="147"/>
                        <a:pt x="86" y="193"/>
                        <a:pt x="81" y="208"/>
                      </a:cubicBezTo>
                      <a:cubicBezTo>
                        <a:pt x="76" y="223"/>
                        <a:pt x="21" y="206"/>
                        <a:pt x="13" y="216"/>
                      </a:cubicBezTo>
                      <a:cubicBezTo>
                        <a:pt x="5" y="226"/>
                        <a:pt x="35" y="253"/>
                        <a:pt x="33" y="268"/>
                      </a:cubicBezTo>
                      <a:cubicBezTo>
                        <a:pt x="31" y="283"/>
                        <a:pt x="0" y="291"/>
                        <a:pt x="1" y="308"/>
                      </a:cubicBezTo>
                      <a:cubicBezTo>
                        <a:pt x="2" y="325"/>
                        <a:pt x="38" y="351"/>
                        <a:pt x="41" y="372"/>
                      </a:cubicBezTo>
                      <a:cubicBezTo>
                        <a:pt x="44" y="393"/>
                        <a:pt x="17" y="413"/>
                        <a:pt x="17" y="432"/>
                      </a:cubicBezTo>
                      <a:cubicBezTo>
                        <a:pt x="17" y="451"/>
                        <a:pt x="38" y="474"/>
                        <a:pt x="41" y="488"/>
                      </a:cubicBezTo>
                      <a:cubicBezTo>
                        <a:pt x="44" y="502"/>
                        <a:pt x="32" y="505"/>
                        <a:pt x="37" y="516"/>
                      </a:cubicBezTo>
                      <a:cubicBezTo>
                        <a:pt x="42" y="527"/>
                        <a:pt x="71" y="538"/>
                        <a:pt x="69" y="552"/>
                      </a:cubicBezTo>
                      <a:cubicBezTo>
                        <a:pt x="67" y="566"/>
                        <a:pt x="20" y="584"/>
                        <a:pt x="25" y="600"/>
                      </a:cubicBezTo>
                      <a:cubicBezTo>
                        <a:pt x="30" y="616"/>
                        <a:pt x="88" y="634"/>
                        <a:pt x="97" y="648"/>
                      </a:cubicBezTo>
                      <a:cubicBezTo>
                        <a:pt x="106" y="662"/>
                        <a:pt x="80" y="669"/>
                        <a:pt x="81" y="684"/>
                      </a:cubicBezTo>
                      <a:cubicBezTo>
                        <a:pt x="82" y="699"/>
                        <a:pt x="104" y="721"/>
                        <a:pt x="105" y="736"/>
                      </a:cubicBezTo>
                      <a:cubicBezTo>
                        <a:pt x="106" y="751"/>
                        <a:pt x="86" y="759"/>
                        <a:pt x="89" y="772"/>
                      </a:cubicBezTo>
                      <a:cubicBezTo>
                        <a:pt x="92" y="785"/>
                        <a:pt x="116" y="803"/>
                        <a:pt x="125" y="816"/>
                      </a:cubicBezTo>
                      <a:cubicBezTo>
                        <a:pt x="134" y="829"/>
                        <a:pt x="123" y="844"/>
                        <a:pt x="145" y="852"/>
                      </a:cubicBezTo>
                      <a:cubicBezTo>
                        <a:pt x="167" y="860"/>
                        <a:pt x="230" y="869"/>
                        <a:pt x="257" y="864"/>
                      </a:cubicBezTo>
                      <a:cubicBezTo>
                        <a:pt x="284" y="859"/>
                        <a:pt x="278" y="839"/>
                        <a:pt x="305" y="820"/>
                      </a:cubicBezTo>
                      <a:cubicBezTo>
                        <a:pt x="332" y="801"/>
                        <a:pt x="364" y="798"/>
                        <a:pt x="417" y="748"/>
                      </a:cubicBezTo>
                      <a:cubicBezTo>
                        <a:pt x="470" y="698"/>
                        <a:pt x="582" y="598"/>
                        <a:pt x="625" y="520"/>
                      </a:cubicBezTo>
                      <a:cubicBezTo>
                        <a:pt x="668" y="442"/>
                        <a:pt x="679" y="359"/>
                        <a:pt x="677" y="280"/>
                      </a:cubicBezTo>
                      <a:cubicBezTo>
                        <a:pt x="675" y="201"/>
                        <a:pt x="641" y="80"/>
                        <a:pt x="613" y="4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62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75320" y="5738040"/>
                  <a:ext cx="236520" cy="212400"/>
                </a:xfrm>
                <a:custGeom>
                  <a:avLst/>
                  <a:gdLst/>
                  <a:ahLst/>
                  <a:rect l="l" t="t" r="r" b="b"/>
                  <a:pathLst>
                    <a:path w="794" h="730">
                      <a:moveTo>
                        <a:pt x="71" y="449"/>
                      </a:moveTo>
                      <a:cubicBezTo>
                        <a:pt x="43" y="416"/>
                        <a:pt x="41" y="366"/>
                        <a:pt x="31" y="321"/>
                      </a:cubicBezTo>
                      <a:cubicBezTo>
                        <a:pt x="21" y="276"/>
                        <a:pt x="0" y="206"/>
                        <a:pt x="11" y="181"/>
                      </a:cubicBezTo>
                      <a:cubicBezTo>
                        <a:pt x="22" y="156"/>
                        <a:pt x="70" y="185"/>
                        <a:pt x="99" y="169"/>
                      </a:cubicBezTo>
                      <a:cubicBezTo>
                        <a:pt x="128" y="153"/>
                        <a:pt x="151" y="111"/>
                        <a:pt x="183" y="85"/>
                      </a:cubicBezTo>
                      <a:cubicBezTo>
                        <a:pt x="215" y="59"/>
                        <a:pt x="257" y="26"/>
                        <a:pt x="291" y="13"/>
                      </a:cubicBezTo>
                      <a:cubicBezTo>
                        <a:pt x="325" y="0"/>
                        <a:pt x="370" y="4"/>
                        <a:pt x="387" y="9"/>
                      </a:cubicBezTo>
                      <a:cubicBezTo>
                        <a:pt x="404" y="14"/>
                        <a:pt x="381" y="42"/>
                        <a:pt x="395" y="45"/>
                      </a:cubicBezTo>
                      <a:cubicBezTo>
                        <a:pt x="409" y="48"/>
                        <a:pt x="455" y="22"/>
                        <a:pt x="471" y="25"/>
                      </a:cubicBezTo>
                      <a:cubicBezTo>
                        <a:pt x="487" y="28"/>
                        <a:pt x="474" y="61"/>
                        <a:pt x="491" y="65"/>
                      </a:cubicBezTo>
                      <a:cubicBezTo>
                        <a:pt x="508" y="69"/>
                        <a:pt x="556" y="46"/>
                        <a:pt x="571" y="49"/>
                      </a:cubicBezTo>
                      <a:cubicBezTo>
                        <a:pt x="586" y="52"/>
                        <a:pt x="571" y="76"/>
                        <a:pt x="583" y="85"/>
                      </a:cubicBezTo>
                      <a:cubicBezTo>
                        <a:pt x="595" y="94"/>
                        <a:pt x="634" y="92"/>
                        <a:pt x="643" y="101"/>
                      </a:cubicBezTo>
                      <a:cubicBezTo>
                        <a:pt x="652" y="110"/>
                        <a:pt x="632" y="131"/>
                        <a:pt x="639" y="141"/>
                      </a:cubicBezTo>
                      <a:cubicBezTo>
                        <a:pt x="646" y="151"/>
                        <a:pt x="678" y="151"/>
                        <a:pt x="683" y="161"/>
                      </a:cubicBezTo>
                      <a:cubicBezTo>
                        <a:pt x="688" y="171"/>
                        <a:pt x="651" y="192"/>
                        <a:pt x="667" y="201"/>
                      </a:cubicBezTo>
                      <a:cubicBezTo>
                        <a:pt x="683" y="210"/>
                        <a:pt x="764" y="202"/>
                        <a:pt x="779" y="217"/>
                      </a:cubicBezTo>
                      <a:cubicBezTo>
                        <a:pt x="794" y="232"/>
                        <a:pt x="758" y="272"/>
                        <a:pt x="759" y="289"/>
                      </a:cubicBezTo>
                      <a:cubicBezTo>
                        <a:pt x="760" y="306"/>
                        <a:pt x="791" y="304"/>
                        <a:pt x="787" y="321"/>
                      </a:cubicBezTo>
                      <a:cubicBezTo>
                        <a:pt x="783" y="338"/>
                        <a:pt x="738" y="370"/>
                        <a:pt x="735" y="389"/>
                      </a:cubicBezTo>
                      <a:cubicBezTo>
                        <a:pt x="732" y="408"/>
                        <a:pt x="774" y="407"/>
                        <a:pt x="771" y="437"/>
                      </a:cubicBezTo>
                      <a:cubicBezTo>
                        <a:pt x="768" y="467"/>
                        <a:pt x="727" y="531"/>
                        <a:pt x="715" y="569"/>
                      </a:cubicBezTo>
                      <a:cubicBezTo>
                        <a:pt x="703" y="607"/>
                        <a:pt x="714" y="645"/>
                        <a:pt x="699" y="669"/>
                      </a:cubicBezTo>
                      <a:cubicBezTo>
                        <a:pt x="684" y="693"/>
                        <a:pt x="663" y="730"/>
                        <a:pt x="627" y="713"/>
                      </a:cubicBezTo>
                      <a:cubicBezTo>
                        <a:pt x="591" y="696"/>
                        <a:pt x="554" y="601"/>
                        <a:pt x="483" y="569"/>
                      </a:cubicBezTo>
                      <a:cubicBezTo>
                        <a:pt x="412" y="537"/>
                        <a:pt x="268" y="542"/>
                        <a:pt x="199" y="521"/>
                      </a:cubicBezTo>
                      <a:cubicBezTo>
                        <a:pt x="130" y="500"/>
                        <a:pt x="99" y="482"/>
                        <a:pt x="71" y="44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7c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470080" y="5814720"/>
                  <a:ext cx="308880" cy="402120"/>
                </a:xfrm>
                <a:custGeom>
                  <a:avLst/>
                  <a:gdLst/>
                  <a:ahLst/>
                  <a:rect l="l" t="t" r="r" b="b"/>
                  <a:pathLst>
                    <a:path w="1038" h="1382">
                      <a:moveTo>
                        <a:pt x="21" y="469"/>
                      </a:moveTo>
                      <a:cubicBezTo>
                        <a:pt x="0" y="406"/>
                        <a:pt x="52" y="366"/>
                        <a:pt x="61" y="321"/>
                      </a:cubicBezTo>
                      <a:cubicBezTo>
                        <a:pt x="70" y="276"/>
                        <a:pt x="62" y="222"/>
                        <a:pt x="73" y="197"/>
                      </a:cubicBezTo>
                      <a:cubicBezTo>
                        <a:pt x="84" y="172"/>
                        <a:pt x="116" y="181"/>
                        <a:pt x="125" y="169"/>
                      </a:cubicBezTo>
                      <a:cubicBezTo>
                        <a:pt x="134" y="157"/>
                        <a:pt x="118" y="132"/>
                        <a:pt x="129" y="125"/>
                      </a:cubicBezTo>
                      <a:cubicBezTo>
                        <a:pt x="140" y="118"/>
                        <a:pt x="178" y="139"/>
                        <a:pt x="193" y="125"/>
                      </a:cubicBezTo>
                      <a:cubicBezTo>
                        <a:pt x="208" y="111"/>
                        <a:pt x="206" y="62"/>
                        <a:pt x="221" y="41"/>
                      </a:cubicBezTo>
                      <a:cubicBezTo>
                        <a:pt x="236" y="20"/>
                        <a:pt x="260" y="2"/>
                        <a:pt x="281" y="1"/>
                      </a:cubicBezTo>
                      <a:cubicBezTo>
                        <a:pt x="302" y="0"/>
                        <a:pt x="326" y="7"/>
                        <a:pt x="349" y="33"/>
                      </a:cubicBezTo>
                      <a:cubicBezTo>
                        <a:pt x="372" y="59"/>
                        <a:pt x="385" y="85"/>
                        <a:pt x="421" y="157"/>
                      </a:cubicBezTo>
                      <a:cubicBezTo>
                        <a:pt x="457" y="229"/>
                        <a:pt x="515" y="380"/>
                        <a:pt x="565" y="465"/>
                      </a:cubicBezTo>
                      <a:cubicBezTo>
                        <a:pt x="615" y="550"/>
                        <a:pt x="674" y="626"/>
                        <a:pt x="721" y="669"/>
                      </a:cubicBezTo>
                      <a:cubicBezTo>
                        <a:pt x="768" y="712"/>
                        <a:pt x="814" y="701"/>
                        <a:pt x="849" y="721"/>
                      </a:cubicBezTo>
                      <a:cubicBezTo>
                        <a:pt x="884" y="741"/>
                        <a:pt x="915" y="771"/>
                        <a:pt x="929" y="789"/>
                      </a:cubicBezTo>
                      <a:cubicBezTo>
                        <a:pt x="943" y="807"/>
                        <a:pt x="924" y="821"/>
                        <a:pt x="933" y="829"/>
                      </a:cubicBezTo>
                      <a:cubicBezTo>
                        <a:pt x="942" y="837"/>
                        <a:pt x="977" y="828"/>
                        <a:pt x="981" y="837"/>
                      </a:cubicBezTo>
                      <a:cubicBezTo>
                        <a:pt x="985" y="846"/>
                        <a:pt x="955" y="869"/>
                        <a:pt x="957" y="885"/>
                      </a:cubicBezTo>
                      <a:cubicBezTo>
                        <a:pt x="959" y="901"/>
                        <a:pt x="991" y="916"/>
                        <a:pt x="993" y="933"/>
                      </a:cubicBezTo>
                      <a:cubicBezTo>
                        <a:pt x="995" y="950"/>
                        <a:pt x="972" y="968"/>
                        <a:pt x="969" y="985"/>
                      </a:cubicBezTo>
                      <a:cubicBezTo>
                        <a:pt x="966" y="1002"/>
                        <a:pt x="965" y="1015"/>
                        <a:pt x="973" y="1033"/>
                      </a:cubicBezTo>
                      <a:cubicBezTo>
                        <a:pt x="981" y="1051"/>
                        <a:pt x="1011" y="1075"/>
                        <a:pt x="1017" y="1093"/>
                      </a:cubicBezTo>
                      <a:cubicBezTo>
                        <a:pt x="1023" y="1111"/>
                        <a:pt x="1006" y="1126"/>
                        <a:pt x="1009" y="1141"/>
                      </a:cubicBezTo>
                      <a:cubicBezTo>
                        <a:pt x="1012" y="1156"/>
                        <a:pt x="1038" y="1163"/>
                        <a:pt x="1037" y="1185"/>
                      </a:cubicBezTo>
                      <a:cubicBezTo>
                        <a:pt x="1036" y="1207"/>
                        <a:pt x="1019" y="1246"/>
                        <a:pt x="1005" y="1273"/>
                      </a:cubicBezTo>
                      <a:cubicBezTo>
                        <a:pt x="991" y="1300"/>
                        <a:pt x="980" y="1328"/>
                        <a:pt x="953" y="1345"/>
                      </a:cubicBezTo>
                      <a:cubicBezTo>
                        <a:pt x="926" y="1362"/>
                        <a:pt x="905" y="1382"/>
                        <a:pt x="845" y="1373"/>
                      </a:cubicBezTo>
                      <a:cubicBezTo>
                        <a:pt x="785" y="1364"/>
                        <a:pt x="676" y="1324"/>
                        <a:pt x="593" y="1293"/>
                      </a:cubicBezTo>
                      <a:cubicBezTo>
                        <a:pt x="510" y="1262"/>
                        <a:pt x="412" y="1284"/>
                        <a:pt x="345" y="1185"/>
                      </a:cubicBezTo>
                      <a:cubicBezTo>
                        <a:pt x="278" y="1086"/>
                        <a:pt x="243" y="820"/>
                        <a:pt x="189" y="701"/>
                      </a:cubicBezTo>
                      <a:cubicBezTo>
                        <a:pt x="135" y="582"/>
                        <a:pt x="42" y="532"/>
                        <a:pt x="21" y="4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7cb0"/>
                    </a:gs>
                    <a:gs pos="100000">
                      <a:srgbClr val="fb418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30200" y="6279840"/>
                  <a:ext cx="304920" cy="171000"/>
                </a:xfrm>
                <a:custGeom>
                  <a:avLst/>
                  <a:gdLst/>
                  <a:ahLst/>
                  <a:rect l="l" t="t" r="r" b="b"/>
                  <a:pathLst>
                    <a:path w="1024" h="588">
                      <a:moveTo>
                        <a:pt x="43" y="323"/>
                      </a:moveTo>
                      <a:cubicBezTo>
                        <a:pt x="20" y="327"/>
                        <a:pt x="0" y="366"/>
                        <a:pt x="3" y="391"/>
                      </a:cubicBezTo>
                      <a:cubicBezTo>
                        <a:pt x="6" y="416"/>
                        <a:pt x="41" y="448"/>
                        <a:pt x="63" y="475"/>
                      </a:cubicBezTo>
                      <a:cubicBezTo>
                        <a:pt x="85" y="502"/>
                        <a:pt x="106" y="542"/>
                        <a:pt x="135" y="555"/>
                      </a:cubicBezTo>
                      <a:cubicBezTo>
                        <a:pt x="164" y="568"/>
                        <a:pt x="212" y="562"/>
                        <a:pt x="239" y="555"/>
                      </a:cubicBezTo>
                      <a:cubicBezTo>
                        <a:pt x="266" y="548"/>
                        <a:pt x="280" y="517"/>
                        <a:pt x="299" y="511"/>
                      </a:cubicBezTo>
                      <a:cubicBezTo>
                        <a:pt x="318" y="505"/>
                        <a:pt x="335" y="518"/>
                        <a:pt x="351" y="519"/>
                      </a:cubicBezTo>
                      <a:cubicBezTo>
                        <a:pt x="367" y="520"/>
                        <a:pt x="378" y="509"/>
                        <a:pt x="395" y="515"/>
                      </a:cubicBezTo>
                      <a:cubicBezTo>
                        <a:pt x="412" y="521"/>
                        <a:pt x="430" y="543"/>
                        <a:pt x="451" y="555"/>
                      </a:cubicBezTo>
                      <a:cubicBezTo>
                        <a:pt x="472" y="567"/>
                        <a:pt x="484" y="588"/>
                        <a:pt x="519" y="587"/>
                      </a:cubicBezTo>
                      <a:cubicBezTo>
                        <a:pt x="554" y="586"/>
                        <a:pt x="630" y="568"/>
                        <a:pt x="663" y="551"/>
                      </a:cubicBezTo>
                      <a:cubicBezTo>
                        <a:pt x="696" y="534"/>
                        <a:pt x="704" y="511"/>
                        <a:pt x="715" y="483"/>
                      </a:cubicBezTo>
                      <a:cubicBezTo>
                        <a:pt x="726" y="455"/>
                        <a:pt x="704" y="392"/>
                        <a:pt x="731" y="383"/>
                      </a:cubicBezTo>
                      <a:cubicBezTo>
                        <a:pt x="758" y="374"/>
                        <a:pt x="846" y="439"/>
                        <a:pt x="879" y="431"/>
                      </a:cubicBezTo>
                      <a:cubicBezTo>
                        <a:pt x="912" y="423"/>
                        <a:pt x="910" y="353"/>
                        <a:pt x="931" y="335"/>
                      </a:cubicBezTo>
                      <a:cubicBezTo>
                        <a:pt x="952" y="317"/>
                        <a:pt x="1003" y="344"/>
                        <a:pt x="1007" y="323"/>
                      </a:cubicBezTo>
                      <a:cubicBezTo>
                        <a:pt x="1011" y="302"/>
                        <a:pt x="952" y="240"/>
                        <a:pt x="955" y="211"/>
                      </a:cubicBezTo>
                      <a:cubicBezTo>
                        <a:pt x="958" y="182"/>
                        <a:pt x="1022" y="179"/>
                        <a:pt x="1023" y="147"/>
                      </a:cubicBezTo>
                      <a:cubicBezTo>
                        <a:pt x="1024" y="115"/>
                        <a:pt x="981" y="38"/>
                        <a:pt x="959" y="19"/>
                      </a:cubicBezTo>
                      <a:cubicBezTo>
                        <a:pt x="937" y="0"/>
                        <a:pt x="926" y="5"/>
                        <a:pt x="891" y="31"/>
                      </a:cubicBezTo>
                      <a:cubicBezTo>
                        <a:pt x="856" y="57"/>
                        <a:pt x="798" y="126"/>
                        <a:pt x="747" y="175"/>
                      </a:cubicBezTo>
                      <a:cubicBezTo>
                        <a:pt x="696" y="224"/>
                        <a:pt x="638" y="284"/>
                        <a:pt x="587" y="327"/>
                      </a:cubicBezTo>
                      <a:cubicBezTo>
                        <a:pt x="536" y="370"/>
                        <a:pt x="488" y="417"/>
                        <a:pt x="439" y="435"/>
                      </a:cubicBezTo>
                      <a:cubicBezTo>
                        <a:pt x="390" y="453"/>
                        <a:pt x="340" y="446"/>
                        <a:pt x="291" y="435"/>
                      </a:cubicBezTo>
                      <a:cubicBezTo>
                        <a:pt x="242" y="424"/>
                        <a:pt x="184" y="385"/>
                        <a:pt x="143" y="367"/>
                      </a:cubicBezTo>
                      <a:cubicBezTo>
                        <a:pt x="102" y="349"/>
                        <a:pt x="66" y="319"/>
                        <a:pt x="43" y="323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464320" y="6198480"/>
                  <a:ext cx="356040" cy="217080"/>
                </a:xfrm>
                <a:custGeom>
                  <a:avLst/>
                  <a:gdLst/>
                  <a:ahLst/>
                  <a:rect l="l" t="t" r="r" b="b"/>
                  <a:pathLst>
                    <a:path w="1196" h="746">
                      <a:moveTo>
                        <a:pt x="993" y="15"/>
                      </a:moveTo>
                      <a:cubicBezTo>
                        <a:pt x="1020" y="11"/>
                        <a:pt x="1040" y="27"/>
                        <a:pt x="1065" y="31"/>
                      </a:cubicBezTo>
                      <a:cubicBezTo>
                        <a:pt x="1090" y="35"/>
                        <a:pt x="1125" y="24"/>
                        <a:pt x="1141" y="39"/>
                      </a:cubicBezTo>
                      <a:cubicBezTo>
                        <a:pt x="1157" y="54"/>
                        <a:pt x="1152" y="98"/>
                        <a:pt x="1161" y="119"/>
                      </a:cubicBezTo>
                      <a:cubicBezTo>
                        <a:pt x="1170" y="140"/>
                        <a:pt x="1196" y="153"/>
                        <a:pt x="1193" y="167"/>
                      </a:cubicBezTo>
                      <a:cubicBezTo>
                        <a:pt x="1190" y="181"/>
                        <a:pt x="1144" y="192"/>
                        <a:pt x="1141" y="203"/>
                      </a:cubicBezTo>
                      <a:cubicBezTo>
                        <a:pt x="1138" y="214"/>
                        <a:pt x="1178" y="220"/>
                        <a:pt x="1177" y="231"/>
                      </a:cubicBezTo>
                      <a:cubicBezTo>
                        <a:pt x="1176" y="242"/>
                        <a:pt x="1138" y="254"/>
                        <a:pt x="1133" y="267"/>
                      </a:cubicBezTo>
                      <a:cubicBezTo>
                        <a:pt x="1128" y="280"/>
                        <a:pt x="1155" y="295"/>
                        <a:pt x="1149" y="307"/>
                      </a:cubicBezTo>
                      <a:cubicBezTo>
                        <a:pt x="1143" y="319"/>
                        <a:pt x="1103" y="328"/>
                        <a:pt x="1097" y="339"/>
                      </a:cubicBezTo>
                      <a:cubicBezTo>
                        <a:pt x="1091" y="350"/>
                        <a:pt x="1116" y="356"/>
                        <a:pt x="1113" y="371"/>
                      </a:cubicBezTo>
                      <a:cubicBezTo>
                        <a:pt x="1110" y="386"/>
                        <a:pt x="1094" y="423"/>
                        <a:pt x="1077" y="431"/>
                      </a:cubicBezTo>
                      <a:cubicBezTo>
                        <a:pt x="1060" y="439"/>
                        <a:pt x="1030" y="412"/>
                        <a:pt x="1013" y="419"/>
                      </a:cubicBezTo>
                      <a:cubicBezTo>
                        <a:pt x="996" y="426"/>
                        <a:pt x="987" y="463"/>
                        <a:pt x="973" y="471"/>
                      </a:cubicBezTo>
                      <a:cubicBezTo>
                        <a:pt x="959" y="479"/>
                        <a:pt x="939" y="458"/>
                        <a:pt x="929" y="467"/>
                      </a:cubicBezTo>
                      <a:cubicBezTo>
                        <a:pt x="919" y="476"/>
                        <a:pt x="922" y="509"/>
                        <a:pt x="913" y="523"/>
                      </a:cubicBezTo>
                      <a:cubicBezTo>
                        <a:pt x="904" y="537"/>
                        <a:pt x="876" y="534"/>
                        <a:pt x="873" y="551"/>
                      </a:cubicBezTo>
                      <a:cubicBezTo>
                        <a:pt x="870" y="568"/>
                        <a:pt x="904" y="610"/>
                        <a:pt x="893" y="623"/>
                      </a:cubicBezTo>
                      <a:cubicBezTo>
                        <a:pt x="882" y="636"/>
                        <a:pt x="824" y="623"/>
                        <a:pt x="809" y="631"/>
                      </a:cubicBezTo>
                      <a:cubicBezTo>
                        <a:pt x="794" y="639"/>
                        <a:pt x="810" y="663"/>
                        <a:pt x="801" y="671"/>
                      </a:cubicBezTo>
                      <a:cubicBezTo>
                        <a:pt x="792" y="679"/>
                        <a:pt x="769" y="670"/>
                        <a:pt x="757" y="679"/>
                      </a:cubicBezTo>
                      <a:cubicBezTo>
                        <a:pt x="745" y="688"/>
                        <a:pt x="742" y="717"/>
                        <a:pt x="729" y="723"/>
                      </a:cubicBezTo>
                      <a:cubicBezTo>
                        <a:pt x="716" y="729"/>
                        <a:pt x="689" y="712"/>
                        <a:pt x="677" y="715"/>
                      </a:cubicBezTo>
                      <a:cubicBezTo>
                        <a:pt x="665" y="718"/>
                        <a:pt x="673" y="740"/>
                        <a:pt x="657" y="743"/>
                      </a:cubicBezTo>
                      <a:cubicBezTo>
                        <a:pt x="641" y="746"/>
                        <a:pt x="607" y="734"/>
                        <a:pt x="581" y="731"/>
                      </a:cubicBezTo>
                      <a:cubicBezTo>
                        <a:pt x="555" y="728"/>
                        <a:pt x="537" y="746"/>
                        <a:pt x="501" y="727"/>
                      </a:cubicBezTo>
                      <a:cubicBezTo>
                        <a:pt x="465" y="708"/>
                        <a:pt x="410" y="638"/>
                        <a:pt x="365" y="615"/>
                      </a:cubicBezTo>
                      <a:cubicBezTo>
                        <a:pt x="320" y="592"/>
                        <a:pt x="267" y="603"/>
                        <a:pt x="233" y="591"/>
                      </a:cubicBezTo>
                      <a:cubicBezTo>
                        <a:pt x="199" y="579"/>
                        <a:pt x="175" y="568"/>
                        <a:pt x="161" y="543"/>
                      </a:cubicBezTo>
                      <a:cubicBezTo>
                        <a:pt x="147" y="518"/>
                        <a:pt x="170" y="470"/>
                        <a:pt x="149" y="443"/>
                      </a:cubicBezTo>
                      <a:cubicBezTo>
                        <a:pt x="128" y="416"/>
                        <a:pt x="56" y="407"/>
                        <a:pt x="37" y="383"/>
                      </a:cubicBezTo>
                      <a:cubicBezTo>
                        <a:pt x="18" y="359"/>
                        <a:pt x="0" y="310"/>
                        <a:pt x="33" y="299"/>
                      </a:cubicBezTo>
                      <a:cubicBezTo>
                        <a:pt x="66" y="288"/>
                        <a:pt x="171" y="356"/>
                        <a:pt x="233" y="315"/>
                      </a:cubicBezTo>
                      <a:cubicBezTo>
                        <a:pt x="295" y="274"/>
                        <a:pt x="355" y="102"/>
                        <a:pt x="405" y="51"/>
                      </a:cubicBezTo>
                      <a:cubicBezTo>
                        <a:pt x="455" y="0"/>
                        <a:pt x="474" y="13"/>
                        <a:pt x="533" y="7"/>
                      </a:cubicBezTo>
                      <a:cubicBezTo>
                        <a:pt x="592" y="1"/>
                        <a:pt x="696" y="7"/>
                        <a:pt x="757" y="15"/>
                      </a:cubicBezTo>
                      <a:cubicBezTo>
                        <a:pt x="818" y="23"/>
                        <a:pt x="862" y="55"/>
                        <a:pt x="901" y="55"/>
                      </a:cubicBezTo>
                      <a:cubicBezTo>
                        <a:pt x="940" y="55"/>
                        <a:pt x="966" y="19"/>
                        <a:pt x="993" y="1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db1d0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587080" y="6152760"/>
                  <a:ext cx="183600" cy="71640"/>
                </a:xfrm>
                <a:custGeom>
                  <a:avLst/>
                  <a:gdLst/>
                  <a:ahLst/>
                  <a:rect l="l" t="t" r="r" b="b"/>
                  <a:pathLst>
                    <a:path w="617" h="247">
                      <a:moveTo>
                        <a:pt x="37" y="32"/>
                      </a:moveTo>
                      <a:cubicBezTo>
                        <a:pt x="51" y="0"/>
                        <a:pt x="61" y="17"/>
                        <a:pt x="89" y="28"/>
                      </a:cubicBezTo>
                      <a:cubicBezTo>
                        <a:pt x="117" y="39"/>
                        <a:pt x="174" y="85"/>
                        <a:pt x="205" y="100"/>
                      </a:cubicBezTo>
                      <a:cubicBezTo>
                        <a:pt x="236" y="115"/>
                        <a:pt x="259" y="108"/>
                        <a:pt x="273" y="116"/>
                      </a:cubicBezTo>
                      <a:cubicBezTo>
                        <a:pt x="287" y="124"/>
                        <a:pt x="278" y="145"/>
                        <a:pt x="289" y="148"/>
                      </a:cubicBezTo>
                      <a:cubicBezTo>
                        <a:pt x="300" y="151"/>
                        <a:pt x="324" y="133"/>
                        <a:pt x="341" y="136"/>
                      </a:cubicBezTo>
                      <a:cubicBezTo>
                        <a:pt x="358" y="139"/>
                        <a:pt x="366" y="159"/>
                        <a:pt x="389" y="168"/>
                      </a:cubicBezTo>
                      <a:cubicBezTo>
                        <a:pt x="412" y="177"/>
                        <a:pt x="452" y="185"/>
                        <a:pt x="477" y="188"/>
                      </a:cubicBezTo>
                      <a:cubicBezTo>
                        <a:pt x="502" y="191"/>
                        <a:pt x="515" y="199"/>
                        <a:pt x="537" y="188"/>
                      </a:cubicBezTo>
                      <a:cubicBezTo>
                        <a:pt x="559" y="177"/>
                        <a:pt x="601" y="123"/>
                        <a:pt x="609" y="120"/>
                      </a:cubicBezTo>
                      <a:cubicBezTo>
                        <a:pt x="617" y="117"/>
                        <a:pt x="601" y="148"/>
                        <a:pt x="585" y="168"/>
                      </a:cubicBezTo>
                      <a:cubicBezTo>
                        <a:pt x="569" y="188"/>
                        <a:pt x="543" y="234"/>
                        <a:pt x="513" y="240"/>
                      </a:cubicBezTo>
                      <a:cubicBezTo>
                        <a:pt x="483" y="246"/>
                        <a:pt x="437" y="211"/>
                        <a:pt x="405" y="204"/>
                      </a:cubicBezTo>
                      <a:cubicBezTo>
                        <a:pt x="373" y="197"/>
                        <a:pt x="356" y="201"/>
                        <a:pt x="321" y="200"/>
                      </a:cubicBezTo>
                      <a:cubicBezTo>
                        <a:pt x="286" y="199"/>
                        <a:pt x="234" y="194"/>
                        <a:pt x="193" y="196"/>
                      </a:cubicBezTo>
                      <a:cubicBezTo>
                        <a:pt x="152" y="198"/>
                        <a:pt x="104" y="208"/>
                        <a:pt x="73" y="212"/>
                      </a:cubicBezTo>
                      <a:cubicBezTo>
                        <a:pt x="42" y="216"/>
                        <a:pt x="10" y="247"/>
                        <a:pt x="5" y="220"/>
                      </a:cubicBezTo>
                      <a:cubicBezTo>
                        <a:pt x="0" y="193"/>
                        <a:pt x="23" y="64"/>
                        <a:pt x="37" y="3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b418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431920" y="6307200"/>
                  <a:ext cx="262800" cy="210600"/>
                </a:xfrm>
                <a:custGeom>
                  <a:avLst/>
                  <a:gdLst/>
                  <a:ahLst/>
                  <a:rect l="l" t="t" r="r" b="b"/>
                  <a:pathLst>
                    <a:path w="883" h="724">
                      <a:moveTo>
                        <a:pt x="129" y="2"/>
                      </a:moveTo>
                      <a:cubicBezTo>
                        <a:pt x="98" y="0"/>
                        <a:pt x="82" y="43"/>
                        <a:pt x="61" y="54"/>
                      </a:cubicBezTo>
                      <a:cubicBezTo>
                        <a:pt x="40" y="65"/>
                        <a:pt x="0" y="63"/>
                        <a:pt x="1" y="70"/>
                      </a:cubicBezTo>
                      <a:cubicBezTo>
                        <a:pt x="2" y="77"/>
                        <a:pt x="55" y="86"/>
                        <a:pt x="69" y="94"/>
                      </a:cubicBezTo>
                      <a:cubicBezTo>
                        <a:pt x="83" y="102"/>
                        <a:pt x="84" y="107"/>
                        <a:pt x="85" y="118"/>
                      </a:cubicBezTo>
                      <a:cubicBezTo>
                        <a:pt x="86" y="129"/>
                        <a:pt x="70" y="153"/>
                        <a:pt x="73" y="162"/>
                      </a:cubicBezTo>
                      <a:cubicBezTo>
                        <a:pt x="76" y="171"/>
                        <a:pt x="100" y="157"/>
                        <a:pt x="105" y="174"/>
                      </a:cubicBezTo>
                      <a:cubicBezTo>
                        <a:pt x="110" y="191"/>
                        <a:pt x="95" y="247"/>
                        <a:pt x="101" y="266"/>
                      </a:cubicBezTo>
                      <a:cubicBezTo>
                        <a:pt x="107" y="285"/>
                        <a:pt x="136" y="275"/>
                        <a:pt x="141" y="290"/>
                      </a:cubicBezTo>
                      <a:cubicBezTo>
                        <a:pt x="146" y="305"/>
                        <a:pt x="122" y="341"/>
                        <a:pt x="129" y="358"/>
                      </a:cubicBezTo>
                      <a:cubicBezTo>
                        <a:pt x="136" y="375"/>
                        <a:pt x="174" y="377"/>
                        <a:pt x="185" y="390"/>
                      </a:cubicBezTo>
                      <a:cubicBezTo>
                        <a:pt x="196" y="403"/>
                        <a:pt x="182" y="423"/>
                        <a:pt x="193" y="434"/>
                      </a:cubicBezTo>
                      <a:cubicBezTo>
                        <a:pt x="204" y="445"/>
                        <a:pt x="232" y="447"/>
                        <a:pt x="249" y="458"/>
                      </a:cubicBezTo>
                      <a:cubicBezTo>
                        <a:pt x="266" y="469"/>
                        <a:pt x="278" y="493"/>
                        <a:pt x="293" y="498"/>
                      </a:cubicBezTo>
                      <a:cubicBezTo>
                        <a:pt x="308" y="503"/>
                        <a:pt x="320" y="479"/>
                        <a:pt x="337" y="486"/>
                      </a:cubicBezTo>
                      <a:cubicBezTo>
                        <a:pt x="354" y="493"/>
                        <a:pt x="378" y="533"/>
                        <a:pt x="393" y="538"/>
                      </a:cubicBezTo>
                      <a:cubicBezTo>
                        <a:pt x="408" y="543"/>
                        <a:pt x="415" y="517"/>
                        <a:pt x="429" y="518"/>
                      </a:cubicBezTo>
                      <a:cubicBezTo>
                        <a:pt x="443" y="519"/>
                        <a:pt x="464" y="545"/>
                        <a:pt x="477" y="546"/>
                      </a:cubicBezTo>
                      <a:cubicBezTo>
                        <a:pt x="490" y="547"/>
                        <a:pt x="492" y="520"/>
                        <a:pt x="505" y="522"/>
                      </a:cubicBezTo>
                      <a:cubicBezTo>
                        <a:pt x="518" y="524"/>
                        <a:pt x="537" y="540"/>
                        <a:pt x="553" y="558"/>
                      </a:cubicBezTo>
                      <a:cubicBezTo>
                        <a:pt x="569" y="576"/>
                        <a:pt x="578" y="607"/>
                        <a:pt x="601" y="630"/>
                      </a:cubicBezTo>
                      <a:cubicBezTo>
                        <a:pt x="624" y="653"/>
                        <a:pt x="668" y="684"/>
                        <a:pt x="693" y="698"/>
                      </a:cubicBezTo>
                      <a:cubicBezTo>
                        <a:pt x="718" y="712"/>
                        <a:pt x="729" y="710"/>
                        <a:pt x="753" y="714"/>
                      </a:cubicBezTo>
                      <a:cubicBezTo>
                        <a:pt x="777" y="718"/>
                        <a:pt x="816" y="724"/>
                        <a:pt x="837" y="722"/>
                      </a:cubicBezTo>
                      <a:cubicBezTo>
                        <a:pt x="858" y="720"/>
                        <a:pt x="883" y="708"/>
                        <a:pt x="877" y="702"/>
                      </a:cubicBezTo>
                      <a:cubicBezTo>
                        <a:pt x="871" y="696"/>
                        <a:pt x="826" y="692"/>
                        <a:pt x="801" y="686"/>
                      </a:cubicBezTo>
                      <a:cubicBezTo>
                        <a:pt x="776" y="680"/>
                        <a:pt x="750" y="674"/>
                        <a:pt x="729" y="666"/>
                      </a:cubicBezTo>
                      <a:cubicBezTo>
                        <a:pt x="708" y="658"/>
                        <a:pt x="689" y="646"/>
                        <a:pt x="677" y="638"/>
                      </a:cubicBezTo>
                      <a:cubicBezTo>
                        <a:pt x="665" y="630"/>
                        <a:pt x="656" y="637"/>
                        <a:pt x="653" y="618"/>
                      </a:cubicBezTo>
                      <a:cubicBezTo>
                        <a:pt x="650" y="599"/>
                        <a:pt x="671" y="545"/>
                        <a:pt x="657" y="526"/>
                      </a:cubicBezTo>
                      <a:cubicBezTo>
                        <a:pt x="643" y="507"/>
                        <a:pt x="588" y="515"/>
                        <a:pt x="569" y="506"/>
                      </a:cubicBezTo>
                      <a:cubicBezTo>
                        <a:pt x="550" y="497"/>
                        <a:pt x="559" y="479"/>
                        <a:pt x="545" y="474"/>
                      </a:cubicBezTo>
                      <a:cubicBezTo>
                        <a:pt x="531" y="469"/>
                        <a:pt x="504" y="481"/>
                        <a:pt x="485" y="474"/>
                      </a:cubicBezTo>
                      <a:cubicBezTo>
                        <a:pt x="466" y="467"/>
                        <a:pt x="449" y="440"/>
                        <a:pt x="433" y="430"/>
                      </a:cubicBezTo>
                      <a:cubicBezTo>
                        <a:pt x="417" y="420"/>
                        <a:pt x="395" y="433"/>
                        <a:pt x="389" y="414"/>
                      </a:cubicBezTo>
                      <a:cubicBezTo>
                        <a:pt x="383" y="395"/>
                        <a:pt x="395" y="345"/>
                        <a:pt x="397" y="314"/>
                      </a:cubicBezTo>
                      <a:cubicBezTo>
                        <a:pt x="399" y="283"/>
                        <a:pt x="418" y="249"/>
                        <a:pt x="401" y="230"/>
                      </a:cubicBezTo>
                      <a:cubicBezTo>
                        <a:pt x="384" y="211"/>
                        <a:pt x="316" y="221"/>
                        <a:pt x="293" y="202"/>
                      </a:cubicBezTo>
                      <a:cubicBezTo>
                        <a:pt x="270" y="183"/>
                        <a:pt x="273" y="141"/>
                        <a:pt x="265" y="118"/>
                      </a:cubicBezTo>
                      <a:cubicBezTo>
                        <a:pt x="257" y="95"/>
                        <a:pt x="268" y="85"/>
                        <a:pt x="245" y="66"/>
                      </a:cubicBezTo>
                      <a:cubicBezTo>
                        <a:pt x="222" y="47"/>
                        <a:pt x="160" y="4"/>
                        <a:pt x="129" y="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168760" y="6231600"/>
                  <a:ext cx="314280" cy="314640"/>
                </a:xfrm>
                <a:custGeom>
                  <a:avLst/>
                  <a:gdLst/>
                  <a:ahLst/>
                  <a:rect l="l" t="t" r="r" b="b"/>
                  <a:pathLst>
                    <a:path w="1055" h="1082">
                      <a:moveTo>
                        <a:pt x="249" y="5"/>
                      </a:moveTo>
                      <a:cubicBezTo>
                        <a:pt x="194" y="0"/>
                        <a:pt x="205" y="84"/>
                        <a:pt x="181" y="129"/>
                      </a:cubicBezTo>
                      <a:cubicBezTo>
                        <a:pt x="157" y="174"/>
                        <a:pt x="117" y="222"/>
                        <a:pt x="105" y="273"/>
                      </a:cubicBezTo>
                      <a:cubicBezTo>
                        <a:pt x="93" y="324"/>
                        <a:pt x="112" y="396"/>
                        <a:pt x="109" y="433"/>
                      </a:cubicBezTo>
                      <a:cubicBezTo>
                        <a:pt x="106" y="470"/>
                        <a:pt x="104" y="479"/>
                        <a:pt x="89" y="497"/>
                      </a:cubicBezTo>
                      <a:cubicBezTo>
                        <a:pt x="74" y="515"/>
                        <a:pt x="24" y="527"/>
                        <a:pt x="17" y="541"/>
                      </a:cubicBezTo>
                      <a:cubicBezTo>
                        <a:pt x="10" y="555"/>
                        <a:pt x="47" y="564"/>
                        <a:pt x="45" y="581"/>
                      </a:cubicBezTo>
                      <a:cubicBezTo>
                        <a:pt x="43" y="598"/>
                        <a:pt x="6" y="628"/>
                        <a:pt x="5" y="641"/>
                      </a:cubicBezTo>
                      <a:cubicBezTo>
                        <a:pt x="4" y="654"/>
                        <a:pt x="41" y="648"/>
                        <a:pt x="41" y="661"/>
                      </a:cubicBezTo>
                      <a:cubicBezTo>
                        <a:pt x="41" y="674"/>
                        <a:pt x="0" y="704"/>
                        <a:pt x="5" y="721"/>
                      </a:cubicBezTo>
                      <a:cubicBezTo>
                        <a:pt x="10" y="738"/>
                        <a:pt x="66" y="746"/>
                        <a:pt x="69" y="765"/>
                      </a:cubicBezTo>
                      <a:cubicBezTo>
                        <a:pt x="72" y="784"/>
                        <a:pt x="24" y="820"/>
                        <a:pt x="21" y="837"/>
                      </a:cubicBezTo>
                      <a:cubicBezTo>
                        <a:pt x="18" y="854"/>
                        <a:pt x="46" y="854"/>
                        <a:pt x="49" y="865"/>
                      </a:cubicBezTo>
                      <a:cubicBezTo>
                        <a:pt x="52" y="876"/>
                        <a:pt x="37" y="894"/>
                        <a:pt x="41" y="901"/>
                      </a:cubicBezTo>
                      <a:cubicBezTo>
                        <a:pt x="45" y="908"/>
                        <a:pt x="70" y="894"/>
                        <a:pt x="73" y="905"/>
                      </a:cubicBezTo>
                      <a:cubicBezTo>
                        <a:pt x="76" y="916"/>
                        <a:pt x="47" y="950"/>
                        <a:pt x="57" y="965"/>
                      </a:cubicBezTo>
                      <a:cubicBezTo>
                        <a:pt x="67" y="980"/>
                        <a:pt x="114" y="984"/>
                        <a:pt x="133" y="997"/>
                      </a:cubicBezTo>
                      <a:cubicBezTo>
                        <a:pt x="152" y="1010"/>
                        <a:pt x="160" y="1029"/>
                        <a:pt x="169" y="1041"/>
                      </a:cubicBezTo>
                      <a:cubicBezTo>
                        <a:pt x="178" y="1053"/>
                        <a:pt x="180" y="1072"/>
                        <a:pt x="185" y="1069"/>
                      </a:cubicBezTo>
                      <a:cubicBezTo>
                        <a:pt x="190" y="1066"/>
                        <a:pt x="188" y="1034"/>
                        <a:pt x="201" y="1025"/>
                      </a:cubicBezTo>
                      <a:cubicBezTo>
                        <a:pt x="214" y="1016"/>
                        <a:pt x="246" y="1024"/>
                        <a:pt x="261" y="1013"/>
                      </a:cubicBezTo>
                      <a:cubicBezTo>
                        <a:pt x="276" y="1002"/>
                        <a:pt x="275" y="964"/>
                        <a:pt x="293" y="957"/>
                      </a:cubicBezTo>
                      <a:cubicBezTo>
                        <a:pt x="311" y="950"/>
                        <a:pt x="342" y="971"/>
                        <a:pt x="369" y="973"/>
                      </a:cubicBezTo>
                      <a:cubicBezTo>
                        <a:pt x="396" y="975"/>
                        <a:pt x="433" y="958"/>
                        <a:pt x="453" y="969"/>
                      </a:cubicBezTo>
                      <a:cubicBezTo>
                        <a:pt x="473" y="980"/>
                        <a:pt x="464" y="1028"/>
                        <a:pt x="489" y="1041"/>
                      </a:cubicBezTo>
                      <a:cubicBezTo>
                        <a:pt x="514" y="1054"/>
                        <a:pt x="576" y="1038"/>
                        <a:pt x="605" y="1045"/>
                      </a:cubicBezTo>
                      <a:cubicBezTo>
                        <a:pt x="634" y="1052"/>
                        <a:pt x="637" y="1080"/>
                        <a:pt x="665" y="1081"/>
                      </a:cubicBezTo>
                      <a:cubicBezTo>
                        <a:pt x="693" y="1082"/>
                        <a:pt x="742" y="1067"/>
                        <a:pt x="773" y="1049"/>
                      </a:cubicBezTo>
                      <a:cubicBezTo>
                        <a:pt x="804" y="1031"/>
                        <a:pt x="822" y="993"/>
                        <a:pt x="849" y="973"/>
                      </a:cubicBezTo>
                      <a:cubicBezTo>
                        <a:pt x="876" y="953"/>
                        <a:pt x="913" y="942"/>
                        <a:pt x="933" y="929"/>
                      </a:cubicBezTo>
                      <a:cubicBezTo>
                        <a:pt x="953" y="916"/>
                        <a:pt x="953" y="924"/>
                        <a:pt x="969" y="893"/>
                      </a:cubicBezTo>
                      <a:cubicBezTo>
                        <a:pt x="985" y="862"/>
                        <a:pt x="1016" y="786"/>
                        <a:pt x="1029" y="745"/>
                      </a:cubicBezTo>
                      <a:cubicBezTo>
                        <a:pt x="1042" y="704"/>
                        <a:pt x="1055" y="715"/>
                        <a:pt x="1049" y="649"/>
                      </a:cubicBezTo>
                      <a:cubicBezTo>
                        <a:pt x="1043" y="583"/>
                        <a:pt x="1002" y="426"/>
                        <a:pt x="993" y="349"/>
                      </a:cubicBezTo>
                      <a:cubicBezTo>
                        <a:pt x="984" y="272"/>
                        <a:pt x="1025" y="223"/>
                        <a:pt x="993" y="185"/>
                      </a:cubicBezTo>
                      <a:cubicBezTo>
                        <a:pt x="961" y="147"/>
                        <a:pt x="881" y="126"/>
                        <a:pt x="801" y="121"/>
                      </a:cubicBezTo>
                      <a:cubicBezTo>
                        <a:pt x="721" y="116"/>
                        <a:pt x="606" y="174"/>
                        <a:pt x="513" y="157"/>
                      </a:cubicBezTo>
                      <a:cubicBezTo>
                        <a:pt x="420" y="140"/>
                        <a:pt x="304" y="10"/>
                        <a:pt x="249" y="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079840" y="6020280"/>
                  <a:ext cx="191160" cy="192600"/>
                </a:xfrm>
                <a:custGeom>
                  <a:avLst/>
                  <a:gdLst/>
                  <a:ahLst/>
                  <a:rect l="l" t="t" r="r" b="b"/>
                  <a:pathLst>
                    <a:path w="642" h="662">
                      <a:moveTo>
                        <a:pt x="55" y="559"/>
                      </a:moveTo>
                      <a:cubicBezTo>
                        <a:pt x="26" y="532"/>
                        <a:pt x="24" y="518"/>
                        <a:pt x="15" y="483"/>
                      </a:cubicBezTo>
                      <a:cubicBezTo>
                        <a:pt x="6" y="448"/>
                        <a:pt x="0" y="388"/>
                        <a:pt x="3" y="351"/>
                      </a:cubicBezTo>
                      <a:cubicBezTo>
                        <a:pt x="6" y="314"/>
                        <a:pt x="18" y="281"/>
                        <a:pt x="35" y="259"/>
                      </a:cubicBezTo>
                      <a:cubicBezTo>
                        <a:pt x="52" y="237"/>
                        <a:pt x="79" y="230"/>
                        <a:pt x="107" y="219"/>
                      </a:cubicBezTo>
                      <a:cubicBezTo>
                        <a:pt x="135" y="208"/>
                        <a:pt x="165" y="206"/>
                        <a:pt x="203" y="195"/>
                      </a:cubicBezTo>
                      <a:cubicBezTo>
                        <a:pt x="241" y="184"/>
                        <a:pt x="304" y="180"/>
                        <a:pt x="335" y="151"/>
                      </a:cubicBezTo>
                      <a:cubicBezTo>
                        <a:pt x="366" y="122"/>
                        <a:pt x="370" y="46"/>
                        <a:pt x="391" y="23"/>
                      </a:cubicBezTo>
                      <a:cubicBezTo>
                        <a:pt x="412" y="0"/>
                        <a:pt x="427" y="7"/>
                        <a:pt x="459" y="11"/>
                      </a:cubicBezTo>
                      <a:cubicBezTo>
                        <a:pt x="491" y="15"/>
                        <a:pt x="553" y="20"/>
                        <a:pt x="583" y="47"/>
                      </a:cubicBezTo>
                      <a:cubicBezTo>
                        <a:pt x="613" y="74"/>
                        <a:pt x="642" y="130"/>
                        <a:pt x="639" y="171"/>
                      </a:cubicBezTo>
                      <a:cubicBezTo>
                        <a:pt x="636" y="212"/>
                        <a:pt x="612" y="262"/>
                        <a:pt x="563" y="291"/>
                      </a:cubicBezTo>
                      <a:cubicBezTo>
                        <a:pt x="514" y="320"/>
                        <a:pt x="354" y="295"/>
                        <a:pt x="347" y="343"/>
                      </a:cubicBezTo>
                      <a:cubicBezTo>
                        <a:pt x="340" y="391"/>
                        <a:pt x="496" y="529"/>
                        <a:pt x="523" y="579"/>
                      </a:cubicBezTo>
                      <a:cubicBezTo>
                        <a:pt x="550" y="629"/>
                        <a:pt x="562" y="632"/>
                        <a:pt x="507" y="643"/>
                      </a:cubicBezTo>
                      <a:cubicBezTo>
                        <a:pt x="452" y="654"/>
                        <a:pt x="268" y="662"/>
                        <a:pt x="191" y="647"/>
                      </a:cubicBezTo>
                      <a:cubicBezTo>
                        <a:pt x="114" y="632"/>
                        <a:pt x="84" y="586"/>
                        <a:pt x="55" y="55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db1d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263080" y="6296040"/>
                  <a:ext cx="234000" cy="140040"/>
                </a:xfrm>
                <a:custGeom>
                  <a:avLst/>
                  <a:gdLst/>
                  <a:ahLst/>
                  <a:rect l="l" t="t" r="r" b="b"/>
                  <a:pathLst>
                    <a:path w="786" h="482">
                      <a:moveTo>
                        <a:pt x="8" y="64"/>
                      </a:moveTo>
                      <a:cubicBezTo>
                        <a:pt x="0" y="60"/>
                        <a:pt x="12" y="116"/>
                        <a:pt x="32" y="148"/>
                      </a:cubicBezTo>
                      <a:cubicBezTo>
                        <a:pt x="52" y="180"/>
                        <a:pt x="105" y="232"/>
                        <a:pt x="128" y="256"/>
                      </a:cubicBezTo>
                      <a:cubicBezTo>
                        <a:pt x="151" y="280"/>
                        <a:pt x="149" y="280"/>
                        <a:pt x="172" y="292"/>
                      </a:cubicBezTo>
                      <a:cubicBezTo>
                        <a:pt x="195" y="304"/>
                        <a:pt x="225" y="309"/>
                        <a:pt x="268" y="328"/>
                      </a:cubicBezTo>
                      <a:cubicBezTo>
                        <a:pt x="311" y="347"/>
                        <a:pt x="393" y="385"/>
                        <a:pt x="432" y="404"/>
                      </a:cubicBezTo>
                      <a:cubicBezTo>
                        <a:pt x="471" y="423"/>
                        <a:pt x="473" y="437"/>
                        <a:pt x="504" y="440"/>
                      </a:cubicBezTo>
                      <a:cubicBezTo>
                        <a:pt x="535" y="443"/>
                        <a:pt x="583" y="425"/>
                        <a:pt x="616" y="424"/>
                      </a:cubicBezTo>
                      <a:cubicBezTo>
                        <a:pt x="649" y="423"/>
                        <a:pt x="676" y="429"/>
                        <a:pt x="704" y="436"/>
                      </a:cubicBezTo>
                      <a:cubicBezTo>
                        <a:pt x="732" y="443"/>
                        <a:pt x="782" y="482"/>
                        <a:pt x="784" y="468"/>
                      </a:cubicBezTo>
                      <a:cubicBezTo>
                        <a:pt x="786" y="454"/>
                        <a:pt x="729" y="380"/>
                        <a:pt x="716" y="352"/>
                      </a:cubicBezTo>
                      <a:cubicBezTo>
                        <a:pt x="703" y="324"/>
                        <a:pt x="720" y="295"/>
                        <a:pt x="708" y="300"/>
                      </a:cubicBezTo>
                      <a:cubicBezTo>
                        <a:pt x="696" y="305"/>
                        <a:pt x="669" y="363"/>
                        <a:pt x="644" y="380"/>
                      </a:cubicBezTo>
                      <a:cubicBezTo>
                        <a:pt x="619" y="397"/>
                        <a:pt x="583" y="401"/>
                        <a:pt x="560" y="404"/>
                      </a:cubicBezTo>
                      <a:cubicBezTo>
                        <a:pt x="537" y="407"/>
                        <a:pt x="525" y="409"/>
                        <a:pt x="504" y="400"/>
                      </a:cubicBezTo>
                      <a:cubicBezTo>
                        <a:pt x="483" y="391"/>
                        <a:pt x="459" y="359"/>
                        <a:pt x="436" y="352"/>
                      </a:cubicBezTo>
                      <a:cubicBezTo>
                        <a:pt x="413" y="345"/>
                        <a:pt x="387" y="363"/>
                        <a:pt x="368" y="356"/>
                      </a:cubicBezTo>
                      <a:cubicBezTo>
                        <a:pt x="349" y="349"/>
                        <a:pt x="321" y="319"/>
                        <a:pt x="320" y="308"/>
                      </a:cubicBezTo>
                      <a:cubicBezTo>
                        <a:pt x="319" y="297"/>
                        <a:pt x="347" y="301"/>
                        <a:pt x="364" y="292"/>
                      </a:cubicBezTo>
                      <a:cubicBezTo>
                        <a:pt x="381" y="283"/>
                        <a:pt x="406" y="278"/>
                        <a:pt x="424" y="256"/>
                      </a:cubicBezTo>
                      <a:cubicBezTo>
                        <a:pt x="442" y="234"/>
                        <a:pt x="472" y="197"/>
                        <a:pt x="472" y="156"/>
                      </a:cubicBezTo>
                      <a:cubicBezTo>
                        <a:pt x="472" y="115"/>
                        <a:pt x="443" y="16"/>
                        <a:pt x="424" y="8"/>
                      </a:cubicBezTo>
                      <a:cubicBezTo>
                        <a:pt x="405" y="0"/>
                        <a:pt x="372" y="79"/>
                        <a:pt x="356" y="108"/>
                      </a:cubicBezTo>
                      <a:cubicBezTo>
                        <a:pt x="340" y="137"/>
                        <a:pt x="333" y="158"/>
                        <a:pt x="328" y="184"/>
                      </a:cubicBezTo>
                      <a:cubicBezTo>
                        <a:pt x="323" y="210"/>
                        <a:pt x="339" y="248"/>
                        <a:pt x="328" y="264"/>
                      </a:cubicBezTo>
                      <a:cubicBezTo>
                        <a:pt x="317" y="280"/>
                        <a:pt x="285" y="281"/>
                        <a:pt x="260" y="280"/>
                      </a:cubicBezTo>
                      <a:cubicBezTo>
                        <a:pt x="235" y="279"/>
                        <a:pt x="206" y="278"/>
                        <a:pt x="176" y="260"/>
                      </a:cubicBezTo>
                      <a:cubicBezTo>
                        <a:pt x="146" y="242"/>
                        <a:pt x="107" y="204"/>
                        <a:pt x="80" y="172"/>
                      </a:cubicBezTo>
                      <a:cubicBezTo>
                        <a:pt x="53" y="140"/>
                        <a:pt x="16" y="68"/>
                        <a:pt x="8" y="64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108640" y="6131520"/>
                  <a:ext cx="110520" cy="60480"/>
                </a:xfrm>
                <a:custGeom>
                  <a:avLst/>
                  <a:gdLst/>
                  <a:ahLst/>
                  <a:rect l="l" t="t" r="r" b="b"/>
                  <a:pathLst>
                    <a:path w="371" h="208">
                      <a:moveTo>
                        <a:pt x="198" y="1"/>
                      </a:moveTo>
                      <a:cubicBezTo>
                        <a:pt x="167" y="0"/>
                        <a:pt x="126" y="26"/>
                        <a:pt x="106" y="41"/>
                      </a:cubicBezTo>
                      <a:cubicBezTo>
                        <a:pt x="86" y="56"/>
                        <a:pt x="87" y="76"/>
                        <a:pt x="78" y="89"/>
                      </a:cubicBezTo>
                      <a:cubicBezTo>
                        <a:pt x="69" y="102"/>
                        <a:pt x="61" y="112"/>
                        <a:pt x="50" y="117"/>
                      </a:cubicBezTo>
                      <a:cubicBezTo>
                        <a:pt x="39" y="122"/>
                        <a:pt x="0" y="111"/>
                        <a:pt x="10" y="117"/>
                      </a:cubicBezTo>
                      <a:cubicBezTo>
                        <a:pt x="20" y="123"/>
                        <a:pt x="85" y="149"/>
                        <a:pt x="110" y="153"/>
                      </a:cubicBezTo>
                      <a:cubicBezTo>
                        <a:pt x="135" y="157"/>
                        <a:pt x="163" y="134"/>
                        <a:pt x="162" y="141"/>
                      </a:cubicBezTo>
                      <a:cubicBezTo>
                        <a:pt x="161" y="148"/>
                        <a:pt x="96" y="183"/>
                        <a:pt x="102" y="193"/>
                      </a:cubicBezTo>
                      <a:cubicBezTo>
                        <a:pt x="108" y="203"/>
                        <a:pt x="167" y="202"/>
                        <a:pt x="198" y="201"/>
                      </a:cubicBezTo>
                      <a:cubicBezTo>
                        <a:pt x="229" y="200"/>
                        <a:pt x="257" y="192"/>
                        <a:pt x="286" y="189"/>
                      </a:cubicBezTo>
                      <a:cubicBezTo>
                        <a:pt x="315" y="186"/>
                        <a:pt x="369" y="208"/>
                        <a:pt x="370" y="185"/>
                      </a:cubicBezTo>
                      <a:cubicBezTo>
                        <a:pt x="371" y="162"/>
                        <a:pt x="324" y="78"/>
                        <a:pt x="294" y="49"/>
                      </a:cubicBezTo>
                      <a:cubicBezTo>
                        <a:pt x="264" y="20"/>
                        <a:pt x="229" y="2"/>
                        <a:pt x="19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db1d0"/>
                    </a:gs>
                    <a:gs pos="100000">
                      <a:srgbClr val="fc62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209440" y="5861520"/>
                  <a:ext cx="164160" cy="9720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8" y="24"/>
                      </a:moveTo>
                      <a:cubicBezTo>
                        <a:pt x="16" y="48"/>
                        <a:pt x="97" y="130"/>
                        <a:pt x="136" y="180"/>
                      </a:cubicBezTo>
                      <a:cubicBezTo>
                        <a:pt x="175" y="230"/>
                        <a:pt x="191" y="313"/>
                        <a:pt x="240" y="324"/>
                      </a:cubicBezTo>
                      <a:cubicBezTo>
                        <a:pt x="289" y="335"/>
                        <a:pt x="385" y="265"/>
                        <a:pt x="432" y="244"/>
                      </a:cubicBezTo>
                      <a:cubicBezTo>
                        <a:pt x="479" y="223"/>
                        <a:pt x="551" y="229"/>
                        <a:pt x="520" y="196"/>
                      </a:cubicBezTo>
                      <a:cubicBezTo>
                        <a:pt x="489" y="163"/>
                        <a:pt x="316" y="75"/>
                        <a:pt x="244" y="48"/>
                      </a:cubicBezTo>
                      <a:cubicBezTo>
                        <a:pt x="172" y="21"/>
                        <a:pt x="126" y="38"/>
                        <a:pt x="88" y="36"/>
                      </a:cubicBezTo>
                      <a:cubicBezTo>
                        <a:pt x="50" y="34"/>
                        <a:pt x="0" y="0"/>
                        <a:pt x="8" y="24"/>
                      </a:cubicBezTo>
                      <a:close/>
                    </a:path>
                  </a:pathLst>
                </a:custGeom>
                <a:solidFill>
                  <a:srgbClr val="fc62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260560" y="6007320"/>
                  <a:ext cx="227160" cy="338040"/>
                </a:xfrm>
                <a:custGeom>
                  <a:avLst/>
                  <a:gdLst/>
                  <a:ahLst/>
                  <a:rect l="l" t="t" r="r" b="b"/>
                  <a:pathLst>
                    <a:path w="763" h="1162">
                      <a:moveTo>
                        <a:pt x="384" y="1055"/>
                      </a:moveTo>
                      <a:cubicBezTo>
                        <a:pt x="361" y="1093"/>
                        <a:pt x="345" y="1125"/>
                        <a:pt x="324" y="1139"/>
                      </a:cubicBezTo>
                      <a:cubicBezTo>
                        <a:pt x="303" y="1153"/>
                        <a:pt x="280" y="1162"/>
                        <a:pt x="260" y="1139"/>
                      </a:cubicBezTo>
                      <a:cubicBezTo>
                        <a:pt x="240" y="1116"/>
                        <a:pt x="223" y="1070"/>
                        <a:pt x="204" y="1003"/>
                      </a:cubicBezTo>
                      <a:cubicBezTo>
                        <a:pt x="185" y="936"/>
                        <a:pt x="173" y="814"/>
                        <a:pt x="148" y="739"/>
                      </a:cubicBezTo>
                      <a:cubicBezTo>
                        <a:pt x="123" y="664"/>
                        <a:pt x="71" y="630"/>
                        <a:pt x="52" y="555"/>
                      </a:cubicBezTo>
                      <a:cubicBezTo>
                        <a:pt x="33" y="480"/>
                        <a:pt x="41" y="357"/>
                        <a:pt x="32" y="287"/>
                      </a:cubicBezTo>
                      <a:cubicBezTo>
                        <a:pt x="23" y="217"/>
                        <a:pt x="0" y="174"/>
                        <a:pt x="0" y="135"/>
                      </a:cubicBezTo>
                      <a:cubicBezTo>
                        <a:pt x="0" y="96"/>
                        <a:pt x="2" y="70"/>
                        <a:pt x="32" y="51"/>
                      </a:cubicBezTo>
                      <a:cubicBezTo>
                        <a:pt x="62" y="32"/>
                        <a:pt x="132" y="0"/>
                        <a:pt x="180" y="19"/>
                      </a:cubicBezTo>
                      <a:cubicBezTo>
                        <a:pt x="228" y="38"/>
                        <a:pt x="281" y="73"/>
                        <a:pt x="320" y="163"/>
                      </a:cubicBezTo>
                      <a:cubicBezTo>
                        <a:pt x="359" y="253"/>
                        <a:pt x="349" y="456"/>
                        <a:pt x="416" y="559"/>
                      </a:cubicBezTo>
                      <a:cubicBezTo>
                        <a:pt x="483" y="662"/>
                        <a:pt x="685" y="728"/>
                        <a:pt x="724" y="783"/>
                      </a:cubicBezTo>
                      <a:cubicBezTo>
                        <a:pt x="763" y="838"/>
                        <a:pt x="696" y="870"/>
                        <a:pt x="652" y="891"/>
                      </a:cubicBezTo>
                      <a:cubicBezTo>
                        <a:pt x="608" y="912"/>
                        <a:pt x="505" y="885"/>
                        <a:pt x="460" y="911"/>
                      </a:cubicBezTo>
                      <a:cubicBezTo>
                        <a:pt x="415" y="937"/>
                        <a:pt x="407" y="1017"/>
                        <a:pt x="384" y="105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5336d"/>
                    </a:gs>
                    <a:gs pos="50000">
                      <a:srgbClr val="fb418c"/>
                    </a:gs>
                    <a:gs pos="100000">
                      <a:srgbClr val="c533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181000" y="6116760"/>
                  <a:ext cx="175680" cy="236160"/>
                </a:xfrm>
                <a:custGeom>
                  <a:avLst/>
                  <a:gdLst/>
                  <a:ahLst/>
                  <a:rect l="l" t="t" r="r" b="b"/>
                  <a:pathLst>
                    <a:path w="590" h="812">
                      <a:moveTo>
                        <a:pt x="587" y="795"/>
                      </a:moveTo>
                      <a:cubicBezTo>
                        <a:pt x="584" y="800"/>
                        <a:pt x="565" y="812"/>
                        <a:pt x="539" y="803"/>
                      </a:cubicBezTo>
                      <a:cubicBezTo>
                        <a:pt x="513" y="794"/>
                        <a:pt x="462" y="762"/>
                        <a:pt x="431" y="743"/>
                      </a:cubicBezTo>
                      <a:cubicBezTo>
                        <a:pt x="400" y="724"/>
                        <a:pt x="376" y="718"/>
                        <a:pt x="351" y="691"/>
                      </a:cubicBezTo>
                      <a:cubicBezTo>
                        <a:pt x="326" y="664"/>
                        <a:pt x="294" y="608"/>
                        <a:pt x="279" y="579"/>
                      </a:cubicBezTo>
                      <a:cubicBezTo>
                        <a:pt x="264" y="550"/>
                        <a:pt x="266" y="540"/>
                        <a:pt x="263" y="519"/>
                      </a:cubicBezTo>
                      <a:cubicBezTo>
                        <a:pt x="260" y="498"/>
                        <a:pt x="264" y="486"/>
                        <a:pt x="259" y="455"/>
                      </a:cubicBezTo>
                      <a:cubicBezTo>
                        <a:pt x="254" y="424"/>
                        <a:pt x="245" y="363"/>
                        <a:pt x="235" y="335"/>
                      </a:cubicBezTo>
                      <a:cubicBezTo>
                        <a:pt x="225" y="307"/>
                        <a:pt x="218" y="304"/>
                        <a:pt x="199" y="287"/>
                      </a:cubicBezTo>
                      <a:cubicBezTo>
                        <a:pt x="180" y="270"/>
                        <a:pt x="147" y="255"/>
                        <a:pt x="123" y="235"/>
                      </a:cubicBezTo>
                      <a:cubicBezTo>
                        <a:pt x="99" y="215"/>
                        <a:pt x="69" y="186"/>
                        <a:pt x="55" y="167"/>
                      </a:cubicBezTo>
                      <a:cubicBezTo>
                        <a:pt x="41" y="148"/>
                        <a:pt x="46" y="142"/>
                        <a:pt x="39" y="123"/>
                      </a:cubicBezTo>
                      <a:cubicBezTo>
                        <a:pt x="32" y="104"/>
                        <a:pt x="0" y="70"/>
                        <a:pt x="11" y="55"/>
                      </a:cubicBezTo>
                      <a:cubicBezTo>
                        <a:pt x="22" y="40"/>
                        <a:pt x="69" y="40"/>
                        <a:pt x="103" y="31"/>
                      </a:cubicBezTo>
                      <a:cubicBezTo>
                        <a:pt x="137" y="22"/>
                        <a:pt x="176" y="0"/>
                        <a:pt x="215" y="3"/>
                      </a:cubicBezTo>
                      <a:cubicBezTo>
                        <a:pt x="254" y="6"/>
                        <a:pt x="310" y="25"/>
                        <a:pt x="335" y="47"/>
                      </a:cubicBezTo>
                      <a:cubicBezTo>
                        <a:pt x="360" y="69"/>
                        <a:pt x="361" y="104"/>
                        <a:pt x="367" y="135"/>
                      </a:cubicBezTo>
                      <a:cubicBezTo>
                        <a:pt x="373" y="166"/>
                        <a:pt x="360" y="197"/>
                        <a:pt x="371" y="235"/>
                      </a:cubicBezTo>
                      <a:cubicBezTo>
                        <a:pt x="382" y="273"/>
                        <a:pt x="414" y="312"/>
                        <a:pt x="431" y="363"/>
                      </a:cubicBezTo>
                      <a:cubicBezTo>
                        <a:pt x="448" y="414"/>
                        <a:pt x="467" y="493"/>
                        <a:pt x="475" y="539"/>
                      </a:cubicBezTo>
                      <a:cubicBezTo>
                        <a:pt x="483" y="585"/>
                        <a:pt x="472" y="609"/>
                        <a:pt x="479" y="639"/>
                      </a:cubicBezTo>
                      <a:cubicBezTo>
                        <a:pt x="486" y="669"/>
                        <a:pt x="502" y="697"/>
                        <a:pt x="515" y="719"/>
                      </a:cubicBezTo>
                      <a:cubicBezTo>
                        <a:pt x="528" y="741"/>
                        <a:pt x="544" y="758"/>
                        <a:pt x="555" y="771"/>
                      </a:cubicBezTo>
                      <a:cubicBezTo>
                        <a:pt x="566" y="784"/>
                        <a:pt x="590" y="790"/>
                        <a:pt x="587" y="7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c7cb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397360" y="5905800"/>
                  <a:ext cx="174960" cy="126000"/>
                </a:xfrm>
                <a:custGeom>
                  <a:avLst/>
                  <a:gdLst/>
                  <a:ahLst/>
                  <a:rect l="l" t="t" r="r" b="b"/>
                  <a:pathLst>
                    <a:path w="588" h="434">
                      <a:moveTo>
                        <a:pt x="9" y="65"/>
                      </a:moveTo>
                      <a:cubicBezTo>
                        <a:pt x="0" y="44"/>
                        <a:pt x="33" y="48"/>
                        <a:pt x="53" y="37"/>
                      </a:cubicBezTo>
                      <a:cubicBezTo>
                        <a:pt x="73" y="26"/>
                        <a:pt x="104" y="2"/>
                        <a:pt x="129" y="1"/>
                      </a:cubicBezTo>
                      <a:cubicBezTo>
                        <a:pt x="154" y="0"/>
                        <a:pt x="180" y="17"/>
                        <a:pt x="201" y="33"/>
                      </a:cubicBezTo>
                      <a:cubicBezTo>
                        <a:pt x="222" y="49"/>
                        <a:pt x="234" y="74"/>
                        <a:pt x="253" y="97"/>
                      </a:cubicBezTo>
                      <a:cubicBezTo>
                        <a:pt x="272" y="120"/>
                        <a:pt x="280" y="151"/>
                        <a:pt x="313" y="173"/>
                      </a:cubicBezTo>
                      <a:cubicBezTo>
                        <a:pt x="346" y="195"/>
                        <a:pt x="420" y="204"/>
                        <a:pt x="449" y="229"/>
                      </a:cubicBezTo>
                      <a:cubicBezTo>
                        <a:pt x="478" y="254"/>
                        <a:pt x="472" y="297"/>
                        <a:pt x="489" y="321"/>
                      </a:cubicBezTo>
                      <a:cubicBezTo>
                        <a:pt x="506" y="345"/>
                        <a:pt x="544" y="356"/>
                        <a:pt x="553" y="373"/>
                      </a:cubicBezTo>
                      <a:cubicBezTo>
                        <a:pt x="562" y="390"/>
                        <a:pt x="588" y="434"/>
                        <a:pt x="545" y="421"/>
                      </a:cubicBezTo>
                      <a:cubicBezTo>
                        <a:pt x="502" y="408"/>
                        <a:pt x="370" y="340"/>
                        <a:pt x="297" y="297"/>
                      </a:cubicBezTo>
                      <a:cubicBezTo>
                        <a:pt x="224" y="254"/>
                        <a:pt x="152" y="204"/>
                        <a:pt x="105" y="165"/>
                      </a:cubicBezTo>
                      <a:cubicBezTo>
                        <a:pt x="58" y="126"/>
                        <a:pt x="18" y="86"/>
                        <a:pt x="9" y="65"/>
                      </a:cubicBezTo>
                      <a:close/>
                    </a:path>
                  </a:pathLst>
                </a:custGeom>
                <a:solidFill>
                  <a:srgbClr val="fb4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205120" y="5917320"/>
                  <a:ext cx="263160" cy="129600"/>
                </a:xfrm>
                <a:custGeom>
                  <a:avLst/>
                  <a:gdLst/>
                  <a:ahLst/>
                  <a:rect l="l" t="t" r="r" b="b"/>
                  <a:pathLst>
                    <a:path w="884" h="446">
                      <a:moveTo>
                        <a:pt x="195" y="445"/>
                      </a:moveTo>
                      <a:cubicBezTo>
                        <a:pt x="210" y="444"/>
                        <a:pt x="212" y="400"/>
                        <a:pt x="227" y="385"/>
                      </a:cubicBezTo>
                      <a:cubicBezTo>
                        <a:pt x="242" y="370"/>
                        <a:pt x="258" y="362"/>
                        <a:pt x="283" y="353"/>
                      </a:cubicBezTo>
                      <a:cubicBezTo>
                        <a:pt x="308" y="344"/>
                        <a:pt x="342" y="344"/>
                        <a:pt x="375" y="333"/>
                      </a:cubicBezTo>
                      <a:cubicBezTo>
                        <a:pt x="408" y="322"/>
                        <a:pt x="441" y="286"/>
                        <a:pt x="483" y="285"/>
                      </a:cubicBezTo>
                      <a:cubicBezTo>
                        <a:pt x="525" y="284"/>
                        <a:pt x="566" y="334"/>
                        <a:pt x="627" y="329"/>
                      </a:cubicBezTo>
                      <a:cubicBezTo>
                        <a:pt x="688" y="324"/>
                        <a:pt x="818" y="275"/>
                        <a:pt x="851" y="253"/>
                      </a:cubicBezTo>
                      <a:cubicBezTo>
                        <a:pt x="884" y="231"/>
                        <a:pt x="843" y="222"/>
                        <a:pt x="823" y="197"/>
                      </a:cubicBezTo>
                      <a:cubicBezTo>
                        <a:pt x="803" y="172"/>
                        <a:pt x="765" y="129"/>
                        <a:pt x="731" y="101"/>
                      </a:cubicBezTo>
                      <a:cubicBezTo>
                        <a:pt x="697" y="73"/>
                        <a:pt x="660" y="43"/>
                        <a:pt x="619" y="29"/>
                      </a:cubicBezTo>
                      <a:cubicBezTo>
                        <a:pt x="578" y="15"/>
                        <a:pt x="519" y="21"/>
                        <a:pt x="487" y="17"/>
                      </a:cubicBezTo>
                      <a:cubicBezTo>
                        <a:pt x="455" y="13"/>
                        <a:pt x="450" y="0"/>
                        <a:pt x="427" y="5"/>
                      </a:cubicBezTo>
                      <a:cubicBezTo>
                        <a:pt x="404" y="10"/>
                        <a:pt x="378" y="38"/>
                        <a:pt x="351" y="45"/>
                      </a:cubicBezTo>
                      <a:cubicBezTo>
                        <a:pt x="324" y="52"/>
                        <a:pt x="291" y="35"/>
                        <a:pt x="263" y="49"/>
                      </a:cubicBezTo>
                      <a:cubicBezTo>
                        <a:pt x="235" y="63"/>
                        <a:pt x="210" y="102"/>
                        <a:pt x="183" y="129"/>
                      </a:cubicBezTo>
                      <a:cubicBezTo>
                        <a:pt x="156" y="156"/>
                        <a:pt x="126" y="180"/>
                        <a:pt x="99" y="209"/>
                      </a:cubicBezTo>
                      <a:cubicBezTo>
                        <a:pt x="72" y="238"/>
                        <a:pt x="36" y="276"/>
                        <a:pt x="23" y="301"/>
                      </a:cubicBezTo>
                      <a:cubicBezTo>
                        <a:pt x="10" y="326"/>
                        <a:pt x="0" y="342"/>
                        <a:pt x="19" y="357"/>
                      </a:cubicBezTo>
                      <a:cubicBezTo>
                        <a:pt x="38" y="372"/>
                        <a:pt x="111" y="374"/>
                        <a:pt x="139" y="389"/>
                      </a:cubicBezTo>
                      <a:cubicBezTo>
                        <a:pt x="167" y="404"/>
                        <a:pt x="180" y="446"/>
                        <a:pt x="195" y="4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7cb0"/>
                    </a:gs>
                    <a:gs pos="100000">
                      <a:srgbClr val="fb4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200800" y="5910480"/>
                  <a:ext cx="16272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823">
                      <a:moveTo>
                        <a:pt x="537" y="28"/>
                      </a:moveTo>
                      <a:cubicBezTo>
                        <a:pt x="527" y="20"/>
                        <a:pt x="465" y="0"/>
                        <a:pt x="437" y="4"/>
                      </a:cubicBezTo>
                      <a:cubicBezTo>
                        <a:pt x="409" y="8"/>
                        <a:pt x="397" y="41"/>
                        <a:pt x="369" y="52"/>
                      </a:cubicBezTo>
                      <a:cubicBezTo>
                        <a:pt x="341" y="63"/>
                        <a:pt x="304" y="49"/>
                        <a:pt x="269" y="68"/>
                      </a:cubicBezTo>
                      <a:cubicBezTo>
                        <a:pt x="234" y="87"/>
                        <a:pt x="192" y="138"/>
                        <a:pt x="157" y="168"/>
                      </a:cubicBezTo>
                      <a:cubicBezTo>
                        <a:pt x="122" y="198"/>
                        <a:pt x="83" y="221"/>
                        <a:pt x="61" y="248"/>
                      </a:cubicBezTo>
                      <a:cubicBezTo>
                        <a:pt x="39" y="275"/>
                        <a:pt x="32" y="304"/>
                        <a:pt x="25" y="328"/>
                      </a:cubicBezTo>
                      <a:cubicBezTo>
                        <a:pt x="18" y="352"/>
                        <a:pt x="0" y="378"/>
                        <a:pt x="17" y="392"/>
                      </a:cubicBezTo>
                      <a:cubicBezTo>
                        <a:pt x="34" y="406"/>
                        <a:pt x="96" y="393"/>
                        <a:pt x="125" y="412"/>
                      </a:cubicBezTo>
                      <a:cubicBezTo>
                        <a:pt x="154" y="431"/>
                        <a:pt x="171" y="467"/>
                        <a:pt x="193" y="504"/>
                      </a:cubicBezTo>
                      <a:cubicBezTo>
                        <a:pt x="215" y="541"/>
                        <a:pt x="247" y="597"/>
                        <a:pt x="257" y="636"/>
                      </a:cubicBezTo>
                      <a:cubicBezTo>
                        <a:pt x="267" y="675"/>
                        <a:pt x="262" y="711"/>
                        <a:pt x="253" y="740"/>
                      </a:cubicBezTo>
                      <a:cubicBezTo>
                        <a:pt x="244" y="769"/>
                        <a:pt x="203" y="801"/>
                        <a:pt x="201" y="812"/>
                      </a:cubicBezTo>
                      <a:cubicBezTo>
                        <a:pt x="199" y="823"/>
                        <a:pt x="224" y="815"/>
                        <a:pt x="241" y="808"/>
                      </a:cubicBezTo>
                      <a:cubicBezTo>
                        <a:pt x="258" y="801"/>
                        <a:pt x="294" y="785"/>
                        <a:pt x="301" y="768"/>
                      </a:cubicBezTo>
                      <a:cubicBezTo>
                        <a:pt x="308" y="751"/>
                        <a:pt x="284" y="726"/>
                        <a:pt x="285" y="704"/>
                      </a:cubicBezTo>
                      <a:cubicBezTo>
                        <a:pt x="286" y="682"/>
                        <a:pt x="313" y="661"/>
                        <a:pt x="305" y="636"/>
                      </a:cubicBezTo>
                      <a:cubicBezTo>
                        <a:pt x="297" y="611"/>
                        <a:pt x="250" y="583"/>
                        <a:pt x="237" y="556"/>
                      </a:cubicBezTo>
                      <a:cubicBezTo>
                        <a:pt x="224" y="529"/>
                        <a:pt x="239" y="498"/>
                        <a:pt x="229" y="476"/>
                      </a:cubicBezTo>
                      <a:cubicBezTo>
                        <a:pt x="219" y="454"/>
                        <a:pt x="188" y="439"/>
                        <a:pt x="177" y="424"/>
                      </a:cubicBezTo>
                      <a:cubicBezTo>
                        <a:pt x="166" y="409"/>
                        <a:pt x="180" y="397"/>
                        <a:pt x="161" y="388"/>
                      </a:cubicBezTo>
                      <a:cubicBezTo>
                        <a:pt x="142" y="379"/>
                        <a:pt x="84" y="377"/>
                        <a:pt x="65" y="372"/>
                      </a:cubicBezTo>
                      <a:cubicBezTo>
                        <a:pt x="46" y="367"/>
                        <a:pt x="44" y="369"/>
                        <a:pt x="45" y="356"/>
                      </a:cubicBezTo>
                      <a:cubicBezTo>
                        <a:pt x="46" y="343"/>
                        <a:pt x="56" y="311"/>
                        <a:pt x="69" y="296"/>
                      </a:cubicBezTo>
                      <a:cubicBezTo>
                        <a:pt x="82" y="281"/>
                        <a:pt x="108" y="276"/>
                        <a:pt x="125" y="268"/>
                      </a:cubicBezTo>
                      <a:cubicBezTo>
                        <a:pt x="142" y="260"/>
                        <a:pt x="163" y="259"/>
                        <a:pt x="169" y="248"/>
                      </a:cubicBezTo>
                      <a:cubicBezTo>
                        <a:pt x="175" y="237"/>
                        <a:pt x="154" y="216"/>
                        <a:pt x="161" y="200"/>
                      </a:cubicBezTo>
                      <a:cubicBezTo>
                        <a:pt x="168" y="184"/>
                        <a:pt x="198" y="169"/>
                        <a:pt x="213" y="152"/>
                      </a:cubicBezTo>
                      <a:cubicBezTo>
                        <a:pt x="228" y="135"/>
                        <a:pt x="234" y="112"/>
                        <a:pt x="249" y="100"/>
                      </a:cubicBezTo>
                      <a:cubicBezTo>
                        <a:pt x="264" y="88"/>
                        <a:pt x="282" y="83"/>
                        <a:pt x="305" y="80"/>
                      </a:cubicBezTo>
                      <a:cubicBezTo>
                        <a:pt x="328" y="77"/>
                        <a:pt x="362" y="91"/>
                        <a:pt x="385" y="84"/>
                      </a:cubicBezTo>
                      <a:cubicBezTo>
                        <a:pt x="408" y="77"/>
                        <a:pt x="422" y="41"/>
                        <a:pt x="441" y="36"/>
                      </a:cubicBezTo>
                      <a:cubicBezTo>
                        <a:pt x="460" y="31"/>
                        <a:pt x="482" y="53"/>
                        <a:pt x="497" y="52"/>
                      </a:cubicBezTo>
                      <a:cubicBezTo>
                        <a:pt x="512" y="51"/>
                        <a:pt x="547" y="36"/>
                        <a:pt x="537" y="28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335440" y="6149520"/>
                  <a:ext cx="138600" cy="92160"/>
                </a:xfrm>
                <a:custGeom>
                  <a:avLst/>
                  <a:gdLst/>
                  <a:ahLst/>
                  <a:rect l="l" t="t" r="r" b="b"/>
                  <a:pathLst>
                    <a:path w="466" h="317">
                      <a:moveTo>
                        <a:pt x="21" y="23"/>
                      </a:moveTo>
                      <a:cubicBezTo>
                        <a:pt x="0" y="36"/>
                        <a:pt x="20" y="75"/>
                        <a:pt x="25" y="91"/>
                      </a:cubicBezTo>
                      <a:cubicBezTo>
                        <a:pt x="30" y="107"/>
                        <a:pt x="50" y="109"/>
                        <a:pt x="49" y="119"/>
                      </a:cubicBezTo>
                      <a:cubicBezTo>
                        <a:pt x="48" y="129"/>
                        <a:pt x="16" y="146"/>
                        <a:pt x="21" y="151"/>
                      </a:cubicBezTo>
                      <a:cubicBezTo>
                        <a:pt x="26" y="156"/>
                        <a:pt x="60" y="152"/>
                        <a:pt x="77" y="151"/>
                      </a:cubicBezTo>
                      <a:cubicBezTo>
                        <a:pt x="94" y="150"/>
                        <a:pt x="119" y="138"/>
                        <a:pt x="121" y="147"/>
                      </a:cubicBezTo>
                      <a:cubicBezTo>
                        <a:pt x="123" y="156"/>
                        <a:pt x="86" y="192"/>
                        <a:pt x="89" y="203"/>
                      </a:cubicBezTo>
                      <a:cubicBezTo>
                        <a:pt x="92" y="214"/>
                        <a:pt x="128" y="212"/>
                        <a:pt x="141" y="215"/>
                      </a:cubicBezTo>
                      <a:cubicBezTo>
                        <a:pt x="154" y="218"/>
                        <a:pt x="164" y="216"/>
                        <a:pt x="169" y="223"/>
                      </a:cubicBezTo>
                      <a:cubicBezTo>
                        <a:pt x="174" y="230"/>
                        <a:pt x="159" y="246"/>
                        <a:pt x="173" y="259"/>
                      </a:cubicBezTo>
                      <a:cubicBezTo>
                        <a:pt x="187" y="272"/>
                        <a:pt x="228" y="290"/>
                        <a:pt x="253" y="299"/>
                      </a:cubicBezTo>
                      <a:cubicBezTo>
                        <a:pt x="278" y="308"/>
                        <a:pt x="302" y="314"/>
                        <a:pt x="325" y="315"/>
                      </a:cubicBezTo>
                      <a:cubicBezTo>
                        <a:pt x="348" y="316"/>
                        <a:pt x="366" y="310"/>
                        <a:pt x="389" y="307"/>
                      </a:cubicBezTo>
                      <a:cubicBezTo>
                        <a:pt x="412" y="304"/>
                        <a:pt x="466" y="317"/>
                        <a:pt x="461" y="295"/>
                      </a:cubicBezTo>
                      <a:cubicBezTo>
                        <a:pt x="456" y="273"/>
                        <a:pt x="394" y="210"/>
                        <a:pt x="361" y="175"/>
                      </a:cubicBezTo>
                      <a:cubicBezTo>
                        <a:pt x="328" y="140"/>
                        <a:pt x="296" y="114"/>
                        <a:pt x="261" y="87"/>
                      </a:cubicBezTo>
                      <a:cubicBezTo>
                        <a:pt x="226" y="60"/>
                        <a:pt x="192" y="22"/>
                        <a:pt x="153" y="11"/>
                      </a:cubicBezTo>
                      <a:cubicBezTo>
                        <a:pt x="114" y="0"/>
                        <a:pt x="42" y="10"/>
                        <a:pt x="21" y="23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299800" y="6058080"/>
                  <a:ext cx="99720" cy="11160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149" y="13"/>
                      </a:moveTo>
                      <a:cubicBezTo>
                        <a:pt x="124" y="26"/>
                        <a:pt x="78" y="64"/>
                        <a:pt x="53" y="93"/>
                      </a:cubicBezTo>
                      <a:cubicBezTo>
                        <a:pt x="28" y="122"/>
                        <a:pt x="2" y="169"/>
                        <a:pt x="1" y="185"/>
                      </a:cubicBezTo>
                      <a:cubicBezTo>
                        <a:pt x="0" y="201"/>
                        <a:pt x="28" y="192"/>
                        <a:pt x="49" y="189"/>
                      </a:cubicBezTo>
                      <a:cubicBezTo>
                        <a:pt x="70" y="186"/>
                        <a:pt x="123" y="156"/>
                        <a:pt x="125" y="165"/>
                      </a:cubicBezTo>
                      <a:cubicBezTo>
                        <a:pt x="127" y="174"/>
                        <a:pt x="64" y="222"/>
                        <a:pt x="61" y="241"/>
                      </a:cubicBezTo>
                      <a:cubicBezTo>
                        <a:pt x="58" y="260"/>
                        <a:pt x="102" y="260"/>
                        <a:pt x="105" y="277"/>
                      </a:cubicBezTo>
                      <a:cubicBezTo>
                        <a:pt x="108" y="294"/>
                        <a:pt x="72" y="329"/>
                        <a:pt x="81" y="341"/>
                      </a:cubicBezTo>
                      <a:cubicBezTo>
                        <a:pt x="90" y="353"/>
                        <a:pt x="140" y="342"/>
                        <a:pt x="157" y="349"/>
                      </a:cubicBezTo>
                      <a:cubicBezTo>
                        <a:pt x="174" y="356"/>
                        <a:pt x="166" y="384"/>
                        <a:pt x="185" y="381"/>
                      </a:cubicBezTo>
                      <a:cubicBezTo>
                        <a:pt x="204" y="378"/>
                        <a:pt x="245" y="358"/>
                        <a:pt x="269" y="333"/>
                      </a:cubicBezTo>
                      <a:cubicBezTo>
                        <a:pt x="293" y="308"/>
                        <a:pt x="322" y="268"/>
                        <a:pt x="329" y="233"/>
                      </a:cubicBezTo>
                      <a:cubicBezTo>
                        <a:pt x="336" y="198"/>
                        <a:pt x="323" y="150"/>
                        <a:pt x="309" y="125"/>
                      </a:cubicBezTo>
                      <a:cubicBezTo>
                        <a:pt x="295" y="100"/>
                        <a:pt x="263" y="100"/>
                        <a:pt x="245" y="81"/>
                      </a:cubicBezTo>
                      <a:cubicBezTo>
                        <a:pt x="227" y="62"/>
                        <a:pt x="216" y="24"/>
                        <a:pt x="201" y="13"/>
                      </a:cubicBezTo>
                      <a:cubicBezTo>
                        <a:pt x="186" y="2"/>
                        <a:pt x="174" y="0"/>
                        <a:pt x="149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284680" y="5976000"/>
                  <a:ext cx="109080" cy="54360"/>
                </a:xfrm>
                <a:custGeom>
                  <a:avLst/>
                  <a:gdLst/>
                  <a:ahLst/>
                  <a:rect l="l" t="t" r="r" b="b"/>
                  <a:pathLst>
                    <a:path w="367" h="187">
                      <a:moveTo>
                        <a:pt x="15" y="143"/>
                      </a:moveTo>
                      <a:cubicBezTo>
                        <a:pt x="0" y="133"/>
                        <a:pt x="30" y="112"/>
                        <a:pt x="55" y="99"/>
                      </a:cubicBezTo>
                      <a:cubicBezTo>
                        <a:pt x="80" y="86"/>
                        <a:pt x="132" y="83"/>
                        <a:pt x="163" y="67"/>
                      </a:cubicBezTo>
                      <a:cubicBezTo>
                        <a:pt x="194" y="51"/>
                        <a:pt x="218" y="6"/>
                        <a:pt x="239" y="3"/>
                      </a:cubicBezTo>
                      <a:cubicBezTo>
                        <a:pt x="260" y="0"/>
                        <a:pt x="270" y="31"/>
                        <a:pt x="291" y="47"/>
                      </a:cubicBezTo>
                      <a:cubicBezTo>
                        <a:pt x="312" y="63"/>
                        <a:pt x="367" y="77"/>
                        <a:pt x="367" y="99"/>
                      </a:cubicBezTo>
                      <a:cubicBezTo>
                        <a:pt x="367" y="121"/>
                        <a:pt x="318" y="171"/>
                        <a:pt x="291" y="179"/>
                      </a:cubicBezTo>
                      <a:cubicBezTo>
                        <a:pt x="264" y="187"/>
                        <a:pt x="228" y="150"/>
                        <a:pt x="203" y="147"/>
                      </a:cubicBezTo>
                      <a:cubicBezTo>
                        <a:pt x="178" y="144"/>
                        <a:pt x="173" y="160"/>
                        <a:pt x="143" y="159"/>
                      </a:cubicBezTo>
                      <a:cubicBezTo>
                        <a:pt x="113" y="158"/>
                        <a:pt x="30" y="153"/>
                        <a:pt x="15" y="143"/>
                      </a:cubicBezTo>
                      <a:close/>
                    </a:path>
                  </a:pathLst>
                </a:custGeom>
                <a:solidFill>
                  <a:srgbClr val="fc62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263800" y="6006240"/>
                  <a:ext cx="138240" cy="96120"/>
                </a:xfrm>
                <a:custGeom>
                  <a:avLst/>
                  <a:gdLst/>
                  <a:ahLst/>
                  <a:rect l="l" t="t" r="r" b="b"/>
                  <a:pathLst>
                    <a:path w="465" h="331">
                      <a:moveTo>
                        <a:pt x="413" y="331"/>
                      </a:moveTo>
                      <a:cubicBezTo>
                        <a:pt x="404" y="331"/>
                        <a:pt x="411" y="289"/>
                        <a:pt x="401" y="287"/>
                      </a:cubicBezTo>
                      <a:cubicBezTo>
                        <a:pt x="391" y="285"/>
                        <a:pt x="366" y="323"/>
                        <a:pt x="353" y="319"/>
                      </a:cubicBezTo>
                      <a:cubicBezTo>
                        <a:pt x="340" y="315"/>
                        <a:pt x="326" y="281"/>
                        <a:pt x="321" y="263"/>
                      </a:cubicBezTo>
                      <a:cubicBezTo>
                        <a:pt x="316" y="245"/>
                        <a:pt x="328" y="217"/>
                        <a:pt x="321" y="211"/>
                      </a:cubicBezTo>
                      <a:cubicBezTo>
                        <a:pt x="314" y="205"/>
                        <a:pt x="288" y="232"/>
                        <a:pt x="277" y="227"/>
                      </a:cubicBezTo>
                      <a:cubicBezTo>
                        <a:pt x="266" y="222"/>
                        <a:pt x="258" y="202"/>
                        <a:pt x="257" y="183"/>
                      </a:cubicBezTo>
                      <a:cubicBezTo>
                        <a:pt x="256" y="164"/>
                        <a:pt x="277" y="127"/>
                        <a:pt x="269" y="115"/>
                      </a:cubicBezTo>
                      <a:cubicBezTo>
                        <a:pt x="261" y="103"/>
                        <a:pt x="223" y="117"/>
                        <a:pt x="209" y="111"/>
                      </a:cubicBezTo>
                      <a:cubicBezTo>
                        <a:pt x="195" y="105"/>
                        <a:pt x="192" y="90"/>
                        <a:pt x="185" y="79"/>
                      </a:cubicBezTo>
                      <a:cubicBezTo>
                        <a:pt x="178" y="68"/>
                        <a:pt x="174" y="48"/>
                        <a:pt x="165" y="47"/>
                      </a:cubicBezTo>
                      <a:cubicBezTo>
                        <a:pt x="156" y="46"/>
                        <a:pt x="141" y="74"/>
                        <a:pt x="129" y="75"/>
                      </a:cubicBezTo>
                      <a:cubicBezTo>
                        <a:pt x="117" y="76"/>
                        <a:pt x="108" y="49"/>
                        <a:pt x="93" y="51"/>
                      </a:cubicBezTo>
                      <a:cubicBezTo>
                        <a:pt x="78" y="53"/>
                        <a:pt x="52" y="73"/>
                        <a:pt x="37" y="87"/>
                      </a:cubicBezTo>
                      <a:cubicBezTo>
                        <a:pt x="22" y="101"/>
                        <a:pt x="2" y="138"/>
                        <a:pt x="1" y="135"/>
                      </a:cubicBezTo>
                      <a:cubicBezTo>
                        <a:pt x="0" y="132"/>
                        <a:pt x="16" y="84"/>
                        <a:pt x="29" y="67"/>
                      </a:cubicBezTo>
                      <a:cubicBezTo>
                        <a:pt x="42" y="50"/>
                        <a:pt x="61" y="45"/>
                        <a:pt x="81" y="35"/>
                      </a:cubicBezTo>
                      <a:cubicBezTo>
                        <a:pt x="101" y="25"/>
                        <a:pt x="128" y="9"/>
                        <a:pt x="149" y="7"/>
                      </a:cubicBezTo>
                      <a:cubicBezTo>
                        <a:pt x="170" y="5"/>
                        <a:pt x="190" y="18"/>
                        <a:pt x="205" y="23"/>
                      </a:cubicBezTo>
                      <a:cubicBezTo>
                        <a:pt x="220" y="28"/>
                        <a:pt x="226" y="42"/>
                        <a:pt x="237" y="39"/>
                      </a:cubicBezTo>
                      <a:cubicBezTo>
                        <a:pt x="248" y="36"/>
                        <a:pt x="258" y="6"/>
                        <a:pt x="269" y="3"/>
                      </a:cubicBezTo>
                      <a:cubicBezTo>
                        <a:pt x="280" y="0"/>
                        <a:pt x="289" y="15"/>
                        <a:pt x="305" y="23"/>
                      </a:cubicBezTo>
                      <a:cubicBezTo>
                        <a:pt x="321" y="31"/>
                        <a:pt x="352" y="29"/>
                        <a:pt x="365" y="51"/>
                      </a:cubicBezTo>
                      <a:cubicBezTo>
                        <a:pt x="378" y="73"/>
                        <a:pt x="366" y="129"/>
                        <a:pt x="381" y="155"/>
                      </a:cubicBezTo>
                      <a:cubicBezTo>
                        <a:pt x="396" y="181"/>
                        <a:pt x="441" y="185"/>
                        <a:pt x="453" y="207"/>
                      </a:cubicBezTo>
                      <a:cubicBezTo>
                        <a:pt x="465" y="229"/>
                        <a:pt x="458" y="266"/>
                        <a:pt x="453" y="287"/>
                      </a:cubicBezTo>
                      <a:cubicBezTo>
                        <a:pt x="448" y="308"/>
                        <a:pt x="422" y="331"/>
                        <a:pt x="413" y="331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368920" y="6083280"/>
                  <a:ext cx="70560" cy="115560"/>
                </a:xfrm>
                <a:custGeom>
                  <a:avLst/>
                  <a:gdLst/>
                  <a:ahLst/>
                  <a:rect l="l" t="t" r="r" b="b"/>
                  <a:pathLst>
                    <a:path w="237" h="398">
                      <a:moveTo>
                        <a:pt x="93" y="19"/>
                      </a:moveTo>
                      <a:cubicBezTo>
                        <a:pt x="79" y="26"/>
                        <a:pt x="64" y="54"/>
                        <a:pt x="57" y="67"/>
                      </a:cubicBezTo>
                      <a:cubicBezTo>
                        <a:pt x="50" y="80"/>
                        <a:pt x="48" y="90"/>
                        <a:pt x="49" y="99"/>
                      </a:cubicBezTo>
                      <a:cubicBezTo>
                        <a:pt x="50" y="108"/>
                        <a:pt x="64" y="110"/>
                        <a:pt x="65" y="119"/>
                      </a:cubicBezTo>
                      <a:cubicBezTo>
                        <a:pt x="66" y="128"/>
                        <a:pt x="52" y="146"/>
                        <a:pt x="53" y="155"/>
                      </a:cubicBezTo>
                      <a:cubicBezTo>
                        <a:pt x="54" y="164"/>
                        <a:pt x="74" y="163"/>
                        <a:pt x="69" y="175"/>
                      </a:cubicBezTo>
                      <a:cubicBezTo>
                        <a:pt x="64" y="187"/>
                        <a:pt x="32" y="212"/>
                        <a:pt x="21" y="227"/>
                      </a:cubicBezTo>
                      <a:cubicBezTo>
                        <a:pt x="10" y="242"/>
                        <a:pt x="0" y="250"/>
                        <a:pt x="5" y="263"/>
                      </a:cubicBezTo>
                      <a:cubicBezTo>
                        <a:pt x="10" y="276"/>
                        <a:pt x="34" y="296"/>
                        <a:pt x="49" y="303"/>
                      </a:cubicBezTo>
                      <a:cubicBezTo>
                        <a:pt x="64" y="310"/>
                        <a:pt x="91" y="301"/>
                        <a:pt x="97" y="307"/>
                      </a:cubicBezTo>
                      <a:cubicBezTo>
                        <a:pt x="103" y="313"/>
                        <a:pt x="84" y="330"/>
                        <a:pt x="85" y="339"/>
                      </a:cubicBezTo>
                      <a:cubicBezTo>
                        <a:pt x="86" y="348"/>
                        <a:pt x="90" y="357"/>
                        <a:pt x="105" y="363"/>
                      </a:cubicBezTo>
                      <a:cubicBezTo>
                        <a:pt x="120" y="369"/>
                        <a:pt x="163" y="398"/>
                        <a:pt x="177" y="375"/>
                      </a:cubicBezTo>
                      <a:cubicBezTo>
                        <a:pt x="191" y="352"/>
                        <a:pt x="180" y="258"/>
                        <a:pt x="189" y="223"/>
                      </a:cubicBezTo>
                      <a:cubicBezTo>
                        <a:pt x="198" y="188"/>
                        <a:pt x="237" y="200"/>
                        <a:pt x="229" y="167"/>
                      </a:cubicBezTo>
                      <a:cubicBezTo>
                        <a:pt x="221" y="134"/>
                        <a:pt x="164" y="46"/>
                        <a:pt x="141" y="23"/>
                      </a:cubicBezTo>
                      <a:cubicBezTo>
                        <a:pt x="118" y="0"/>
                        <a:pt x="107" y="12"/>
                        <a:pt x="93" y="1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405640" y="6129720"/>
                  <a:ext cx="89640" cy="111600"/>
                </a:xfrm>
                <a:custGeom>
                  <a:avLst/>
                  <a:gdLst/>
                  <a:ahLst/>
                  <a:rect l="l" t="t" r="r" b="b"/>
                  <a:pathLst>
                    <a:path w="301" h="384">
                      <a:moveTo>
                        <a:pt x="98" y="11"/>
                      </a:moveTo>
                      <a:cubicBezTo>
                        <a:pt x="79" y="0"/>
                        <a:pt x="45" y="4"/>
                        <a:pt x="34" y="15"/>
                      </a:cubicBezTo>
                      <a:cubicBezTo>
                        <a:pt x="23" y="26"/>
                        <a:pt x="35" y="58"/>
                        <a:pt x="30" y="75"/>
                      </a:cubicBezTo>
                      <a:cubicBezTo>
                        <a:pt x="25" y="92"/>
                        <a:pt x="0" y="103"/>
                        <a:pt x="2" y="115"/>
                      </a:cubicBezTo>
                      <a:cubicBezTo>
                        <a:pt x="4" y="127"/>
                        <a:pt x="38" y="132"/>
                        <a:pt x="42" y="147"/>
                      </a:cubicBezTo>
                      <a:cubicBezTo>
                        <a:pt x="46" y="162"/>
                        <a:pt x="24" y="187"/>
                        <a:pt x="26" y="203"/>
                      </a:cubicBezTo>
                      <a:cubicBezTo>
                        <a:pt x="28" y="219"/>
                        <a:pt x="49" y="231"/>
                        <a:pt x="54" y="243"/>
                      </a:cubicBezTo>
                      <a:cubicBezTo>
                        <a:pt x="59" y="255"/>
                        <a:pt x="46" y="271"/>
                        <a:pt x="54" y="275"/>
                      </a:cubicBezTo>
                      <a:cubicBezTo>
                        <a:pt x="62" y="279"/>
                        <a:pt x="89" y="258"/>
                        <a:pt x="102" y="267"/>
                      </a:cubicBezTo>
                      <a:cubicBezTo>
                        <a:pt x="115" y="276"/>
                        <a:pt x="117" y="311"/>
                        <a:pt x="130" y="327"/>
                      </a:cubicBezTo>
                      <a:cubicBezTo>
                        <a:pt x="143" y="343"/>
                        <a:pt x="157" y="355"/>
                        <a:pt x="178" y="363"/>
                      </a:cubicBezTo>
                      <a:cubicBezTo>
                        <a:pt x="199" y="371"/>
                        <a:pt x="234" y="384"/>
                        <a:pt x="254" y="375"/>
                      </a:cubicBezTo>
                      <a:cubicBezTo>
                        <a:pt x="274" y="366"/>
                        <a:pt x="301" y="344"/>
                        <a:pt x="298" y="311"/>
                      </a:cubicBezTo>
                      <a:cubicBezTo>
                        <a:pt x="295" y="278"/>
                        <a:pt x="263" y="217"/>
                        <a:pt x="238" y="179"/>
                      </a:cubicBezTo>
                      <a:cubicBezTo>
                        <a:pt x="213" y="141"/>
                        <a:pt x="173" y="112"/>
                        <a:pt x="150" y="83"/>
                      </a:cubicBezTo>
                      <a:cubicBezTo>
                        <a:pt x="127" y="54"/>
                        <a:pt x="117" y="22"/>
                        <a:pt x="98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358120" y="5984640"/>
                  <a:ext cx="158040" cy="200160"/>
                </a:xfrm>
                <a:custGeom>
                  <a:avLst/>
                  <a:gdLst/>
                  <a:ahLst/>
                  <a:rect l="l" t="t" r="r" b="b"/>
                  <a:pathLst>
                    <a:path w="531" h="688">
                      <a:moveTo>
                        <a:pt x="353" y="18"/>
                      </a:moveTo>
                      <a:cubicBezTo>
                        <a:pt x="312" y="0"/>
                        <a:pt x="296" y="0"/>
                        <a:pt x="257" y="6"/>
                      </a:cubicBezTo>
                      <a:cubicBezTo>
                        <a:pt x="218" y="12"/>
                        <a:pt x="158" y="46"/>
                        <a:pt x="121" y="54"/>
                      </a:cubicBezTo>
                      <a:cubicBezTo>
                        <a:pt x="84" y="62"/>
                        <a:pt x="52" y="46"/>
                        <a:pt x="37" y="54"/>
                      </a:cubicBezTo>
                      <a:cubicBezTo>
                        <a:pt x="22" y="62"/>
                        <a:pt x="35" y="87"/>
                        <a:pt x="29" y="102"/>
                      </a:cubicBezTo>
                      <a:cubicBezTo>
                        <a:pt x="23" y="117"/>
                        <a:pt x="0" y="133"/>
                        <a:pt x="1" y="142"/>
                      </a:cubicBezTo>
                      <a:cubicBezTo>
                        <a:pt x="2" y="151"/>
                        <a:pt x="32" y="145"/>
                        <a:pt x="33" y="154"/>
                      </a:cubicBezTo>
                      <a:cubicBezTo>
                        <a:pt x="34" y="163"/>
                        <a:pt x="4" y="187"/>
                        <a:pt x="5" y="198"/>
                      </a:cubicBezTo>
                      <a:cubicBezTo>
                        <a:pt x="6" y="209"/>
                        <a:pt x="34" y="210"/>
                        <a:pt x="37" y="222"/>
                      </a:cubicBezTo>
                      <a:cubicBezTo>
                        <a:pt x="40" y="234"/>
                        <a:pt x="16" y="257"/>
                        <a:pt x="21" y="270"/>
                      </a:cubicBezTo>
                      <a:cubicBezTo>
                        <a:pt x="26" y="283"/>
                        <a:pt x="59" y="289"/>
                        <a:pt x="69" y="298"/>
                      </a:cubicBezTo>
                      <a:cubicBezTo>
                        <a:pt x="79" y="307"/>
                        <a:pt x="72" y="318"/>
                        <a:pt x="81" y="322"/>
                      </a:cubicBezTo>
                      <a:cubicBezTo>
                        <a:pt x="90" y="326"/>
                        <a:pt x="118" y="315"/>
                        <a:pt x="125" y="322"/>
                      </a:cubicBezTo>
                      <a:cubicBezTo>
                        <a:pt x="132" y="329"/>
                        <a:pt x="110" y="352"/>
                        <a:pt x="121" y="366"/>
                      </a:cubicBezTo>
                      <a:cubicBezTo>
                        <a:pt x="132" y="380"/>
                        <a:pt x="170" y="381"/>
                        <a:pt x="189" y="406"/>
                      </a:cubicBezTo>
                      <a:cubicBezTo>
                        <a:pt x="208" y="431"/>
                        <a:pt x="224" y="485"/>
                        <a:pt x="237" y="518"/>
                      </a:cubicBezTo>
                      <a:cubicBezTo>
                        <a:pt x="250" y="551"/>
                        <a:pt x="241" y="579"/>
                        <a:pt x="269" y="606"/>
                      </a:cubicBezTo>
                      <a:cubicBezTo>
                        <a:pt x="297" y="633"/>
                        <a:pt x="370" y="688"/>
                        <a:pt x="405" y="678"/>
                      </a:cubicBezTo>
                      <a:cubicBezTo>
                        <a:pt x="440" y="668"/>
                        <a:pt x="467" y="615"/>
                        <a:pt x="477" y="546"/>
                      </a:cubicBezTo>
                      <a:cubicBezTo>
                        <a:pt x="487" y="477"/>
                        <a:pt x="462" y="321"/>
                        <a:pt x="465" y="262"/>
                      </a:cubicBezTo>
                      <a:cubicBezTo>
                        <a:pt x="468" y="203"/>
                        <a:pt x="490" y="219"/>
                        <a:pt x="497" y="194"/>
                      </a:cubicBezTo>
                      <a:cubicBezTo>
                        <a:pt x="504" y="169"/>
                        <a:pt x="531" y="143"/>
                        <a:pt x="505" y="114"/>
                      </a:cubicBezTo>
                      <a:cubicBezTo>
                        <a:pt x="479" y="85"/>
                        <a:pt x="394" y="36"/>
                        <a:pt x="353" y="1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53520" y="6020640"/>
                  <a:ext cx="137880" cy="261360"/>
                </a:xfrm>
                <a:custGeom>
                  <a:avLst/>
                  <a:gdLst/>
                  <a:ahLst/>
                  <a:rect l="l" t="t" r="r" b="b"/>
                  <a:pathLst>
                    <a:path w="464" h="899">
                      <a:moveTo>
                        <a:pt x="25" y="862"/>
                      </a:moveTo>
                      <a:cubicBezTo>
                        <a:pt x="5" y="849"/>
                        <a:pt x="18" y="827"/>
                        <a:pt x="21" y="814"/>
                      </a:cubicBezTo>
                      <a:cubicBezTo>
                        <a:pt x="24" y="801"/>
                        <a:pt x="42" y="796"/>
                        <a:pt x="45" y="786"/>
                      </a:cubicBezTo>
                      <a:cubicBezTo>
                        <a:pt x="48" y="776"/>
                        <a:pt x="31" y="764"/>
                        <a:pt x="37" y="754"/>
                      </a:cubicBezTo>
                      <a:cubicBezTo>
                        <a:pt x="43" y="744"/>
                        <a:pt x="67" y="736"/>
                        <a:pt x="81" y="726"/>
                      </a:cubicBezTo>
                      <a:cubicBezTo>
                        <a:pt x="95" y="716"/>
                        <a:pt x="122" y="707"/>
                        <a:pt x="121" y="694"/>
                      </a:cubicBezTo>
                      <a:cubicBezTo>
                        <a:pt x="120" y="681"/>
                        <a:pt x="82" y="660"/>
                        <a:pt x="73" y="646"/>
                      </a:cubicBezTo>
                      <a:cubicBezTo>
                        <a:pt x="64" y="632"/>
                        <a:pt x="65" y="620"/>
                        <a:pt x="65" y="610"/>
                      </a:cubicBezTo>
                      <a:cubicBezTo>
                        <a:pt x="65" y="600"/>
                        <a:pt x="79" y="594"/>
                        <a:pt x="73" y="586"/>
                      </a:cubicBezTo>
                      <a:cubicBezTo>
                        <a:pt x="67" y="578"/>
                        <a:pt x="31" y="575"/>
                        <a:pt x="29" y="562"/>
                      </a:cubicBezTo>
                      <a:cubicBezTo>
                        <a:pt x="27" y="549"/>
                        <a:pt x="51" y="521"/>
                        <a:pt x="61" y="506"/>
                      </a:cubicBezTo>
                      <a:cubicBezTo>
                        <a:pt x="71" y="491"/>
                        <a:pt x="86" y="485"/>
                        <a:pt x="89" y="474"/>
                      </a:cubicBezTo>
                      <a:cubicBezTo>
                        <a:pt x="92" y="463"/>
                        <a:pt x="83" y="452"/>
                        <a:pt x="81" y="442"/>
                      </a:cubicBezTo>
                      <a:cubicBezTo>
                        <a:pt x="79" y="432"/>
                        <a:pt x="76" y="423"/>
                        <a:pt x="77" y="414"/>
                      </a:cubicBezTo>
                      <a:cubicBezTo>
                        <a:pt x="78" y="405"/>
                        <a:pt x="92" y="393"/>
                        <a:pt x="89" y="386"/>
                      </a:cubicBezTo>
                      <a:cubicBezTo>
                        <a:pt x="86" y="379"/>
                        <a:pt x="64" y="382"/>
                        <a:pt x="57" y="374"/>
                      </a:cubicBezTo>
                      <a:cubicBezTo>
                        <a:pt x="50" y="366"/>
                        <a:pt x="43" y="351"/>
                        <a:pt x="45" y="338"/>
                      </a:cubicBezTo>
                      <a:cubicBezTo>
                        <a:pt x="47" y="325"/>
                        <a:pt x="73" y="311"/>
                        <a:pt x="69" y="298"/>
                      </a:cubicBezTo>
                      <a:cubicBezTo>
                        <a:pt x="65" y="285"/>
                        <a:pt x="22" y="272"/>
                        <a:pt x="21" y="262"/>
                      </a:cubicBezTo>
                      <a:cubicBezTo>
                        <a:pt x="20" y="252"/>
                        <a:pt x="54" y="246"/>
                        <a:pt x="65" y="238"/>
                      </a:cubicBezTo>
                      <a:cubicBezTo>
                        <a:pt x="76" y="230"/>
                        <a:pt x="84" y="224"/>
                        <a:pt x="85" y="214"/>
                      </a:cubicBezTo>
                      <a:cubicBezTo>
                        <a:pt x="86" y="204"/>
                        <a:pt x="70" y="191"/>
                        <a:pt x="73" y="178"/>
                      </a:cubicBezTo>
                      <a:cubicBezTo>
                        <a:pt x="76" y="165"/>
                        <a:pt x="106" y="146"/>
                        <a:pt x="105" y="138"/>
                      </a:cubicBezTo>
                      <a:cubicBezTo>
                        <a:pt x="104" y="130"/>
                        <a:pt x="68" y="138"/>
                        <a:pt x="65" y="130"/>
                      </a:cubicBezTo>
                      <a:cubicBezTo>
                        <a:pt x="62" y="122"/>
                        <a:pt x="91" y="97"/>
                        <a:pt x="89" y="90"/>
                      </a:cubicBezTo>
                      <a:cubicBezTo>
                        <a:pt x="87" y="83"/>
                        <a:pt x="60" y="97"/>
                        <a:pt x="53" y="90"/>
                      </a:cubicBezTo>
                      <a:cubicBezTo>
                        <a:pt x="46" y="83"/>
                        <a:pt x="57" y="51"/>
                        <a:pt x="49" y="46"/>
                      </a:cubicBezTo>
                      <a:cubicBezTo>
                        <a:pt x="41" y="41"/>
                        <a:pt x="10" y="66"/>
                        <a:pt x="5" y="62"/>
                      </a:cubicBezTo>
                      <a:cubicBezTo>
                        <a:pt x="0" y="58"/>
                        <a:pt x="10" y="32"/>
                        <a:pt x="17" y="22"/>
                      </a:cubicBezTo>
                      <a:cubicBezTo>
                        <a:pt x="24" y="12"/>
                        <a:pt x="36" y="2"/>
                        <a:pt x="49" y="2"/>
                      </a:cubicBezTo>
                      <a:cubicBezTo>
                        <a:pt x="62" y="2"/>
                        <a:pt x="79" y="20"/>
                        <a:pt x="97" y="22"/>
                      </a:cubicBezTo>
                      <a:cubicBezTo>
                        <a:pt x="115" y="24"/>
                        <a:pt x="139" y="17"/>
                        <a:pt x="157" y="14"/>
                      </a:cubicBezTo>
                      <a:cubicBezTo>
                        <a:pt x="175" y="11"/>
                        <a:pt x="184" y="0"/>
                        <a:pt x="205" y="6"/>
                      </a:cubicBezTo>
                      <a:cubicBezTo>
                        <a:pt x="226" y="12"/>
                        <a:pt x="255" y="33"/>
                        <a:pt x="281" y="50"/>
                      </a:cubicBezTo>
                      <a:cubicBezTo>
                        <a:pt x="307" y="67"/>
                        <a:pt x="346" y="75"/>
                        <a:pt x="361" y="110"/>
                      </a:cubicBezTo>
                      <a:cubicBezTo>
                        <a:pt x="376" y="145"/>
                        <a:pt x="362" y="227"/>
                        <a:pt x="373" y="258"/>
                      </a:cubicBezTo>
                      <a:cubicBezTo>
                        <a:pt x="384" y="289"/>
                        <a:pt x="416" y="277"/>
                        <a:pt x="429" y="298"/>
                      </a:cubicBezTo>
                      <a:cubicBezTo>
                        <a:pt x="442" y="319"/>
                        <a:pt x="444" y="344"/>
                        <a:pt x="449" y="382"/>
                      </a:cubicBezTo>
                      <a:cubicBezTo>
                        <a:pt x="454" y="420"/>
                        <a:pt x="464" y="461"/>
                        <a:pt x="457" y="526"/>
                      </a:cubicBezTo>
                      <a:cubicBezTo>
                        <a:pt x="450" y="591"/>
                        <a:pt x="433" y="711"/>
                        <a:pt x="405" y="770"/>
                      </a:cubicBezTo>
                      <a:cubicBezTo>
                        <a:pt x="377" y="829"/>
                        <a:pt x="333" y="857"/>
                        <a:pt x="289" y="878"/>
                      </a:cubicBezTo>
                      <a:cubicBezTo>
                        <a:pt x="245" y="899"/>
                        <a:pt x="185" y="897"/>
                        <a:pt x="141" y="894"/>
                      </a:cubicBezTo>
                      <a:cubicBezTo>
                        <a:pt x="97" y="891"/>
                        <a:pt x="45" y="875"/>
                        <a:pt x="25" y="86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445600" y="5901480"/>
                  <a:ext cx="135720" cy="140760"/>
                </a:xfrm>
                <a:custGeom>
                  <a:avLst/>
                  <a:gdLst/>
                  <a:ahLst/>
                  <a:rect l="l" t="t" r="r" b="b"/>
                  <a:pathLst>
                    <a:path w="456" h="484">
                      <a:moveTo>
                        <a:pt x="31" y="3"/>
                      </a:moveTo>
                      <a:cubicBezTo>
                        <a:pt x="42" y="0"/>
                        <a:pt x="66" y="14"/>
                        <a:pt x="75" y="27"/>
                      </a:cubicBezTo>
                      <a:cubicBezTo>
                        <a:pt x="84" y="40"/>
                        <a:pt x="74" y="59"/>
                        <a:pt x="83" y="79"/>
                      </a:cubicBezTo>
                      <a:cubicBezTo>
                        <a:pt x="92" y="99"/>
                        <a:pt x="109" y="128"/>
                        <a:pt x="131" y="147"/>
                      </a:cubicBezTo>
                      <a:cubicBezTo>
                        <a:pt x="153" y="166"/>
                        <a:pt x="185" y="178"/>
                        <a:pt x="215" y="195"/>
                      </a:cubicBezTo>
                      <a:cubicBezTo>
                        <a:pt x="245" y="212"/>
                        <a:pt x="281" y="226"/>
                        <a:pt x="311" y="251"/>
                      </a:cubicBezTo>
                      <a:cubicBezTo>
                        <a:pt x="341" y="276"/>
                        <a:pt x="371" y="310"/>
                        <a:pt x="395" y="347"/>
                      </a:cubicBezTo>
                      <a:cubicBezTo>
                        <a:pt x="419" y="384"/>
                        <a:pt x="456" y="458"/>
                        <a:pt x="455" y="471"/>
                      </a:cubicBezTo>
                      <a:cubicBezTo>
                        <a:pt x="454" y="484"/>
                        <a:pt x="402" y="441"/>
                        <a:pt x="387" y="423"/>
                      </a:cubicBezTo>
                      <a:cubicBezTo>
                        <a:pt x="372" y="405"/>
                        <a:pt x="378" y="378"/>
                        <a:pt x="363" y="363"/>
                      </a:cubicBezTo>
                      <a:cubicBezTo>
                        <a:pt x="348" y="348"/>
                        <a:pt x="319" y="352"/>
                        <a:pt x="299" y="331"/>
                      </a:cubicBezTo>
                      <a:cubicBezTo>
                        <a:pt x="279" y="310"/>
                        <a:pt x="269" y="257"/>
                        <a:pt x="243" y="235"/>
                      </a:cubicBezTo>
                      <a:cubicBezTo>
                        <a:pt x="217" y="213"/>
                        <a:pt x="172" y="222"/>
                        <a:pt x="143" y="199"/>
                      </a:cubicBezTo>
                      <a:cubicBezTo>
                        <a:pt x="114" y="176"/>
                        <a:pt x="94" y="120"/>
                        <a:pt x="71" y="95"/>
                      </a:cubicBezTo>
                      <a:cubicBezTo>
                        <a:pt x="48" y="70"/>
                        <a:pt x="14" y="61"/>
                        <a:pt x="7" y="47"/>
                      </a:cubicBezTo>
                      <a:cubicBezTo>
                        <a:pt x="0" y="33"/>
                        <a:pt x="20" y="6"/>
                        <a:pt x="31" y="3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361000" y="6157080"/>
                  <a:ext cx="249480" cy="178200"/>
                </a:xfrm>
                <a:custGeom>
                  <a:avLst/>
                  <a:gdLst/>
                  <a:ahLst/>
                  <a:rect l="l" t="t" r="r" b="b"/>
                  <a:pathLst>
                    <a:path w="838" h="613">
                      <a:moveTo>
                        <a:pt x="19" y="609"/>
                      </a:moveTo>
                      <a:cubicBezTo>
                        <a:pt x="11" y="605"/>
                        <a:pt x="0" y="566"/>
                        <a:pt x="3" y="553"/>
                      </a:cubicBezTo>
                      <a:cubicBezTo>
                        <a:pt x="6" y="540"/>
                        <a:pt x="32" y="540"/>
                        <a:pt x="35" y="529"/>
                      </a:cubicBezTo>
                      <a:cubicBezTo>
                        <a:pt x="38" y="518"/>
                        <a:pt x="22" y="500"/>
                        <a:pt x="23" y="489"/>
                      </a:cubicBezTo>
                      <a:cubicBezTo>
                        <a:pt x="24" y="478"/>
                        <a:pt x="38" y="473"/>
                        <a:pt x="43" y="465"/>
                      </a:cubicBezTo>
                      <a:cubicBezTo>
                        <a:pt x="48" y="457"/>
                        <a:pt x="54" y="450"/>
                        <a:pt x="55" y="441"/>
                      </a:cubicBezTo>
                      <a:cubicBezTo>
                        <a:pt x="56" y="432"/>
                        <a:pt x="45" y="420"/>
                        <a:pt x="51" y="409"/>
                      </a:cubicBezTo>
                      <a:cubicBezTo>
                        <a:pt x="57" y="398"/>
                        <a:pt x="77" y="385"/>
                        <a:pt x="91" y="377"/>
                      </a:cubicBezTo>
                      <a:cubicBezTo>
                        <a:pt x="105" y="369"/>
                        <a:pt x="119" y="370"/>
                        <a:pt x="135" y="361"/>
                      </a:cubicBezTo>
                      <a:cubicBezTo>
                        <a:pt x="151" y="352"/>
                        <a:pt x="170" y="329"/>
                        <a:pt x="187" y="321"/>
                      </a:cubicBezTo>
                      <a:cubicBezTo>
                        <a:pt x="204" y="313"/>
                        <a:pt x="224" y="312"/>
                        <a:pt x="235" y="313"/>
                      </a:cubicBezTo>
                      <a:cubicBezTo>
                        <a:pt x="246" y="314"/>
                        <a:pt x="246" y="329"/>
                        <a:pt x="255" y="329"/>
                      </a:cubicBezTo>
                      <a:cubicBezTo>
                        <a:pt x="264" y="329"/>
                        <a:pt x="274" y="308"/>
                        <a:pt x="287" y="313"/>
                      </a:cubicBezTo>
                      <a:cubicBezTo>
                        <a:pt x="300" y="318"/>
                        <a:pt x="317" y="356"/>
                        <a:pt x="331" y="361"/>
                      </a:cubicBezTo>
                      <a:cubicBezTo>
                        <a:pt x="345" y="366"/>
                        <a:pt x="360" y="346"/>
                        <a:pt x="371" y="341"/>
                      </a:cubicBezTo>
                      <a:cubicBezTo>
                        <a:pt x="382" y="336"/>
                        <a:pt x="386" y="332"/>
                        <a:pt x="399" y="333"/>
                      </a:cubicBezTo>
                      <a:cubicBezTo>
                        <a:pt x="412" y="334"/>
                        <a:pt x="438" y="335"/>
                        <a:pt x="451" y="345"/>
                      </a:cubicBezTo>
                      <a:cubicBezTo>
                        <a:pt x="464" y="355"/>
                        <a:pt x="463" y="388"/>
                        <a:pt x="475" y="393"/>
                      </a:cubicBezTo>
                      <a:cubicBezTo>
                        <a:pt x="487" y="398"/>
                        <a:pt x="507" y="379"/>
                        <a:pt x="523" y="373"/>
                      </a:cubicBezTo>
                      <a:cubicBezTo>
                        <a:pt x="539" y="367"/>
                        <a:pt x="559" y="364"/>
                        <a:pt x="571" y="357"/>
                      </a:cubicBezTo>
                      <a:cubicBezTo>
                        <a:pt x="583" y="350"/>
                        <a:pt x="583" y="333"/>
                        <a:pt x="595" y="329"/>
                      </a:cubicBezTo>
                      <a:cubicBezTo>
                        <a:pt x="607" y="325"/>
                        <a:pt x="634" y="353"/>
                        <a:pt x="643" y="333"/>
                      </a:cubicBezTo>
                      <a:cubicBezTo>
                        <a:pt x="652" y="313"/>
                        <a:pt x="650" y="239"/>
                        <a:pt x="651" y="209"/>
                      </a:cubicBezTo>
                      <a:cubicBezTo>
                        <a:pt x="652" y="179"/>
                        <a:pt x="659" y="169"/>
                        <a:pt x="651" y="153"/>
                      </a:cubicBezTo>
                      <a:cubicBezTo>
                        <a:pt x="643" y="137"/>
                        <a:pt x="615" y="125"/>
                        <a:pt x="603" y="113"/>
                      </a:cubicBezTo>
                      <a:cubicBezTo>
                        <a:pt x="591" y="101"/>
                        <a:pt x="581" y="91"/>
                        <a:pt x="579" y="81"/>
                      </a:cubicBezTo>
                      <a:cubicBezTo>
                        <a:pt x="577" y="71"/>
                        <a:pt x="580" y="60"/>
                        <a:pt x="591" y="53"/>
                      </a:cubicBezTo>
                      <a:cubicBezTo>
                        <a:pt x="602" y="46"/>
                        <a:pt x="634" y="36"/>
                        <a:pt x="647" y="37"/>
                      </a:cubicBezTo>
                      <a:cubicBezTo>
                        <a:pt x="660" y="38"/>
                        <a:pt x="664" y="50"/>
                        <a:pt x="671" y="57"/>
                      </a:cubicBezTo>
                      <a:cubicBezTo>
                        <a:pt x="678" y="64"/>
                        <a:pt x="689" y="82"/>
                        <a:pt x="691" y="81"/>
                      </a:cubicBezTo>
                      <a:cubicBezTo>
                        <a:pt x="693" y="80"/>
                        <a:pt x="684" y="58"/>
                        <a:pt x="683" y="49"/>
                      </a:cubicBezTo>
                      <a:cubicBezTo>
                        <a:pt x="682" y="40"/>
                        <a:pt x="678" y="31"/>
                        <a:pt x="687" y="25"/>
                      </a:cubicBezTo>
                      <a:cubicBezTo>
                        <a:pt x="696" y="19"/>
                        <a:pt x="722" y="17"/>
                        <a:pt x="739" y="13"/>
                      </a:cubicBezTo>
                      <a:cubicBezTo>
                        <a:pt x="756" y="9"/>
                        <a:pt x="772" y="0"/>
                        <a:pt x="787" y="1"/>
                      </a:cubicBezTo>
                      <a:cubicBezTo>
                        <a:pt x="802" y="2"/>
                        <a:pt x="824" y="4"/>
                        <a:pt x="831" y="17"/>
                      </a:cubicBezTo>
                      <a:cubicBezTo>
                        <a:pt x="838" y="30"/>
                        <a:pt x="834" y="58"/>
                        <a:pt x="831" y="81"/>
                      </a:cubicBezTo>
                      <a:cubicBezTo>
                        <a:pt x="828" y="104"/>
                        <a:pt x="823" y="128"/>
                        <a:pt x="815" y="157"/>
                      </a:cubicBezTo>
                      <a:cubicBezTo>
                        <a:pt x="807" y="186"/>
                        <a:pt x="793" y="225"/>
                        <a:pt x="783" y="257"/>
                      </a:cubicBezTo>
                      <a:cubicBezTo>
                        <a:pt x="773" y="289"/>
                        <a:pt x="772" y="320"/>
                        <a:pt x="755" y="349"/>
                      </a:cubicBezTo>
                      <a:cubicBezTo>
                        <a:pt x="738" y="378"/>
                        <a:pt x="708" y="407"/>
                        <a:pt x="683" y="429"/>
                      </a:cubicBezTo>
                      <a:cubicBezTo>
                        <a:pt x="658" y="451"/>
                        <a:pt x="642" y="472"/>
                        <a:pt x="607" y="481"/>
                      </a:cubicBezTo>
                      <a:cubicBezTo>
                        <a:pt x="572" y="490"/>
                        <a:pt x="522" y="490"/>
                        <a:pt x="475" y="485"/>
                      </a:cubicBezTo>
                      <a:cubicBezTo>
                        <a:pt x="428" y="480"/>
                        <a:pt x="369" y="462"/>
                        <a:pt x="327" y="453"/>
                      </a:cubicBezTo>
                      <a:cubicBezTo>
                        <a:pt x="285" y="444"/>
                        <a:pt x="252" y="435"/>
                        <a:pt x="223" y="429"/>
                      </a:cubicBezTo>
                      <a:cubicBezTo>
                        <a:pt x="194" y="423"/>
                        <a:pt x="175" y="406"/>
                        <a:pt x="155" y="417"/>
                      </a:cubicBezTo>
                      <a:cubicBezTo>
                        <a:pt x="135" y="428"/>
                        <a:pt x="120" y="470"/>
                        <a:pt x="103" y="497"/>
                      </a:cubicBezTo>
                      <a:cubicBezTo>
                        <a:pt x="86" y="524"/>
                        <a:pt x="65" y="559"/>
                        <a:pt x="51" y="577"/>
                      </a:cubicBezTo>
                      <a:cubicBezTo>
                        <a:pt x="37" y="595"/>
                        <a:pt x="27" y="613"/>
                        <a:pt x="19" y="60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7cb0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384040" y="5915880"/>
                  <a:ext cx="224640" cy="216000"/>
                </a:xfrm>
                <a:custGeom>
                  <a:avLst/>
                  <a:gdLst/>
                  <a:ahLst/>
                  <a:rect l="l" t="t" r="r" b="b"/>
                  <a:pathLst>
                    <a:path w="755" h="743">
                      <a:moveTo>
                        <a:pt x="14" y="30"/>
                      </a:moveTo>
                      <a:cubicBezTo>
                        <a:pt x="19" y="19"/>
                        <a:pt x="29" y="0"/>
                        <a:pt x="42" y="2"/>
                      </a:cubicBezTo>
                      <a:cubicBezTo>
                        <a:pt x="55" y="4"/>
                        <a:pt x="72" y="23"/>
                        <a:pt x="90" y="42"/>
                      </a:cubicBezTo>
                      <a:cubicBezTo>
                        <a:pt x="108" y="61"/>
                        <a:pt x="129" y="94"/>
                        <a:pt x="150" y="114"/>
                      </a:cubicBezTo>
                      <a:cubicBezTo>
                        <a:pt x="171" y="134"/>
                        <a:pt x="193" y="147"/>
                        <a:pt x="218" y="162"/>
                      </a:cubicBezTo>
                      <a:cubicBezTo>
                        <a:pt x="243" y="177"/>
                        <a:pt x="275" y="191"/>
                        <a:pt x="302" y="206"/>
                      </a:cubicBezTo>
                      <a:cubicBezTo>
                        <a:pt x="329" y="221"/>
                        <a:pt x="351" y="238"/>
                        <a:pt x="382" y="254"/>
                      </a:cubicBezTo>
                      <a:cubicBezTo>
                        <a:pt x="413" y="270"/>
                        <a:pt x="453" y="283"/>
                        <a:pt x="490" y="302"/>
                      </a:cubicBezTo>
                      <a:cubicBezTo>
                        <a:pt x="527" y="321"/>
                        <a:pt x="574" y="352"/>
                        <a:pt x="602" y="370"/>
                      </a:cubicBezTo>
                      <a:cubicBezTo>
                        <a:pt x="630" y="388"/>
                        <a:pt x="640" y="389"/>
                        <a:pt x="658" y="410"/>
                      </a:cubicBezTo>
                      <a:cubicBezTo>
                        <a:pt x="676" y="431"/>
                        <a:pt x="695" y="464"/>
                        <a:pt x="710" y="498"/>
                      </a:cubicBezTo>
                      <a:cubicBezTo>
                        <a:pt x="725" y="532"/>
                        <a:pt x="755" y="583"/>
                        <a:pt x="750" y="614"/>
                      </a:cubicBezTo>
                      <a:cubicBezTo>
                        <a:pt x="745" y="645"/>
                        <a:pt x="698" y="661"/>
                        <a:pt x="678" y="682"/>
                      </a:cubicBezTo>
                      <a:cubicBezTo>
                        <a:pt x="658" y="703"/>
                        <a:pt x="639" y="743"/>
                        <a:pt x="630" y="742"/>
                      </a:cubicBezTo>
                      <a:cubicBezTo>
                        <a:pt x="621" y="741"/>
                        <a:pt x="631" y="691"/>
                        <a:pt x="622" y="678"/>
                      </a:cubicBezTo>
                      <a:cubicBezTo>
                        <a:pt x="613" y="665"/>
                        <a:pt x="592" y="677"/>
                        <a:pt x="578" y="666"/>
                      </a:cubicBezTo>
                      <a:cubicBezTo>
                        <a:pt x="564" y="655"/>
                        <a:pt x="539" y="630"/>
                        <a:pt x="538" y="610"/>
                      </a:cubicBezTo>
                      <a:cubicBezTo>
                        <a:pt x="537" y="590"/>
                        <a:pt x="572" y="559"/>
                        <a:pt x="570" y="546"/>
                      </a:cubicBezTo>
                      <a:cubicBezTo>
                        <a:pt x="568" y="533"/>
                        <a:pt x="529" y="543"/>
                        <a:pt x="526" y="530"/>
                      </a:cubicBezTo>
                      <a:cubicBezTo>
                        <a:pt x="523" y="517"/>
                        <a:pt x="550" y="486"/>
                        <a:pt x="550" y="470"/>
                      </a:cubicBezTo>
                      <a:cubicBezTo>
                        <a:pt x="550" y="454"/>
                        <a:pt x="542" y="437"/>
                        <a:pt x="526" y="434"/>
                      </a:cubicBezTo>
                      <a:cubicBezTo>
                        <a:pt x="510" y="431"/>
                        <a:pt x="468" y="455"/>
                        <a:pt x="454" y="454"/>
                      </a:cubicBezTo>
                      <a:cubicBezTo>
                        <a:pt x="440" y="453"/>
                        <a:pt x="443" y="438"/>
                        <a:pt x="442" y="426"/>
                      </a:cubicBezTo>
                      <a:cubicBezTo>
                        <a:pt x="441" y="414"/>
                        <a:pt x="456" y="388"/>
                        <a:pt x="450" y="382"/>
                      </a:cubicBezTo>
                      <a:cubicBezTo>
                        <a:pt x="444" y="376"/>
                        <a:pt x="417" y="395"/>
                        <a:pt x="406" y="390"/>
                      </a:cubicBezTo>
                      <a:cubicBezTo>
                        <a:pt x="395" y="385"/>
                        <a:pt x="393" y="363"/>
                        <a:pt x="386" y="354"/>
                      </a:cubicBezTo>
                      <a:cubicBezTo>
                        <a:pt x="379" y="345"/>
                        <a:pt x="375" y="337"/>
                        <a:pt x="366" y="334"/>
                      </a:cubicBezTo>
                      <a:cubicBezTo>
                        <a:pt x="357" y="331"/>
                        <a:pt x="337" y="343"/>
                        <a:pt x="330" y="338"/>
                      </a:cubicBezTo>
                      <a:cubicBezTo>
                        <a:pt x="323" y="333"/>
                        <a:pt x="332" y="312"/>
                        <a:pt x="322" y="306"/>
                      </a:cubicBezTo>
                      <a:cubicBezTo>
                        <a:pt x="312" y="300"/>
                        <a:pt x="279" y="308"/>
                        <a:pt x="270" y="302"/>
                      </a:cubicBezTo>
                      <a:cubicBezTo>
                        <a:pt x="261" y="296"/>
                        <a:pt x="276" y="276"/>
                        <a:pt x="270" y="270"/>
                      </a:cubicBezTo>
                      <a:cubicBezTo>
                        <a:pt x="264" y="264"/>
                        <a:pt x="239" y="276"/>
                        <a:pt x="234" y="266"/>
                      </a:cubicBezTo>
                      <a:cubicBezTo>
                        <a:pt x="229" y="256"/>
                        <a:pt x="243" y="219"/>
                        <a:pt x="238" y="210"/>
                      </a:cubicBezTo>
                      <a:cubicBezTo>
                        <a:pt x="233" y="201"/>
                        <a:pt x="211" y="215"/>
                        <a:pt x="202" y="210"/>
                      </a:cubicBezTo>
                      <a:cubicBezTo>
                        <a:pt x="193" y="205"/>
                        <a:pt x="195" y="192"/>
                        <a:pt x="182" y="178"/>
                      </a:cubicBezTo>
                      <a:cubicBezTo>
                        <a:pt x="169" y="164"/>
                        <a:pt x="139" y="141"/>
                        <a:pt x="122" y="126"/>
                      </a:cubicBezTo>
                      <a:cubicBezTo>
                        <a:pt x="105" y="111"/>
                        <a:pt x="97" y="100"/>
                        <a:pt x="78" y="90"/>
                      </a:cubicBezTo>
                      <a:cubicBezTo>
                        <a:pt x="59" y="80"/>
                        <a:pt x="20" y="77"/>
                        <a:pt x="10" y="66"/>
                      </a:cubicBezTo>
                      <a:cubicBezTo>
                        <a:pt x="0" y="55"/>
                        <a:pt x="9" y="41"/>
                        <a:pt x="14" y="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205840" y="5856840"/>
                  <a:ext cx="252720" cy="79560"/>
                </a:xfrm>
                <a:custGeom>
                  <a:avLst/>
                  <a:gdLst/>
                  <a:ahLst/>
                  <a:rect l="l" t="t" r="r" b="b"/>
                  <a:pathLst>
                    <a:path w="849" h="274">
                      <a:moveTo>
                        <a:pt x="12" y="45"/>
                      </a:moveTo>
                      <a:cubicBezTo>
                        <a:pt x="24" y="42"/>
                        <a:pt x="88" y="41"/>
                        <a:pt x="120" y="37"/>
                      </a:cubicBezTo>
                      <a:cubicBezTo>
                        <a:pt x="152" y="33"/>
                        <a:pt x="173" y="27"/>
                        <a:pt x="204" y="21"/>
                      </a:cubicBezTo>
                      <a:cubicBezTo>
                        <a:pt x="235" y="15"/>
                        <a:pt x="275" y="0"/>
                        <a:pt x="304" y="1"/>
                      </a:cubicBezTo>
                      <a:cubicBezTo>
                        <a:pt x="333" y="2"/>
                        <a:pt x="355" y="21"/>
                        <a:pt x="380" y="29"/>
                      </a:cubicBezTo>
                      <a:cubicBezTo>
                        <a:pt x="405" y="37"/>
                        <a:pt x="429" y="47"/>
                        <a:pt x="456" y="49"/>
                      </a:cubicBezTo>
                      <a:cubicBezTo>
                        <a:pt x="483" y="51"/>
                        <a:pt x="517" y="34"/>
                        <a:pt x="540" y="41"/>
                      </a:cubicBezTo>
                      <a:cubicBezTo>
                        <a:pt x="563" y="48"/>
                        <a:pt x="566" y="78"/>
                        <a:pt x="592" y="93"/>
                      </a:cubicBezTo>
                      <a:cubicBezTo>
                        <a:pt x="618" y="108"/>
                        <a:pt x="664" y="123"/>
                        <a:pt x="696" y="129"/>
                      </a:cubicBezTo>
                      <a:cubicBezTo>
                        <a:pt x="728" y="135"/>
                        <a:pt x="759" y="126"/>
                        <a:pt x="784" y="129"/>
                      </a:cubicBezTo>
                      <a:cubicBezTo>
                        <a:pt x="809" y="132"/>
                        <a:pt x="839" y="140"/>
                        <a:pt x="844" y="149"/>
                      </a:cubicBezTo>
                      <a:cubicBezTo>
                        <a:pt x="849" y="158"/>
                        <a:pt x="825" y="177"/>
                        <a:pt x="816" y="181"/>
                      </a:cubicBezTo>
                      <a:cubicBezTo>
                        <a:pt x="807" y="185"/>
                        <a:pt x="799" y="172"/>
                        <a:pt x="788" y="173"/>
                      </a:cubicBezTo>
                      <a:cubicBezTo>
                        <a:pt x="777" y="174"/>
                        <a:pt x="763" y="182"/>
                        <a:pt x="752" y="189"/>
                      </a:cubicBezTo>
                      <a:cubicBezTo>
                        <a:pt x="741" y="196"/>
                        <a:pt x="737" y="206"/>
                        <a:pt x="724" y="213"/>
                      </a:cubicBezTo>
                      <a:cubicBezTo>
                        <a:pt x="711" y="220"/>
                        <a:pt x="691" y="229"/>
                        <a:pt x="676" y="229"/>
                      </a:cubicBezTo>
                      <a:cubicBezTo>
                        <a:pt x="661" y="229"/>
                        <a:pt x="644" y="208"/>
                        <a:pt x="632" y="213"/>
                      </a:cubicBezTo>
                      <a:cubicBezTo>
                        <a:pt x="620" y="218"/>
                        <a:pt x="613" y="253"/>
                        <a:pt x="604" y="257"/>
                      </a:cubicBezTo>
                      <a:cubicBezTo>
                        <a:pt x="595" y="261"/>
                        <a:pt x="587" y="234"/>
                        <a:pt x="576" y="237"/>
                      </a:cubicBezTo>
                      <a:cubicBezTo>
                        <a:pt x="565" y="240"/>
                        <a:pt x="545" y="274"/>
                        <a:pt x="536" y="273"/>
                      </a:cubicBezTo>
                      <a:cubicBezTo>
                        <a:pt x="527" y="272"/>
                        <a:pt x="528" y="237"/>
                        <a:pt x="520" y="233"/>
                      </a:cubicBezTo>
                      <a:cubicBezTo>
                        <a:pt x="512" y="229"/>
                        <a:pt x="498" y="257"/>
                        <a:pt x="488" y="249"/>
                      </a:cubicBezTo>
                      <a:cubicBezTo>
                        <a:pt x="478" y="241"/>
                        <a:pt x="470" y="194"/>
                        <a:pt x="460" y="185"/>
                      </a:cubicBezTo>
                      <a:cubicBezTo>
                        <a:pt x="450" y="176"/>
                        <a:pt x="435" y="200"/>
                        <a:pt x="428" y="197"/>
                      </a:cubicBezTo>
                      <a:cubicBezTo>
                        <a:pt x="421" y="194"/>
                        <a:pt x="428" y="162"/>
                        <a:pt x="420" y="165"/>
                      </a:cubicBezTo>
                      <a:cubicBezTo>
                        <a:pt x="412" y="168"/>
                        <a:pt x="388" y="216"/>
                        <a:pt x="380" y="213"/>
                      </a:cubicBezTo>
                      <a:cubicBezTo>
                        <a:pt x="372" y="210"/>
                        <a:pt x="384" y="155"/>
                        <a:pt x="372" y="149"/>
                      </a:cubicBezTo>
                      <a:cubicBezTo>
                        <a:pt x="360" y="143"/>
                        <a:pt x="321" y="176"/>
                        <a:pt x="308" y="177"/>
                      </a:cubicBezTo>
                      <a:cubicBezTo>
                        <a:pt x="295" y="178"/>
                        <a:pt x="299" y="158"/>
                        <a:pt x="292" y="157"/>
                      </a:cubicBezTo>
                      <a:cubicBezTo>
                        <a:pt x="285" y="156"/>
                        <a:pt x="272" y="178"/>
                        <a:pt x="268" y="169"/>
                      </a:cubicBezTo>
                      <a:cubicBezTo>
                        <a:pt x="264" y="160"/>
                        <a:pt x="279" y="108"/>
                        <a:pt x="268" y="105"/>
                      </a:cubicBezTo>
                      <a:cubicBezTo>
                        <a:pt x="257" y="102"/>
                        <a:pt x="219" y="152"/>
                        <a:pt x="204" y="153"/>
                      </a:cubicBezTo>
                      <a:cubicBezTo>
                        <a:pt x="189" y="154"/>
                        <a:pt x="190" y="114"/>
                        <a:pt x="180" y="109"/>
                      </a:cubicBezTo>
                      <a:cubicBezTo>
                        <a:pt x="170" y="104"/>
                        <a:pt x="152" y="134"/>
                        <a:pt x="144" y="125"/>
                      </a:cubicBezTo>
                      <a:cubicBezTo>
                        <a:pt x="136" y="116"/>
                        <a:pt x="143" y="61"/>
                        <a:pt x="132" y="57"/>
                      </a:cubicBezTo>
                      <a:cubicBezTo>
                        <a:pt x="121" y="53"/>
                        <a:pt x="90" y="101"/>
                        <a:pt x="76" y="101"/>
                      </a:cubicBezTo>
                      <a:cubicBezTo>
                        <a:pt x="62" y="101"/>
                        <a:pt x="59" y="65"/>
                        <a:pt x="48" y="57"/>
                      </a:cubicBezTo>
                      <a:cubicBezTo>
                        <a:pt x="37" y="49"/>
                        <a:pt x="0" y="48"/>
                        <a:pt x="12" y="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164800" y="6075360"/>
                  <a:ext cx="117360" cy="63360"/>
                </a:xfrm>
                <a:custGeom>
                  <a:avLst/>
                  <a:gdLst/>
                  <a:ahLst/>
                  <a:rect l="l" t="t" r="r" b="b"/>
                  <a:pathLst>
                    <a:path w="395" h="219">
                      <a:moveTo>
                        <a:pt x="350" y="2"/>
                      </a:moveTo>
                      <a:cubicBezTo>
                        <a:pt x="335" y="0"/>
                        <a:pt x="326" y="38"/>
                        <a:pt x="294" y="54"/>
                      </a:cubicBezTo>
                      <a:cubicBezTo>
                        <a:pt x="262" y="70"/>
                        <a:pt x="202" y="85"/>
                        <a:pt x="158" y="98"/>
                      </a:cubicBezTo>
                      <a:cubicBezTo>
                        <a:pt x="114" y="111"/>
                        <a:pt x="55" y="115"/>
                        <a:pt x="30" y="130"/>
                      </a:cubicBezTo>
                      <a:cubicBezTo>
                        <a:pt x="5" y="145"/>
                        <a:pt x="0" y="171"/>
                        <a:pt x="6" y="186"/>
                      </a:cubicBezTo>
                      <a:cubicBezTo>
                        <a:pt x="12" y="201"/>
                        <a:pt x="46" y="217"/>
                        <a:pt x="66" y="218"/>
                      </a:cubicBezTo>
                      <a:cubicBezTo>
                        <a:pt x="86" y="219"/>
                        <a:pt x="104" y="193"/>
                        <a:pt x="126" y="190"/>
                      </a:cubicBezTo>
                      <a:cubicBezTo>
                        <a:pt x="148" y="187"/>
                        <a:pt x="176" y="202"/>
                        <a:pt x="198" y="198"/>
                      </a:cubicBezTo>
                      <a:cubicBezTo>
                        <a:pt x="220" y="194"/>
                        <a:pt x="239" y="170"/>
                        <a:pt x="258" y="166"/>
                      </a:cubicBezTo>
                      <a:cubicBezTo>
                        <a:pt x="277" y="162"/>
                        <a:pt x="293" y="169"/>
                        <a:pt x="310" y="174"/>
                      </a:cubicBezTo>
                      <a:cubicBezTo>
                        <a:pt x="327" y="179"/>
                        <a:pt x="345" y="198"/>
                        <a:pt x="358" y="194"/>
                      </a:cubicBezTo>
                      <a:cubicBezTo>
                        <a:pt x="371" y="190"/>
                        <a:pt x="385" y="171"/>
                        <a:pt x="390" y="150"/>
                      </a:cubicBezTo>
                      <a:cubicBezTo>
                        <a:pt x="395" y="129"/>
                        <a:pt x="393" y="89"/>
                        <a:pt x="386" y="66"/>
                      </a:cubicBezTo>
                      <a:cubicBezTo>
                        <a:pt x="379" y="43"/>
                        <a:pt x="365" y="4"/>
                        <a:pt x="350" y="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187840" y="6135120"/>
                  <a:ext cx="129600" cy="36360"/>
                </a:xfrm>
                <a:custGeom>
                  <a:avLst/>
                  <a:gdLst/>
                  <a:ahLst/>
                  <a:rect l="l" t="t" r="r" b="b"/>
                  <a:pathLst>
                    <a:path w="436" h="125">
                      <a:moveTo>
                        <a:pt x="1" y="68"/>
                      </a:moveTo>
                      <a:cubicBezTo>
                        <a:pt x="2" y="73"/>
                        <a:pt x="30" y="47"/>
                        <a:pt x="49" y="44"/>
                      </a:cubicBezTo>
                      <a:cubicBezTo>
                        <a:pt x="68" y="41"/>
                        <a:pt x="102" y="41"/>
                        <a:pt x="117" y="48"/>
                      </a:cubicBezTo>
                      <a:cubicBezTo>
                        <a:pt x="132" y="55"/>
                        <a:pt x="131" y="79"/>
                        <a:pt x="141" y="84"/>
                      </a:cubicBezTo>
                      <a:cubicBezTo>
                        <a:pt x="151" y="89"/>
                        <a:pt x="164" y="71"/>
                        <a:pt x="177" y="76"/>
                      </a:cubicBezTo>
                      <a:cubicBezTo>
                        <a:pt x="190" y="81"/>
                        <a:pt x="205" y="113"/>
                        <a:pt x="217" y="116"/>
                      </a:cubicBezTo>
                      <a:cubicBezTo>
                        <a:pt x="229" y="119"/>
                        <a:pt x="236" y="95"/>
                        <a:pt x="249" y="92"/>
                      </a:cubicBezTo>
                      <a:cubicBezTo>
                        <a:pt x="262" y="89"/>
                        <a:pt x="281" y="91"/>
                        <a:pt x="293" y="96"/>
                      </a:cubicBezTo>
                      <a:cubicBezTo>
                        <a:pt x="305" y="101"/>
                        <a:pt x="311" y="117"/>
                        <a:pt x="321" y="120"/>
                      </a:cubicBezTo>
                      <a:cubicBezTo>
                        <a:pt x="331" y="123"/>
                        <a:pt x="340" y="112"/>
                        <a:pt x="353" y="112"/>
                      </a:cubicBezTo>
                      <a:cubicBezTo>
                        <a:pt x="366" y="112"/>
                        <a:pt x="388" y="125"/>
                        <a:pt x="401" y="120"/>
                      </a:cubicBezTo>
                      <a:cubicBezTo>
                        <a:pt x="414" y="115"/>
                        <a:pt x="436" y="85"/>
                        <a:pt x="433" y="80"/>
                      </a:cubicBezTo>
                      <a:cubicBezTo>
                        <a:pt x="430" y="75"/>
                        <a:pt x="394" y="97"/>
                        <a:pt x="381" y="92"/>
                      </a:cubicBezTo>
                      <a:cubicBezTo>
                        <a:pt x="368" y="87"/>
                        <a:pt x="370" y="55"/>
                        <a:pt x="357" y="52"/>
                      </a:cubicBezTo>
                      <a:cubicBezTo>
                        <a:pt x="344" y="49"/>
                        <a:pt x="326" y="74"/>
                        <a:pt x="305" y="76"/>
                      </a:cubicBezTo>
                      <a:cubicBezTo>
                        <a:pt x="284" y="78"/>
                        <a:pt x="250" y="73"/>
                        <a:pt x="233" y="64"/>
                      </a:cubicBezTo>
                      <a:cubicBezTo>
                        <a:pt x="216" y="55"/>
                        <a:pt x="212" y="24"/>
                        <a:pt x="201" y="20"/>
                      </a:cubicBezTo>
                      <a:cubicBezTo>
                        <a:pt x="190" y="16"/>
                        <a:pt x="182" y="43"/>
                        <a:pt x="165" y="40"/>
                      </a:cubicBezTo>
                      <a:cubicBezTo>
                        <a:pt x="148" y="37"/>
                        <a:pt x="122" y="8"/>
                        <a:pt x="101" y="4"/>
                      </a:cubicBezTo>
                      <a:cubicBezTo>
                        <a:pt x="80" y="0"/>
                        <a:pt x="59" y="8"/>
                        <a:pt x="41" y="16"/>
                      </a:cubicBezTo>
                      <a:cubicBezTo>
                        <a:pt x="23" y="24"/>
                        <a:pt x="0" y="63"/>
                        <a:pt x="1" y="68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271000" y="6173640"/>
                  <a:ext cx="98640" cy="177120"/>
                </a:xfrm>
                <a:custGeom>
                  <a:avLst/>
                  <a:gdLst/>
                  <a:ahLst/>
                  <a:rect l="l" t="t" r="r" b="b"/>
                  <a:pathLst>
                    <a:path w="332" h="609">
                      <a:moveTo>
                        <a:pt x="6" y="0"/>
                      </a:moveTo>
                      <a:cubicBezTo>
                        <a:pt x="12" y="0"/>
                        <a:pt x="43" y="17"/>
                        <a:pt x="58" y="20"/>
                      </a:cubicBezTo>
                      <a:cubicBezTo>
                        <a:pt x="73" y="23"/>
                        <a:pt x="87" y="4"/>
                        <a:pt x="94" y="16"/>
                      </a:cubicBezTo>
                      <a:cubicBezTo>
                        <a:pt x="101" y="28"/>
                        <a:pt x="90" y="73"/>
                        <a:pt x="98" y="92"/>
                      </a:cubicBezTo>
                      <a:cubicBezTo>
                        <a:pt x="106" y="111"/>
                        <a:pt x="131" y="118"/>
                        <a:pt x="142" y="132"/>
                      </a:cubicBezTo>
                      <a:cubicBezTo>
                        <a:pt x="153" y="146"/>
                        <a:pt x="156" y="158"/>
                        <a:pt x="162" y="176"/>
                      </a:cubicBezTo>
                      <a:cubicBezTo>
                        <a:pt x="168" y="194"/>
                        <a:pt x="173" y="221"/>
                        <a:pt x="178" y="240"/>
                      </a:cubicBezTo>
                      <a:cubicBezTo>
                        <a:pt x="183" y="259"/>
                        <a:pt x="189" y="271"/>
                        <a:pt x="190" y="288"/>
                      </a:cubicBezTo>
                      <a:cubicBezTo>
                        <a:pt x="191" y="305"/>
                        <a:pt x="182" y="321"/>
                        <a:pt x="182" y="340"/>
                      </a:cubicBezTo>
                      <a:cubicBezTo>
                        <a:pt x="182" y="359"/>
                        <a:pt x="183" y="383"/>
                        <a:pt x="190" y="400"/>
                      </a:cubicBezTo>
                      <a:cubicBezTo>
                        <a:pt x="197" y="417"/>
                        <a:pt x="222" y="427"/>
                        <a:pt x="226" y="444"/>
                      </a:cubicBezTo>
                      <a:cubicBezTo>
                        <a:pt x="230" y="461"/>
                        <a:pt x="208" y="480"/>
                        <a:pt x="214" y="500"/>
                      </a:cubicBezTo>
                      <a:cubicBezTo>
                        <a:pt x="220" y="520"/>
                        <a:pt x="243" y="561"/>
                        <a:pt x="262" y="564"/>
                      </a:cubicBezTo>
                      <a:cubicBezTo>
                        <a:pt x="281" y="567"/>
                        <a:pt x="320" y="517"/>
                        <a:pt x="326" y="520"/>
                      </a:cubicBezTo>
                      <a:cubicBezTo>
                        <a:pt x="332" y="523"/>
                        <a:pt x="309" y="571"/>
                        <a:pt x="298" y="584"/>
                      </a:cubicBezTo>
                      <a:cubicBezTo>
                        <a:pt x="287" y="597"/>
                        <a:pt x="275" y="609"/>
                        <a:pt x="258" y="596"/>
                      </a:cubicBezTo>
                      <a:cubicBezTo>
                        <a:pt x="241" y="583"/>
                        <a:pt x="216" y="535"/>
                        <a:pt x="194" y="508"/>
                      </a:cubicBezTo>
                      <a:cubicBezTo>
                        <a:pt x="172" y="481"/>
                        <a:pt x="133" y="462"/>
                        <a:pt x="126" y="432"/>
                      </a:cubicBezTo>
                      <a:cubicBezTo>
                        <a:pt x="119" y="402"/>
                        <a:pt x="149" y="366"/>
                        <a:pt x="150" y="328"/>
                      </a:cubicBezTo>
                      <a:cubicBezTo>
                        <a:pt x="151" y="290"/>
                        <a:pt x="142" y="239"/>
                        <a:pt x="130" y="204"/>
                      </a:cubicBezTo>
                      <a:cubicBezTo>
                        <a:pt x="118" y="169"/>
                        <a:pt x="96" y="147"/>
                        <a:pt x="78" y="116"/>
                      </a:cubicBezTo>
                      <a:cubicBezTo>
                        <a:pt x="60" y="85"/>
                        <a:pt x="33" y="40"/>
                        <a:pt x="22" y="20"/>
                      </a:cubicBezTo>
                      <a:cubicBezTo>
                        <a:pt x="11" y="0"/>
                        <a:pt x="0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186400" y="6146640"/>
                  <a:ext cx="179280" cy="214200"/>
                </a:xfrm>
                <a:custGeom>
                  <a:avLst/>
                  <a:gdLst/>
                  <a:ahLst/>
                  <a:rect l="l" t="t" r="r" b="b"/>
                  <a:pathLst>
                    <a:path w="602" h="736">
                      <a:moveTo>
                        <a:pt x="21" y="13"/>
                      </a:moveTo>
                      <a:cubicBezTo>
                        <a:pt x="4" y="0"/>
                        <a:pt x="0" y="34"/>
                        <a:pt x="5" y="49"/>
                      </a:cubicBezTo>
                      <a:cubicBezTo>
                        <a:pt x="10" y="64"/>
                        <a:pt x="31" y="84"/>
                        <a:pt x="49" y="101"/>
                      </a:cubicBezTo>
                      <a:cubicBezTo>
                        <a:pt x="67" y="118"/>
                        <a:pt x="89" y="128"/>
                        <a:pt x="113" y="149"/>
                      </a:cubicBezTo>
                      <a:cubicBezTo>
                        <a:pt x="137" y="170"/>
                        <a:pt x="178" y="201"/>
                        <a:pt x="193" y="225"/>
                      </a:cubicBezTo>
                      <a:cubicBezTo>
                        <a:pt x="208" y="249"/>
                        <a:pt x="203" y="272"/>
                        <a:pt x="205" y="293"/>
                      </a:cubicBezTo>
                      <a:cubicBezTo>
                        <a:pt x="207" y="314"/>
                        <a:pt x="202" y="334"/>
                        <a:pt x="205" y="349"/>
                      </a:cubicBezTo>
                      <a:cubicBezTo>
                        <a:pt x="208" y="364"/>
                        <a:pt x="223" y="366"/>
                        <a:pt x="221" y="385"/>
                      </a:cubicBezTo>
                      <a:cubicBezTo>
                        <a:pt x="219" y="404"/>
                        <a:pt x="188" y="445"/>
                        <a:pt x="193" y="465"/>
                      </a:cubicBezTo>
                      <a:cubicBezTo>
                        <a:pt x="198" y="485"/>
                        <a:pt x="230" y="487"/>
                        <a:pt x="249" y="505"/>
                      </a:cubicBezTo>
                      <a:cubicBezTo>
                        <a:pt x="268" y="523"/>
                        <a:pt x="292" y="551"/>
                        <a:pt x="309" y="573"/>
                      </a:cubicBezTo>
                      <a:cubicBezTo>
                        <a:pt x="326" y="595"/>
                        <a:pt x="323" y="618"/>
                        <a:pt x="349" y="637"/>
                      </a:cubicBezTo>
                      <a:cubicBezTo>
                        <a:pt x="375" y="656"/>
                        <a:pt x="434" y="673"/>
                        <a:pt x="465" y="689"/>
                      </a:cubicBezTo>
                      <a:cubicBezTo>
                        <a:pt x="496" y="705"/>
                        <a:pt x="512" y="730"/>
                        <a:pt x="533" y="733"/>
                      </a:cubicBezTo>
                      <a:cubicBezTo>
                        <a:pt x="554" y="736"/>
                        <a:pt x="584" y="721"/>
                        <a:pt x="593" y="709"/>
                      </a:cubicBezTo>
                      <a:cubicBezTo>
                        <a:pt x="602" y="697"/>
                        <a:pt x="595" y="664"/>
                        <a:pt x="585" y="661"/>
                      </a:cubicBezTo>
                      <a:cubicBezTo>
                        <a:pt x="575" y="658"/>
                        <a:pt x="554" y="688"/>
                        <a:pt x="533" y="689"/>
                      </a:cubicBezTo>
                      <a:cubicBezTo>
                        <a:pt x="512" y="690"/>
                        <a:pt x="480" y="682"/>
                        <a:pt x="461" y="665"/>
                      </a:cubicBezTo>
                      <a:cubicBezTo>
                        <a:pt x="442" y="648"/>
                        <a:pt x="440" y="600"/>
                        <a:pt x="421" y="585"/>
                      </a:cubicBezTo>
                      <a:cubicBezTo>
                        <a:pt x="402" y="570"/>
                        <a:pt x="368" y="592"/>
                        <a:pt x="345" y="577"/>
                      </a:cubicBezTo>
                      <a:cubicBezTo>
                        <a:pt x="322" y="562"/>
                        <a:pt x="296" y="517"/>
                        <a:pt x="281" y="493"/>
                      </a:cubicBezTo>
                      <a:cubicBezTo>
                        <a:pt x="266" y="469"/>
                        <a:pt x="258" y="454"/>
                        <a:pt x="257" y="433"/>
                      </a:cubicBezTo>
                      <a:cubicBezTo>
                        <a:pt x="256" y="412"/>
                        <a:pt x="280" y="393"/>
                        <a:pt x="277" y="365"/>
                      </a:cubicBezTo>
                      <a:cubicBezTo>
                        <a:pt x="274" y="337"/>
                        <a:pt x="250" y="293"/>
                        <a:pt x="241" y="265"/>
                      </a:cubicBezTo>
                      <a:cubicBezTo>
                        <a:pt x="232" y="237"/>
                        <a:pt x="243" y="216"/>
                        <a:pt x="221" y="193"/>
                      </a:cubicBezTo>
                      <a:cubicBezTo>
                        <a:pt x="199" y="170"/>
                        <a:pt x="142" y="154"/>
                        <a:pt x="109" y="125"/>
                      </a:cubicBezTo>
                      <a:cubicBezTo>
                        <a:pt x="76" y="96"/>
                        <a:pt x="38" y="26"/>
                        <a:pt x="21" y="13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03240" y="5885280"/>
                  <a:ext cx="139680" cy="204840"/>
                </a:xfrm>
                <a:custGeom>
                  <a:avLst/>
                  <a:gdLst/>
                  <a:ahLst/>
                  <a:rect l="l" t="t" r="r" b="b"/>
                  <a:pathLst>
                    <a:path w="469" h="704">
                      <a:moveTo>
                        <a:pt x="457" y="31"/>
                      </a:moveTo>
                      <a:cubicBezTo>
                        <a:pt x="445" y="22"/>
                        <a:pt x="395" y="23"/>
                        <a:pt x="369" y="19"/>
                      </a:cubicBezTo>
                      <a:cubicBezTo>
                        <a:pt x="343" y="15"/>
                        <a:pt x="318" y="0"/>
                        <a:pt x="301" y="7"/>
                      </a:cubicBezTo>
                      <a:cubicBezTo>
                        <a:pt x="284" y="14"/>
                        <a:pt x="282" y="56"/>
                        <a:pt x="265" y="63"/>
                      </a:cubicBezTo>
                      <a:cubicBezTo>
                        <a:pt x="248" y="70"/>
                        <a:pt x="208" y="43"/>
                        <a:pt x="197" y="51"/>
                      </a:cubicBezTo>
                      <a:cubicBezTo>
                        <a:pt x="186" y="59"/>
                        <a:pt x="202" y="95"/>
                        <a:pt x="201" y="111"/>
                      </a:cubicBezTo>
                      <a:cubicBezTo>
                        <a:pt x="200" y="127"/>
                        <a:pt x="176" y="128"/>
                        <a:pt x="189" y="147"/>
                      </a:cubicBezTo>
                      <a:cubicBezTo>
                        <a:pt x="202" y="166"/>
                        <a:pt x="260" y="196"/>
                        <a:pt x="277" y="227"/>
                      </a:cubicBezTo>
                      <a:cubicBezTo>
                        <a:pt x="294" y="258"/>
                        <a:pt x="292" y="295"/>
                        <a:pt x="289" y="335"/>
                      </a:cubicBezTo>
                      <a:cubicBezTo>
                        <a:pt x="286" y="375"/>
                        <a:pt x="275" y="424"/>
                        <a:pt x="261" y="467"/>
                      </a:cubicBezTo>
                      <a:cubicBezTo>
                        <a:pt x="247" y="510"/>
                        <a:pt x="230" y="560"/>
                        <a:pt x="205" y="591"/>
                      </a:cubicBezTo>
                      <a:cubicBezTo>
                        <a:pt x="180" y="622"/>
                        <a:pt x="146" y="640"/>
                        <a:pt x="113" y="655"/>
                      </a:cubicBezTo>
                      <a:cubicBezTo>
                        <a:pt x="80" y="670"/>
                        <a:pt x="18" y="676"/>
                        <a:pt x="9" y="683"/>
                      </a:cubicBezTo>
                      <a:cubicBezTo>
                        <a:pt x="0" y="690"/>
                        <a:pt x="26" y="704"/>
                        <a:pt x="57" y="699"/>
                      </a:cubicBezTo>
                      <a:cubicBezTo>
                        <a:pt x="88" y="694"/>
                        <a:pt x="157" y="660"/>
                        <a:pt x="193" y="651"/>
                      </a:cubicBezTo>
                      <a:cubicBezTo>
                        <a:pt x="229" y="642"/>
                        <a:pt x="246" y="658"/>
                        <a:pt x="273" y="647"/>
                      </a:cubicBezTo>
                      <a:cubicBezTo>
                        <a:pt x="300" y="636"/>
                        <a:pt x="340" y="615"/>
                        <a:pt x="353" y="587"/>
                      </a:cubicBezTo>
                      <a:cubicBezTo>
                        <a:pt x="366" y="559"/>
                        <a:pt x="346" y="520"/>
                        <a:pt x="349" y="479"/>
                      </a:cubicBezTo>
                      <a:cubicBezTo>
                        <a:pt x="352" y="438"/>
                        <a:pt x="376" y="385"/>
                        <a:pt x="369" y="343"/>
                      </a:cubicBezTo>
                      <a:cubicBezTo>
                        <a:pt x="362" y="301"/>
                        <a:pt x="328" y="262"/>
                        <a:pt x="305" y="227"/>
                      </a:cubicBezTo>
                      <a:cubicBezTo>
                        <a:pt x="282" y="192"/>
                        <a:pt x="233" y="154"/>
                        <a:pt x="229" y="135"/>
                      </a:cubicBezTo>
                      <a:cubicBezTo>
                        <a:pt x="225" y="116"/>
                        <a:pt x="272" y="124"/>
                        <a:pt x="281" y="111"/>
                      </a:cubicBezTo>
                      <a:cubicBezTo>
                        <a:pt x="290" y="98"/>
                        <a:pt x="271" y="64"/>
                        <a:pt x="285" y="59"/>
                      </a:cubicBezTo>
                      <a:cubicBezTo>
                        <a:pt x="299" y="54"/>
                        <a:pt x="351" y="88"/>
                        <a:pt x="365" y="83"/>
                      </a:cubicBezTo>
                      <a:cubicBezTo>
                        <a:pt x="379" y="78"/>
                        <a:pt x="356" y="32"/>
                        <a:pt x="369" y="31"/>
                      </a:cubicBezTo>
                      <a:cubicBezTo>
                        <a:pt x="382" y="30"/>
                        <a:pt x="426" y="76"/>
                        <a:pt x="441" y="75"/>
                      </a:cubicBezTo>
                      <a:cubicBezTo>
                        <a:pt x="456" y="74"/>
                        <a:pt x="469" y="40"/>
                        <a:pt x="457" y="31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093520" y="6175440"/>
                  <a:ext cx="51480" cy="111240"/>
                </a:xfrm>
                <a:custGeom>
                  <a:avLst/>
                  <a:gdLst/>
                  <a:ahLst/>
                  <a:rect l="l" t="t" r="r" b="b"/>
                  <a:pathLst>
                    <a:path w="173" h="383">
                      <a:moveTo>
                        <a:pt x="1" y="18"/>
                      </a:moveTo>
                      <a:cubicBezTo>
                        <a:pt x="0" y="36"/>
                        <a:pt x="51" y="101"/>
                        <a:pt x="69" y="146"/>
                      </a:cubicBezTo>
                      <a:cubicBezTo>
                        <a:pt x="87" y="191"/>
                        <a:pt x="104" y="251"/>
                        <a:pt x="109" y="290"/>
                      </a:cubicBezTo>
                      <a:cubicBezTo>
                        <a:pt x="114" y="329"/>
                        <a:pt x="93" y="373"/>
                        <a:pt x="97" y="378"/>
                      </a:cubicBezTo>
                      <a:cubicBezTo>
                        <a:pt x="101" y="383"/>
                        <a:pt x="120" y="335"/>
                        <a:pt x="133" y="318"/>
                      </a:cubicBezTo>
                      <a:cubicBezTo>
                        <a:pt x="146" y="301"/>
                        <a:pt x="173" y="287"/>
                        <a:pt x="173" y="274"/>
                      </a:cubicBezTo>
                      <a:cubicBezTo>
                        <a:pt x="173" y="261"/>
                        <a:pt x="136" y="249"/>
                        <a:pt x="133" y="238"/>
                      </a:cubicBezTo>
                      <a:cubicBezTo>
                        <a:pt x="130" y="227"/>
                        <a:pt x="156" y="219"/>
                        <a:pt x="153" y="206"/>
                      </a:cubicBezTo>
                      <a:cubicBezTo>
                        <a:pt x="150" y="193"/>
                        <a:pt x="118" y="173"/>
                        <a:pt x="113" y="158"/>
                      </a:cubicBezTo>
                      <a:cubicBezTo>
                        <a:pt x="108" y="143"/>
                        <a:pt x="129" y="131"/>
                        <a:pt x="125" y="118"/>
                      </a:cubicBezTo>
                      <a:cubicBezTo>
                        <a:pt x="121" y="105"/>
                        <a:pt x="97" y="91"/>
                        <a:pt x="89" y="78"/>
                      </a:cubicBezTo>
                      <a:cubicBezTo>
                        <a:pt x="81" y="65"/>
                        <a:pt x="91" y="47"/>
                        <a:pt x="77" y="38"/>
                      </a:cubicBezTo>
                      <a:cubicBezTo>
                        <a:pt x="63" y="29"/>
                        <a:pt x="2" y="0"/>
                        <a:pt x="1" y="18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225280" y="6266880"/>
                  <a:ext cx="219600" cy="168120"/>
                </a:xfrm>
                <a:custGeom>
                  <a:avLst/>
                  <a:gdLst/>
                  <a:ahLst/>
                  <a:rect l="l" t="t" r="r" b="b"/>
                  <a:pathLst>
                    <a:path w="738" h="578">
                      <a:moveTo>
                        <a:pt x="91" y="4"/>
                      </a:moveTo>
                      <a:cubicBezTo>
                        <a:pt x="79" y="8"/>
                        <a:pt x="34" y="36"/>
                        <a:pt x="19" y="60"/>
                      </a:cubicBezTo>
                      <a:cubicBezTo>
                        <a:pt x="4" y="84"/>
                        <a:pt x="0" y="121"/>
                        <a:pt x="3" y="148"/>
                      </a:cubicBezTo>
                      <a:cubicBezTo>
                        <a:pt x="6" y="175"/>
                        <a:pt x="18" y="195"/>
                        <a:pt x="35" y="220"/>
                      </a:cubicBezTo>
                      <a:cubicBezTo>
                        <a:pt x="52" y="245"/>
                        <a:pt x="97" y="275"/>
                        <a:pt x="107" y="300"/>
                      </a:cubicBezTo>
                      <a:cubicBezTo>
                        <a:pt x="117" y="325"/>
                        <a:pt x="90" y="357"/>
                        <a:pt x="95" y="372"/>
                      </a:cubicBezTo>
                      <a:cubicBezTo>
                        <a:pt x="100" y="387"/>
                        <a:pt x="119" y="386"/>
                        <a:pt x="135" y="392"/>
                      </a:cubicBezTo>
                      <a:cubicBezTo>
                        <a:pt x="151" y="398"/>
                        <a:pt x="162" y="397"/>
                        <a:pt x="191" y="408"/>
                      </a:cubicBezTo>
                      <a:cubicBezTo>
                        <a:pt x="220" y="419"/>
                        <a:pt x="270" y="439"/>
                        <a:pt x="311" y="460"/>
                      </a:cubicBezTo>
                      <a:cubicBezTo>
                        <a:pt x="352" y="481"/>
                        <a:pt x="398" y="517"/>
                        <a:pt x="439" y="536"/>
                      </a:cubicBezTo>
                      <a:cubicBezTo>
                        <a:pt x="480" y="555"/>
                        <a:pt x="520" y="566"/>
                        <a:pt x="555" y="572"/>
                      </a:cubicBezTo>
                      <a:cubicBezTo>
                        <a:pt x="590" y="578"/>
                        <a:pt x="622" y="574"/>
                        <a:pt x="651" y="572"/>
                      </a:cubicBezTo>
                      <a:cubicBezTo>
                        <a:pt x="680" y="570"/>
                        <a:pt x="738" y="563"/>
                        <a:pt x="731" y="560"/>
                      </a:cubicBezTo>
                      <a:cubicBezTo>
                        <a:pt x="724" y="557"/>
                        <a:pt x="645" y="561"/>
                        <a:pt x="607" y="556"/>
                      </a:cubicBezTo>
                      <a:cubicBezTo>
                        <a:pt x="569" y="551"/>
                        <a:pt x="541" y="542"/>
                        <a:pt x="503" y="528"/>
                      </a:cubicBezTo>
                      <a:cubicBezTo>
                        <a:pt x="465" y="514"/>
                        <a:pt x="419" y="491"/>
                        <a:pt x="379" y="472"/>
                      </a:cubicBezTo>
                      <a:cubicBezTo>
                        <a:pt x="339" y="453"/>
                        <a:pt x="296" y="432"/>
                        <a:pt x="263" y="416"/>
                      </a:cubicBezTo>
                      <a:cubicBezTo>
                        <a:pt x="230" y="400"/>
                        <a:pt x="201" y="388"/>
                        <a:pt x="183" y="376"/>
                      </a:cubicBezTo>
                      <a:cubicBezTo>
                        <a:pt x="165" y="364"/>
                        <a:pt x="161" y="357"/>
                        <a:pt x="155" y="344"/>
                      </a:cubicBezTo>
                      <a:cubicBezTo>
                        <a:pt x="149" y="331"/>
                        <a:pt x="159" y="315"/>
                        <a:pt x="147" y="296"/>
                      </a:cubicBezTo>
                      <a:cubicBezTo>
                        <a:pt x="135" y="277"/>
                        <a:pt x="103" y="255"/>
                        <a:pt x="83" y="232"/>
                      </a:cubicBezTo>
                      <a:cubicBezTo>
                        <a:pt x="63" y="209"/>
                        <a:pt x="35" y="179"/>
                        <a:pt x="27" y="156"/>
                      </a:cubicBezTo>
                      <a:cubicBezTo>
                        <a:pt x="19" y="133"/>
                        <a:pt x="24" y="112"/>
                        <a:pt x="35" y="92"/>
                      </a:cubicBezTo>
                      <a:cubicBezTo>
                        <a:pt x="46" y="72"/>
                        <a:pt x="84" y="51"/>
                        <a:pt x="91" y="36"/>
                      </a:cubicBezTo>
                      <a:cubicBezTo>
                        <a:pt x="98" y="21"/>
                        <a:pt x="103" y="0"/>
                        <a:pt x="91" y="4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092800" y="6183720"/>
                  <a:ext cx="154080" cy="121680"/>
                </a:xfrm>
                <a:custGeom>
                  <a:avLst/>
                  <a:gdLst/>
                  <a:ahLst/>
                  <a:rect l="l" t="t" r="r" b="b"/>
                  <a:pathLst>
                    <a:path w="518" h="418">
                      <a:moveTo>
                        <a:pt x="15" y="417"/>
                      </a:moveTo>
                      <a:cubicBezTo>
                        <a:pt x="0" y="418"/>
                        <a:pt x="62" y="401"/>
                        <a:pt x="79" y="381"/>
                      </a:cubicBezTo>
                      <a:cubicBezTo>
                        <a:pt x="96" y="361"/>
                        <a:pt x="112" y="328"/>
                        <a:pt x="119" y="297"/>
                      </a:cubicBezTo>
                      <a:cubicBezTo>
                        <a:pt x="126" y="266"/>
                        <a:pt x="130" y="233"/>
                        <a:pt x="123" y="197"/>
                      </a:cubicBezTo>
                      <a:cubicBezTo>
                        <a:pt x="116" y="161"/>
                        <a:pt x="94" y="113"/>
                        <a:pt x="79" y="81"/>
                      </a:cubicBezTo>
                      <a:cubicBezTo>
                        <a:pt x="64" y="49"/>
                        <a:pt x="25" y="10"/>
                        <a:pt x="35" y="5"/>
                      </a:cubicBezTo>
                      <a:cubicBezTo>
                        <a:pt x="45" y="0"/>
                        <a:pt x="101" y="41"/>
                        <a:pt x="139" y="49"/>
                      </a:cubicBezTo>
                      <a:cubicBezTo>
                        <a:pt x="177" y="57"/>
                        <a:pt x="218" y="53"/>
                        <a:pt x="263" y="53"/>
                      </a:cubicBezTo>
                      <a:cubicBezTo>
                        <a:pt x="308" y="53"/>
                        <a:pt x="371" y="45"/>
                        <a:pt x="411" y="49"/>
                      </a:cubicBezTo>
                      <a:cubicBezTo>
                        <a:pt x="451" y="53"/>
                        <a:pt x="488" y="56"/>
                        <a:pt x="503" y="77"/>
                      </a:cubicBezTo>
                      <a:cubicBezTo>
                        <a:pt x="518" y="98"/>
                        <a:pt x="503" y="144"/>
                        <a:pt x="499" y="173"/>
                      </a:cubicBezTo>
                      <a:cubicBezTo>
                        <a:pt x="495" y="202"/>
                        <a:pt x="508" y="226"/>
                        <a:pt x="479" y="249"/>
                      </a:cubicBezTo>
                      <a:cubicBezTo>
                        <a:pt x="450" y="272"/>
                        <a:pt x="378" y="292"/>
                        <a:pt x="327" y="313"/>
                      </a:cubicBezTo>
                      <a:cubicBezTo>
                        <a:pt x="276" y="334"/>
                        <a:pt x="222" y="360"/>
                        <a:pt x="171" y="377"/>
                      </a:cubicBezTo>
                      <a:cubicBezTo>
                        <a:pt x="120" y="394"/>
                        <a:pt x="30" y="416"/>
                        <a:pt x="15" y="4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195400" y="6200640"/>
                  <a:ext cx="56880" cy="158760"/>
                </a:xfrm>
                <a:custGeom>
                  <a:avLst/>
                  <a:gdLst/>
                  <a:ahLst/>
                  <a:rect l="l" t="t" r="r" b="b"/>
                  <a:pathLst>
                    <a:path w="192" h="546">
                      <a:moveTo>
                        <a:pt x="19" y="543"/>
                      </a:moveTo>
                      <a:cubicBezTo>
                        <a:pt x="16" y="540"/>
                        <a:pt x="4" y="483"/>
                        <a:pt x="3" y="447"/>
                      </a:cubicBezTo>
                      <a:cubicBezTo>
                        <a:pt x="2" y="411"/>
                        <a:pt x="0" y="364"/>
                        <a:pt x="11" y="327"/>
                      </a:cubicBezTo>
                      <a:cubicBezTo>
                        <a:pt x="22" y="290"/>
                        <a:pt x="54" y="252"/>
                        <a:pt x="71" y="227"/>
                      </a:cubicBezTo>
                      <a:cubicBezTo>
                        <a:pt x="88" y="202"/>
                        <a:pt x="100" y="196"/>
                        <a:pt x="111" y="179"/>
                      </a:cubicBezTo>
                      <a:cubicBezTo>
                        <a:pt x="122" y="162"/>
                        <a:pt x="131" y="146"/>
                        <a:pt x="135" y="123"/>
                      </a:cubicBezTo>
                      <a:cubicBezTo>
                        <a:pt x="139" y="100"/>
                        <a:pt x="139" y="63"/>
                        <a:pt x="135" y="43"/>
                      </a:cubicBezTo>
                      <a:cubicBezTo>
                        <a:pt x="131" y="23"/>
                        <a:pt x="106" y="6"/>
                        <a:pt x="111" y="3"/>
                      </a:cubicBezTo>
                      <a:cubicBezTo>
                        <a:pt x="116" y="0"/>
                        <a:pt x="155" y="4"/>
                        <a:pt x="167" y="27"/>
                      </a:cubicBezTo>
                      <a:cubicBezTo>
                        <a:pt x="179" y="50"/>
                        <a:pt x="192" y="108"/>
                        <a:pt x="183" y="143"/>
                      </a:cubicBezTo>
                      <a:cubicBezTo>
                        <a:pt x="174" y="178"/>
                        <a:pt x="140" y="207"/>
                        <a:pt x="115" y="239"/>
                      </a:cubicBezTo>
                      <a:cubicBezTo>
                        <a:pt x="90" y="271"/>
                        <a:pt x="51" y="298"/>
                        <a:pt x="35" y="335"/>
                      </a:cubicBezTo>
                      <a:cubicBezTo>
                        <a:pt x="19" y="372"/>
                        <a:pt x="22" y="428"/>
                        <a:pt x="19" y="463"/>
                      </a:cubicBezTo>
                      <a:cubicBezTo>
                        <a:pt x="16" y="498"/>
                        <a:pt x="22" y="546"/>
                        <a:pt x="19" y="543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461440" y="6286680"/>
                  <a:ext cx="191160" cy="133560"/>
                </a:xfrm>
                <a:custGeom>
                  <a:avLst/>
                  <a:gdLst/>
                  <a:ahLst/>
                  <a:rect l="l" t="t" r="r" b="b"/>
                  <a:pathLst>
                    <a:path w="642" h="459">
                      <a:moveTo>
                        <a:pt x="14" y="20"/>
                      </a:moveTo>
                      <a:cubicBezTo>
                        <a:pt x="11" y="32"/>
                        <a:pt x="0" y="58"/>
                        <a:pt x="22" y="80"/>
                      </a:cubicBezTo>
                      <a:cubicBezTo>
                        <a:pt x="44" y="102"/>
                        <a:pt x="123" y="125"/>
                        <a:pt x="146" y="152"/>
                      </a:cubicBezTo>
                      <a:cubicBezTo>
                        <a:pt x="169" y="179"/>
                        <a:pt x="152" y="219"/>
                        <a:pt x="162" y="244"/>
                      </a:cubicBezTo>
                      <a:cubicBezTo>
                        <a:pt x="172" y="269"/>
                        <a:pt x="181" y="286"/>
                        <a:pt x="206" y="300"/>
                      </a:cubicBezTo>
                      <a:cubicBezTo>
                        <a:pt x="231" y="314"/>
                        <a:pt x="279" y="310"/>
                        <a:pt x="314" y="328"/>
                      </a:cubicBezTo>
                      <a:cubicBezTo>
                        <a:pt x="349" y="346"/>
                        <a:pt x="381" y="389"/>
                        <a:pt x="414" y="408"/>
                      </a:cubicBezTo>
                      <a:cubicBezTo>
                        <a:pt x="447" y="427"/>
                        <a:pt x="477" y="433"/>
                        <a:pt x="514" y="440"/>
                      </a:cubicBezTo>
                      <a:cubicBezTo>
                        <a:pt x="551" y="447"/>
                        <a:pt x="634" y="459"/>
                        <a:pt x="638" y="452"/>
                      </a:cubicBezTo>
                      <a:cubicBezTo>
                        <a:pt x="642" y="445"/>
                        <a:pt x="562" y="421"/>
                        <a:pt x="538" y="400"/>
                      </a:cubicBezTo>
                      <a:cubicBezTo>
                        <a:pt x="514" y="379"/>
                        <a:pt x="509" y="341"/>
                        <a:pt x="494" y="328"/>
                      </a:cubicBezTo>
                      <a:cubicBezTo>
                        <a:pt x="479" y="315"/>
                        <a:pt x="454" y="327"/>
                        <a:pt x="446" y="320"/>
                      </a:cubicBezTo>
                      <a:cubicBezTo>
                        <a:pt x="438" y="313"/>
                        <a:pt x="450" y="301"/>
                        <a:pt x="446" y="288"/>
                      </a:cubicBezTo>
                      <a:cubicBezTo>
                        <a:pt x="442" y="275"/>
                        <a:pt x="436" y="248"/>
                        <a:pt x="422" y="244"/>
                      </a:cubicBezTo>
                      <a:cubicBezTo>
                        <a:pt x="408" y="240"/>
                        <a:pt x="379" y="261"/>
                        <a:pt x="362" y="264"/>
                      </a:cubicBezTo>
                      <a:cubicBezTo>
                        <a:pt x="345" y="267"/>
                        <a:pt x="327" y="270"/>
                        <a:pt x="318" y="264"/>
                      </a:cubicBezTo>
                      <a:cubicBezTo>
                        <a:pt x="309" y="258"/>
                        <a:pt x="319" y="227"/>
                        <a:pt x="310" y="228"/>
                      </a:cubicBezTo>
                      <a:cubicBezTo>
                        <a:pt x="301" y="229"/>
                        <a:pt x="285" y="263"/>
                        <a:pt x="266" y="268"/>
                      </a:cubicBezTo>
                      <a:cubicBezTo>
                        <a:pt x="247" y="273"/>
                        <a:pt x="209" y="268"/>
                        <a:pt x="194" y="256"/>
                      </a:cubicBezTo>
                      <a:cubicBezTo>
                        <a:pt x="179" y="244"/>
                        <a:pt x="183" y="217"/>
                        <a:pt x="178" y="196"/>
                      </a:cubicBezTo>
                      <a:cubicBezTo>
                        <a:pt x="173" y="175"/>
                        <a:pt x="179" y="151"/>
                        <a:pt x="162" y="132"/>
                      </a:cubicBezTo>
                      <a:cubicBezTo>
                        <a:pt x="145" y="113"/>
                        <a:pt x="94" y="101"/>
                        <a:pt x="74" y="80"/>
                      </a:cubicBezTo>
                      <a:cubicBezTo>
                        <a:pt x="54" y="59"/>
                        <a:pt x="51" y="16"/>
                        <a:pt x="42" y="8"/>
                      </a:cubicBezTo>
                      <a:cubicBezTo>
                        <a:pt x="33" y="0"/>
                        <a:pt x="17" y="8"/>
                        <a:pt x="14" y="20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211960" y="6480000"/>
                  <a:ext cx="255240" cy="78480"/>
                </a:xfrm>
                <a:custGeom>
                  <a:avLst/>
                  <a:gdLst/>
                  <a:ahLst/>
                  <a:rect l="l" t="t" r="r" b="b"/>
                  <a:pathLst>
                    <a:path w="857" h="270">
                      <a:moveTo>
                        <a:pt x="0" y="156"/>
                      </a:moveTo>
                      <a:cubicBezTo>
                        <a:pt x="0" y="163"/>
                        <a:pt x="13" y="189"/>
                        <a:pt x="28" y="192"/>
                      </a:cubicBezTo>
                      <a:cubicBezTo>
                        <a:pt x="43" y="195"/>
                        <a:pt x="72" y="183"/>
                        <a:pt x="92" y="176"/>
                      </a:cubicBezTo>
                      <a:cubicBezTo>
                        <a:pt x="112" y="169"/>
                        <a:pt x="132" y="156"/>
                        <a:pt x="148" y="148"/>
                      </a:cubicBezTo>
                      <a:cubicBezTo>
                        <a:pt x="164" y="140"/>
                        <a:pt x="170" y="123"/>
                        <a:pt x="188" y="128"/>
                      </a:cubicBezTo>
                      <a:cubicBezTo>
                        <a:pt x="206" y="133"/>
                        <a:pt x="233" y="169"/>
                        <a:pt x="256" y="176"/>
                      </a:cubicBezTo>
                      <a:cubicBezTo>
                        <a:pt x="279" y="183"/>
                        <a:pt x="308" y="166"/>
                        <a:pt x="328" y="172"/>
                      </a:cubicBezTo>
                      <a:cubicBezTo>
                        <a:pt x="348" y="178"/>
                        <a:pt x="359" y="206"/>
                        <a:pt x="376" y="212"/>
                      </a:cubicBezTo>
                      <a:cubicBezTo>
                        <a:pt x="393" y="218"/>
                        <a:pt x="411" y="199"/>
                        <a:pt x="428" y="208"/>
                      </a:cubicBezTo>
                      <a:cubicBezTo>
                        <a:pt x="445" y="217"/>
                        <a:pt x="460" y="258"/>
                        <a:pt x="480" y="264"/>
                      </a:cubicBezTo>
                      <a:cubicBezTo>
                        <a:pt x="500" y="270"/>
                        <a:pt x="525" y="253"/>
                        <a:pt x="548" y="244"/>
                      </a:cubicBezTo>
                      <a:cubicBezTo>
                        <a:pt x="571" y="235"/>
                        <a:pt x="599" y="227"/>
                        <a:pt x="616" y="212"/>
                      </a:cubicBezTo>
                      <a:cubicBezTo>
                        <a:pt x="633" y="197"/>
                        <a:pt x="633" y="172"/>
                        <a:pt x="652" y="156"/>
                      </a:cubicBezTo>
                      <a:cubicBezTo>
                        <a:pt x="671" y="140"/>
                        <a:pt x="707" y="130"/>
                        <a:pt x="732" y="116"/>
                      </a:cubicBezTo>
                      <a:cubicBezTo>
                        <a:pt x="757" y="102"/>
                        <a:pt x="783" y="82"/>
                        <a:pt x="804" y="72"/>
                      </a:cubicBezTo>
                      <a:cubicBezTo>
                        <a:pt x="825" y="62"/>
                        <a:pt x="857" y="68"/>
                        <a:pt x="856" y="56"/>
                      </a:cubicBezTo>
                      <a:cubicBezTo>
                        <a:pt x="855" y="44"/>
                        <a:pt x="813" y="0"/>
                        <a:pt x="796" y="0"/>
                      </a:cubicBezTo>
                      <a:cubicBezTo>
                        <a:pt x="779" y="0"/>
                        <a:pt x="775" y="37"/>
                        <a:pt x="752" y="56"/>
                      </a:cubicBezTo>
                      <a:cubicBezTo>
                        <a:pt x="729" y="75"/>
                        <a:pt x="686" y="92"/>
                        <a:pt x="660" y="112"/>
                      </a:cubicBezTo>
                      <a:cubicBezTo>
                        <a:pt x="634" y="132"/>
                        <a:pt x="619" y="167"/>
                        <a:pt x="596" y="176"/>
                      </a:cubicBezTo>
                      <a:cubicBezTo>
                        <a:pt x="573" y="185"/>
                        <a:pt x="549" y="171"/>
                        <a:pt x="524" y="168"/>
                      </a:cubicBezTo>
                      <a:cubicBezTo>
                        <a:pt x="499" y="165"/>
                        <a:pt x="469" y="160"/>
                        <a:pt x="444" y="160"/>
                      </a:cubicBezTo>
                      <a:cubicBezTo>
                        <a:pt x="419" y="160"/>
                        <a:pt x="399" y="176"/>
                        <a:pt x="376" y="168"/>
                      </a:cubicBezTo>
                      <a:cubicBezTo>
                        <a:pt x="353" y="160"/>
                        <a:pt x="328" y="128"/>
                        <a:pt x="304" y="112"/>
                      </a:cubicBezTo>
                      <a:cubicBezTo>
                        <a:pt x="280" y="96"/>
                        <a:pt x="257" y="76"/>
                        <a:pt x="232" y="72"/>
                      </a:cubicBezTo>
                      <a:cubicBezTo>
                        <a:pt x="207" y="68"/>
                        <a:pt x="175" y="79"/>
                        <a:pt x="152" y="88"/>
                      </a:cubicBezTo>
                      <a:cubicBezTo>
                        <a:pt x="129" y="97"/>
                        <a:pt x="117" y="114"/>
                        <a:pt x="96" y="124"/>
                      </a:cubicBezTo>
                      <a:cubicBezTo>
                        <a:pt x="75" y="134"/>
                        <a:pt x="45" y="141"/>
                        <a:pt x="28" y="148"/>
                      </a:cubicBezTo>
                      <a:cubicBezTo>
                        <a:pt x="11" y="155"/>
                        <a:pt x="0" y="149"/>
                        <a:pt x="0" y="156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574120" y="5823000"/>
                  <a:ext cx="178920" cy="228600"/>
                </a:xfrm>
                <a:custGeom>
                  <a:avLst/>
                  <a:gdLst/>
                  <a:ahLst/>
                  <a:rect l="l" t="t" r="r" b="b"/>
                  <a:pathLst>
                    <a:path w="601" h="786">
                      <a:moveTo>
                        <a:pt x="12" y="13"/>
                      </a:moveTo>
                      <a:cubicBezTo>
                        <a:pt x="0" y="0"/>
                        <a:pt x="34" y="32"/>
                        <a:pt x="32" y="49"/>
                      </a:cubicBezTo>
                      <a:cubicBezTo>
                        <a:pt x="30" y="66"/>
                        <a:pt x="0" y="99"/>
                        <a:pt x="0" y="113"/>
                      </a:cubicBezTo>
                      <a:cubicBezTo>
                        <a:pt x="0" y="127"/>
                        <a:pt x="29" y="122"/>
                        <a:pt x="32" y="133"/>
                      </a:cubicBezTo>
                      <a:cubicBezTo>
                        <a:pt x="35" y="144"/>
                        <a:pt x="11" y="170"/>
                        <a:pt x="16" y="181"/>
                      </a:cubicBezTo>
                      <a:cubicBezTo>
                        <a:pt x="21" y="192"/>
                        <a:pt x="55" y="188"/>
                        <a:pt x="60" y="197"/>
                      </a:cubicBezTo>
                      <a:cubicBezTo>
                        <a:pt x="65" y="206"/>
                        <a:pt x="40" y="227"/>
                        <a:pt x="44" y="237"/>
                      </a:cubicBezTo>
                      <a:cubicBezTo>
                        <a:pt x="48" y="247"/>
                        <a:pt x="77" y="244"/>
                        <a:pt x="84" y="257"/>
                      </a:cubicBezTo>
                      <a:cubicBezTo>
                        <a:pt x="91" y="270"/>
                        <a:pt x="86" y="298"/>
                        <a:pt x="88" y="317"/>
                      </a:cubicBezTo>
                      <a:cubicBezTo>
                        <a:pt x="90" y="336"/>
                        <a:pt x="89" y="360"/>
                        <a:pt x="96" y="373"/>
                      </a:cubicBezTo>
                      <a:cubicBezTo>
                        <a:pt x="103" y="386"/>
                        <a:pt x="128" y="386"/>
                        <a:pt x="132" y="397"/>
                      </a:cubicBezTo>
                      <a:cubicBezTo>
                        <a:pt x="136" y="408"/>
                        <a:pt x="113" y="425"/>
                        <a:pt x="120" y="441"/>
                      </a:cubicBezTo>
                      <a:cubicBezTo>
                        <a:pt x="127" y="457"/>
                        <a:pt x="171" y="474"/>
                        <a:pt x="176" y="493"/>
                      </a:cubicBezTo>
                      <a:cubicBezTo>
                        <a:pt x="181" y="512"/>
                        <a:pt x="154" y="537"/>
                        <a:pt x="148" y="557"/>
                      </a:cubicBezTo>
                      <a:cubicBezTo>
                        <a:pt x="142" y="577"/>
                        <a:pt x="125" y="596"/>
                        <a:pt x="140" y="613"/>
                      </a:cubicBezTo>
                      <a:cubicBezTo>
                        <a:pt x="155" y="630"/>
                        <a:pt x="215" y="646"/>
                        <a:pt x="236" y="661"/>
                      </a:cubicBezTo>
                      <a:cubicBezTo>
                        <a:pt x="257" y="676"/>
                        <a:pt x="257" y="698"/>
                        <a:pt x="268" y="701"/>
                      </a:cubicBezTo>
                      <a:cubicBezTo>
                        <a:pt x="279" y="704"/>
                        <a:pt x="291" y="675"/>
                        <a:pt x="304" y="677"/>
                      </a:cubicBezTo>
                      <a:cubicBezTo>
                        <a:pt x="317" y="679"/>
                        <a:pt x="331" y="706"/>
                        <a:pt x="348" y="713"/>
                      </a:cubicBezTo>
                      <a:cubicBezTo>
                        <a:pt x="365" y="720"/>
                        <a:pt x="392" y="712"/>
                        <a:pt x="408" y="717"/>
                      </a:cubicBezTo>
                      <a:cubicBezTo>
                        <a:pt x="424" y="722"/>
                        <a:pt x="429" y="742"/>
                        <a:pt x="444" y="741"/>
                      </a:cubicBezTo>
                      <a:cubicBezTo>
                        <a:pt x="459" y="740"/>
                        <a:pt x="477" y="708"/>
                        <a:pt x="496" y="709"/>
                      </a:cubicBezTo>
                      <a:cubicBezTo>
                        <a:pt x="515" y="710"/>
                        <a:pt x="544" y="732"/>
                        <a:pt x="556" y="745"/>
                      </a:cubicBezTo>
                      <a:cubicBezTo>
                        <a:pt x="568" y="758"/>
                        <a:pt x="562" y="784"/>
                        <a:pt x="568" y="785"/>
                      </a:cubicBezTo>
                      <a:cubicBezTo>
                        <a:pt x="574" y="786"/>
                        <a:pt x="601" y="770"/>
                        <a:pt x="592" y="753"/>
                      </a:cubicBezTo>
                      <a:cubicBezTo>
                        <a:pt x="583" y="736"/>
                        <a:pt x="543" y="706"/>
                        <a:pt x="512" y="685"/>
                      </a:cubicBezTo>
                      <a:cubicBezTo>
                        <a:pt x="481" y="664"/>
                        <a:pt x="440" y="663"/>
                        <a:pt x="404" y="625"/>
                      </a:cubicBezTo>
                      <a:cubicBezTo>
                        <a:pt x="368" y="587"/>
                        <a:pt x="336" y="510"/>
                        <a:pt x="296" y="457"/>
                      </a:cubicBezTo>
                      <a:cubicBezTo>
                        <a:pt x="256" y="404"/>
                        <a:pt x="196" y="360"/>
                        <a:pt x="164" y="305"/>
                      </a:cubicBezTo>
                      <a:cubicBezTo>
                        <a:pt x="132" y="250"/>
                        <a:pt x="130" y="177"/>
                        <a:pt x="104" y="129"/>
                      </a:cubicBezTo>
                      <a:cubicBezTo>
                        <a:pt x="78" y="81"/>
                        <a:pt x="24" y="26"/>
                        <a:pt x="12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973280" y="6227280"/>
                  <a:ext cx="161640" cy="225720"/>
                </a:xfrm>
                <a:custGeom>
                  <a:avLst/>
                  <a:gdLst/>
                  <a:ahLst/>
                  <a:rect l="l" t="t" r="r" b="b"/>
                  <a:pathLst>
                    <a:path w="543" h="776">
                      <a:moveTo>
                        <a:pt x="511" y="16"/>
                      </a:moveTo>
                      <a:cubicBezTo>
                        <a:pt x="479" y="0"/>
                        <a:pt x="388" y="90"/>
                        <a:pt x="325" y="136"/>
                      </a:cubicBezTo>
                      <a:cubicBezTo>
                        <a:pt x="262" y="182"/>
                        <a:pt x="178" y="234"/>
                        <a:pt x="133" y="292"/>
                      </a:cubicBezTo>
                      <a:cubicBezTo>
                        <a:pt x="88" y="350"/>
                        <a:pt x="77" y="429"/>
                        <a:pt x="55" y="484"/>
                      </a:cubicBezTo>
                      <a:cubicBezTo>
                        <a:pt x="33" y="539"/>
                        <a:pt x="0" y="581"/>
                        <a:pt x="1" y="622"/>
                      </a:cubicBezTo>
                      <a:cubicBezTo>
                        <a:pt x="2" y="663"/>
                        <a:pt x="35" y="708"/>
                        <a:pt x="61" y="730"/>
                      </a:cubicBezTo>
                      <a:cubicBezTo>
                        <a:pt x="87" y="752"/>
                        <a:pt x="146" y="776"/>
                        <a:pt x="157" y="754"/>
                      </a:cubicBezTo>
                      <a:cubicBezTo>
                        <a:pt x="168" y="732"/>
                        <a:pt x="131" y="649"/>
                        <a:pt x="127" y="598"/>
                      </a:cubicBezTo>
                      <a:cubicBezTo>
                        <a:pt x="123" y="547"/>
                        <a:pt x="120" y="494"/>
                        <a:pt x="133" y="448"/>
                      </a:cubicBezTo>
                      <a:cubicBezTo>
                        <a:pt x="146" y="402"/>
                        <a:pt x="164" y="352"/>
                        <a:pt x="205" y="322"/>
                      </a:cubicBezTo>
                      <a:cubicBezTo>
                        <a:pt x="246" y="292"/>
                        <a:pt x="327" y="283"/>
                        <a:pt x="379" y="268"/>
                      </a:cubicBezTo>
                      <a:cubicBezTo>
                        <a:pt x="431" y="253"/>
                        <a:pt x="497" y="271"/>
                        <a:pt x="517" y="232"/>
                      </a:cubicBezTo>
                      <a:cubicBezTo>
                        <a:pt x="537" y="193"/>
                        <a:pt x="543" y="32"/>
                        <a:pt x="511" y="16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>
              <a:off x="5792760" y="2536920"/>
              <a:ext cx="1371240" cy="86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92"/>
                  </a:moveTo>
                  <a:arcTo wR="10800" hR="10800" stAng="-10797591" swAng="107975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92"/>
                  </a:moveTo>
                  <a:arcTo wR="10800" hR="10800" stAng="-10797591" swAng="10797591"/>
                </a:path>
              </a:pathLst>
            </a:custGeom>
            <a:gradFill rotWithShape="0">
              <a:gsLst>
                <a:gs pos="0">
                  <a:srgbClr val="e4c2dd"/>
                </a:gs>
                <a:gs pos="100000">
                  <a:srgbClr val="edd7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33520" y="-5521320"/>
              <a:ext cx="1218600" cy="1104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3"/>
                  </a:moveTo>
                  <a:arcTo wR="10800" hR="10800" stAng="10799045" swAng="10799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3"/>
                  </a:moveTo>
                  <a:arcTo wR="10800" hR="10800" stAng="10799045" swAng="10799997"/>
                </a:path>
              </a:pathLst>
            </a:custGeom>
            <a:gradFill rotWithShape="0">
              <a:gsLst>
                <a:gs pos="0">
                  <a:srgbClr val="e4c2dd"/>
                </a:gs>
                <a:gs pos="100000">
                  <a:srgbClr val="edd7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1640" y="3219480"/>
              <a:ext cx="2819160" cy="72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-10799842" swAng="10799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-10799842" swAng="10799842"/>
                </a:path>
              </a:pathLst>
            </a:custGeom>
            <a:gradFill rotWithShape="0">
              <a:gsLst>
                <a:gs pos="0">
                  <a:srgbClr val="e4c2dd"/>
                </a:gs>
                <a:gs pos="100000">
                  <a:srgbClr val="edd7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3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325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216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325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325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325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215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32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325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265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325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325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083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32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CF6-5CEC-46B4-AB9A-5430434C1C85}" type="slidenum">
              <a:rPr b="0" lang="en-US" sz="1400" spc="-1" strike="noStrike">
                <a:solidFill>
                  <a:srgbClr val="6e325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533520" y="-5521320"/>
            <a:ext cx="8596080" cy="16700040"/>
            <a:chOff x="533520" y="-5521320"/>
            <a:chExt cx="8596080" cy="16700040"/>
          </a:xfrm>
        </p:grpSpPr>
        <p:grpSp>
          <p:nvGrpSpPr>
            <p:cNvPr id="395" name=""/>
            <p:cNvGrpSpPr/>
            <p:nvPr/>
          </p:nvGrpSpPr>
          <p:grpSpPr>
            <a:xfrm>
              <a:off x="8001000" y="2846520"/>
              <a:ext cx="1128600" cy="3693960"/>
              <a:chOff x="8001000" y="2846520"/>
              <a:chExt cx="1128600" cy="36939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8001000" y="2846520"/>
                <a:ext cx="1114560" cy="2856960"/>
                <a:chOff x="8001000" y="2846520"/>
                <a:chExt cx="1114560" cy="28569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001000" y="2846520"/>
                  <a:ext cx="1114560" cy="1440720"/>
                </a:xfrm>
                <a:custGeom>
                  <a:avLst/>
                  <a:gdLst/>
                  <a:ahLst/>
                  <a:rect l="l" t="t" r="r" b="b"/>
                  <a:pathLst>
                    <a:path w="1476" h="1908">
                      <a:moveTo>
                        <a:pt x="972" y="1908"/>
                      </a:moveTo>
                      <a:lnTo>
                        <a:pt x="896" y="1804"/>
                      </a:lnTo>
                      <a:lnTo>
                        <a:pt x="808" y="1728"/>
                      </a:lnTo>
                      <a:lnTo>
                        <a:pt x="752" y="1648"/>
                      </a:lnTo>
                      <a:lnTo>
                        <a:pt x="716" y="1560"/>
                      </a:lnTo>
                      <a:lnTo>
                        <a:pt x="664" y="1388"/>
                      </a:lnTo>
                      <a:lnTo>
                        <a:pt x="604" y="1228"/>
                      </a:lnTo>
                      <a:lnTo>
                        <a:pt x="548" y="1108"/>
                      </a:lnTo>
                      <a:lnTo>
                        <a:pt x="484" y="1008"/>
                      </a:lnTo>
                      <a:lnTo>
                        <a:pt x="412" y="960"/>
                      </a:lnTo>
                      <a:lnTo>
                        <a:pt x="424" y="916"/>
                      </a:lnTo>
                      <a:lnTo>
                        <a:pt x="312" y="916"/>
                      </a:lnTo>
                      <a:lnTo>
                        <a:pt x="180" y="892"/>
                      </a:lnTo>
                      <a:lnTo>
                        <a:pt x="52" y="864"/>
                      </a:lnTo>
                      <a:lnTo>
                        <a:pt x="68" y="828"/>
                      </a:lnTo>
                      <a:lnTo>
                        <a:pt x="44" y="820"/>
                      </a:lnTo>
                      <a:lnTo>
                        <a:pt x="84" y="796"/>
                      </a:lnTo>
                      <a:lnTo>
                        <a:pt x="28" y="752"/>
                      </a:lnTo>
                      <a:lnTo>
                        <a:pt x="68" y="728"/>
                      </a:lnTo>
                      <a:lnTo>
                        <a:pt x="40" y="704"/>
                      </a:lnTo>
                      <a:lnTo>
                        <a:pt x="44" y="660"/>
                      </a:lnTo>
                      <a:lnTo>
                        <a:pt x="0" y="676"/>
                      </a:lnTo>
                      <a:lnTo>
                        <a:pt x="12" y="632"/>
                      </a:lnTo>
                      <a:lnTo>
                        <a:pt x="40" y="616"/>
                      </a:lnTo>
                      <a:lnTo>
                        <a:pt x="16" y="592"/>
                      </a:lnTo>
                      <a:lnTo>
                        <a:pt x="60" y="572"/>
                      </a:lnTo>
                      <a:lnTo>
                        <a:pt x="44" y="532"/>
                      </a:lnTo>
                      <a:lnTo>
                        <a:pt x="84" y="520"/>
                      </a:lnTo>
                      <a:lnTo>
                        <a:pt x="60" y="472"/>
                      </a:lnTo>
                      <a:lnTo>
                        <a:pt x="88" y="464"/>
                      </a:lnTo>
                      <a:lnTo>
                        <a:pt x="92" y="396"/>
                      </a:lnTo>
                      <a:lnTo>
                        <a:pt x="132" y="408"/>
                      </a:lnTo>
                      <a:lnTo>
                        <a:pt x="136" y="348"/>
                      </a:lnTo>
                      <a:lnTo>
                        <a:pt x="192" y="332"/>
                      </a:lnTo>
                      <a:lnTo>
                        <a:pt x="208" y="276"/>
                      </a:lnTo>
                      <a:lnTo>
                        <a:pt x="240" y="288"/>
                      </a:lnTo>
                      <a:lnTo>
                        <a:pt x="272" y="232"/>
                      </a:lnTo>
                      <a:lnTo>
                        <a:pt x="316" y="256"/>
                      </a:lnTo>
                      <a:lnTo>
                        <a:pt x="332" y="220"/>
                      </a:lnTo>
                      <a:lnTo>
                        <a:pt x="396" y="252"/>
                      </a:lnTo>
                      <a:lnTo>
                        <a:pt x="476" y="228"/>
                      </a:lnTo>
                      <a:lnTo>
                        <a:pt x="524" y="264"/>
                      </a:lnTo>
                      <a:lnTo>
                        <a:pt x="548" y="216"/>
                      </a:lnTo>
                      <a:lnTo>
                        <a:pt x="580" y="260"/>
                      </a:lnTo>
                      <a:lnTo>
                        <a:pt x="592" y="228"/>
                      </a:lnTo>
                      <a:lnTo>
                        <a:pt x="640" y="252"/>
                      </a:lnTo>
                      <a:lnTo>
                        <a:pt x="624" y="192"/>
                      </a:lnTo>
                      <a:lnTo>
                        <a:pt x="680" y="208"/>
                      </a:lnTo>
                      <a:lnTo>
                        <a:pt x="672" y="60"/>
                      </a:lnTo>
                      <a:lnTo>
                        <a:pt x="708" y="88"/>
                      </a:lnTo>
                      <a:lnTo>
                        <a:pt x="724" y="40"/>
                      </a:lnTo>
                      <a:lnTo>
                        <a:pt x="756" y="64"/>
                      </a:lnTo>
                      <a:lnTo>
                        <a:pt x="788" y="28"/>
                      </a:lnTo>
                      <a:lnTo>
                        <a:pt x="820" y="52"/>
                      </a:lnTo>
                      <a:lnTo>
                        <a:pt x="856" y="12"/>
                      </a:lnTo>
                      <a:lnTo>
                        <a:pt x="912" y="40"/>
                      </a:lnTo>
                      <a:lnTo>
                        <a:pt x="928" y="8"/>
                      </a:lnTo>
                      <a:lnTo>
                        <a:pt x="952" y="32"/>
                      </a:lnTo>
                      <a:lnTo>
                        <a:pt x="972" y="0"/>
                      </a:lnTo>
                      <a:lnTo>
                        <a:pt x="988" y="56"/>
                      </a:lnTo>
                      <a:lnTo>
                        <a:pt x="1008" y="76"/>
                      </a:lnTo>
                      <a:lnTo>
                        <a:pt x="1016" y="52"/>
                      </a:lnTo>
                      <a:lnTo>
                        <a:pt x="1056" y="96"/>
                      </a:lnTo>
                      <a:lnTo>
                        <a:pt x="1100" y="80"/>
                      </a:lnTo>
                      <a:lnTo>
                        <a:pt x="1100" y="124"/>
                      </a:lnTo>
                      <a:lnTo>
                        <a:pt x="1148" y="112"/>
                      </a:lnTo>
                      <a:lnTo>
                        <a:pt x="1164" y="152"/>
                      </a:lnTo>
                      <a:lnTo>
                        <a:pt x="1200" y="140"/>
                      </a:lnTo>
                      <a:lnTo>
                        <a:pt x="1220" y="208"/>
                      </a:lnTo>
                      <a:lnTo>
                        <a:pt x="1260" y="188"/>
                      </a:lnTo>
                      <a:lnTo>
                        <a:pt x="1296" y="236"/>
                      </a:lnTo>
                      <a:lnTo>
                        <a:pt x="1336" y="220"/>
                      </a:lnTo>
                      <a:lnTo>
                        <a:pt x="1336" y="288"/>
                      </a:lnTo>
                      <a:lnTo>
                        <a:pt x="1372" y="332"/>
                      </a:lnTo>
                      <a:lnTo>
                        <a:pt x="1404" y="316"/>
                      </a:lnTo>
                      <a:lnTo>
                        <a:pt x="1400" y="380"/>
                      </a:lnTo>
                      <a:lnTo>
                        <a:pt x="1432" y="424"/>
                      </a:lnTo>
                      <a:lnTo>
                        <a:pt x="1464" y="444"/>
                      </a:lnTo>
                      <a:lnTo>
                        <a:pt x="1408" y="504"/>
                      </a:lnTo>
                      <a:lnTo>
                        <a:pt x="1464" y="524"/>
                      </a:lnTo>
                      <a:lnTo>
                        <a:pt x="1436" y="556"/>
                      </a:lnTo>
                      <a:lnTo>
                        <a:pt x="1476" y="556"/>
                      </a:lnTo>
                      <a:lnTo>
                        <a:pt x="1460" y="632"/>
                      </a:lnTo>
                      <a:lnTo>
                        <a:pt x="1408" y="696"/>
                      </a:lnTo>
                      <a:lnTo>
                        <a:pt x="1352" y="760"/>
                      </a:lnTo>
                      <a:lnTo>
                        <a:pt x="1312" y="856"/>
                      </a:lnTo>
                      <a:lnTo>
                        <a:pt x="1280" y="904"/>
                      </a:lnTo>
                      <a:lnTo>
                        <a:pt x="1244" y="916"/>
                      </a:lnTo>
                      <a:lnTo>
                        <a:pt x="1156" y="908"/>
                      </a:lnTo>
                      <a:lnTo>
                        <a:pt x="1064" y="908"/>
                      </a:lnTo>
                      <a:lnTo>
                        <a:pt x="1004" y="948"/>
                      </a:lnTo>
                      <a:lnTo>
                        <a:pt x="1032" y="1096"/>
                      </a:lnTo>
                      <a:lnTo>
                        <a:pt x="1068" y="1280"/>
                      </a:lnTo>
                      <a:lnTo>
                        <a:pt x="1092" y="1428"/>
                      </a:lnTo>
                      <a:lnTo>
                        <a:pt x="1080" y="1532"/>
                      </a:lnTo>
                      <a:lnTo>
                        <a:pt x="1056" y="1640"/>
                      </a:lnTo>
                      <a:lnTo>
                        <a:pt x="1016" y="1736"/>
                      </a:lnTo>
                      <a:lnTo>
                        <a:pt x="1028" y="1848"/>
                      </a:lnTo>
                      <a:lnTo>
                        <a:pt x="972" y="1908"/>
                      </a:lnTo>
                      <a:close/>
                    </a:path>
                  </a:pathLst>
                </a:custGeom>
                <a:solidFill>
                  <a:srgbClr val="96969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505360" y="4096800"/>
                  <a:ext cx="483120" cy="1606680"/>
                </a:xfrm>
                <a:custGeom>
                  <a:avLst/>
                  <a:gdLst/>
                  <a:ahLst/>
                  <a:rect l="l" t="t" r="r" b="b"/>
                  <a:pathLst>
                    <a:path w="640" h="2128">
                      <a:moveTo>
                        <a:pt x="192" y="44"/>
                      </a:moveTo>
                      <a:lnTo>
                        <a:pt x="264" y="244"/>
                      </a:lnTo>
                      <a:lnTo>
                        <a:pt x="320" y="504"/>
                      </a:lnTo>
                      <a:lnTo>
                        <a:pt x="336" y="604"/>
                      </a:lnTo>
                      <a:lnTo>
                        <a:pt x="208" y="484"/>
                      </a:lnTo>
                      <a:lnTo>
                        <a:pt x="156" y="364"/>
                      </a:lnTo>
                      <a:lnTo>
                        <a:pt x="136" y="296"/>
                      </a:lnTo>
                      <a:lnTo>
                        <a:pt x="136" y="168"/>
                      </a:lnTo>
                      <a:lnTo>
                        <a:pt x="116" y="248"/>
                      </a:lnTo>
                      <a:lnTo>
                        <a:pt x="108" y="344"/>
                      </a:lnTo>
                      <a:lnTo>
                        <a:pt x="136" y="424"/>
                      </a:lnTo>
                      <a:lnTo>
                        <a:pt x="172" y="492"/>
                      </a:lnTo>
                      <a:lnTo>
                        <a:pt x="232" y="576"/>
                      </a:lnTo>
                      <a:lnTo>
                        <a:pt x="288" y="668"/>
                      </a:lnTo>
                      <a:lnTo>
                        <a:pt x="348" y="880"/>
                      </a:lnTo>
                      <a:lnTo>
                        <a:pt x="380" y="952"/>
                      </a:lnTo>
                      <a:lnTo>
                        <a:pt x="376" y="1324"/>
                      </a:lnTo>
                      <a:lnTo>
                        <a:pt x="376" y="1616"/>
                      </a:lnTo>
                      <a:lnTo>
                        <a:pt x="360" y="1776"/>
                      </a:lnTo>
                      <a:lnTo>
                        <a:pt x="364" y="1848"/>
                      </a:lnTo>
                      <a:lnTo>
                        <a:pt x="376" y="1972"/>
                      </a:lnTo>
                      <a:lnTo>
                        <a:pt x="352" y="1984"/>
                      </a:lnTo>
                      <a:lnTo>
                        <a:pt x="312" y="1904"/>
                      </a:lnTo>
                      <a:lnTo>
                        <a:pt x="240" y="1804"/>
                      </a:lnTo>
                      <a:lnTo>
                        <a:pt x="128" y="1688"/>
                      </a:lnTo>
                      <a:lnTo>
                        <a:pt x="48" y="1592"/>
                      </a:lnTo>
                      <a:lnTo>
                        <a:pt x="16" y="1476"/>
                      </a:lnTo>
                      <a:lnTo>
                        <a:pt x="4" y="1412"/>
                      </a:lnTo>
                      <a:lnTo>
                        <a:pt x="0" y="1524"/>
                      </a:lnTo>
                      <a:lnTo>
                        <a:pt x="48" y="1648"/>
                      </a:lnTo>
                      <a:lnTo>
                        <a:pt x="132" y="1748"/>
                      </a:lnTo>
                      <a:lnTo>
                        <a:pt x="216" y="1876"/>
                      </a:lnTo>
                      <a:lnTo>
                        <a:pt x="256" y="1984"/>
                      </a:lnTo>
                      <a:lnTo>
                        <a:pt x="244" y="2072"/>
                      </a:lnTo>
                      <a:lnTo>
                        <a:pt x="280" y="2128"/>
                      </a:lnTo>
                      <a:lnTo>
                        <a:pt x="344" y="2124"/>
                      </a:lnTo>
                      <a:lnTo>
                        <a:pt x="388" y="2072"/>
                      </a:lnTo>
                      <a:lnTo>
                        <a:pt x="408" y="2116"/>
                      </a:lnTo>
                      <a:lnTo>
                        <a:pt x="452" y="2080"/>
                      </a:lnTo>
                      <a:lnTo>
                        <a:pt x="488" y="2020"/>
                      </a:lnTo>
                      <a:lnTo>
                        <a:pt x="460" y="1928"/>
                      </a:lnTo>
                      <a:lnTo>
                        <a:pt x="488" y="1796"/>
                      </a:lnTo>
                      <a:lnTo>
                        <a:pt x="524" y="1640"/>
                      </a:lnTo>
                      <a:lnTo>
                        <a:pt x="540" y="1480"/>
                      </a:lnTo>
                      <a:lnTo>
                        <a:pt x="520" y="1384"/>
                      </a:lnTo>
                      <a:lnTo>
                        <a:pt x="472" y="1304"/>
                      </a:lnTo>
                      <a:lnTo>
                        <a:pt x="508" y="1440"/>
                      </a:lnTo>
                      <a:lnTo>
                        <a:pt x="504" y="1564"/>
                      </a:lnTo>
                      <a:lnTo>
                        <a:pt x="472" y="1688"/>
                      </a:lnTo>
                      <a:lnTo>
                        <a:pt x="444" y="1836"/>
                      </a:lnTo>
                      <a:lnTo>
                        <a:pt x="440" y="1692"/>
                      </a:lnTo>
                      <a:lnTo>
                        <a:pt x="452" y="1424"/>
                      </a:lnTo>
                      <a:lnTo>
                        <a:pt x="448" y="1076"/>
                      </a:lnTo>
                      <a:lnTo>
                        <a:pt x="448" y="964"/>
                      </a:lnTo>
                      <a:lnTo>
                        <a:pt x="488" y="880"/>
                      </a:lnTo>
                      <a:lnTo>
                        <a:pt x="500" y="852"/>
                      </a:lnTo>
                      <a:lnTo>
                        <a:pt x="488" y="776"/>
                      </a:lnTo>
                      <a:lnTo>
                        <a:pt x="504" y="680"/>
                      </a:lnTo>
                      <a:lnTo>
                        <a:pt x="540" y="596"/>
                      </a:lnTo>
                      <a:lnTo>
                        <a:pt x="588" y="512"/>
                      </a:lnTo>
                      <a:lnTo>
                        <a:pt x="620" y="436"/>
                      </a:lnTo>
                      <a:lnTo>
                        <a:pt x="640" y="364"/>
                      </a:lnTo>
                      <a:lnTo>
                        <a:pt x="616" y="272"/>
                      </a:lnTo>
                      <a:lnTo>
                        <a:pt x="604" y="220"/>
                      </a:lnTo>
                      <a:lnTo>
                        <a:pt x="616" y="328"/>
                      </a:lnTo>
                      <a:lnTo>
                        <a:pt x="600" y="428"/>
                      </a:lnTo>
                      <a:lnTo>
                        <a:pt x="540" y="520"/>
                      </a:lnTo>
                      <a:lnTo>
                        <a:pt x="484" y="632"/>
                      </a:lnTo>
                      <a:lnTo>
                        <a:pt x="468" y="580"/>
                      </a:lnTo>
                      <a:lnTo>
                        <a:pt x="448" y="536"/>
                      </a:lnTo>
                      <a:lnTo>
                        <a:pt x="464" y="608"/>
                      </a:lnTo>
                      <a:lnTo>
                        <a:pt x="440" y="704"/>
                      </a:lnTo>
                      <a:lnTo>
                        <a:pt x="404" y="488"/>
                      </a:lnTo>
                      <a:lnTo>
                        <a:pt x="372" y="304"/>
                      </a:lnTo>
                      <a:lnTo>
                        <a:pt x="356" y="152"/>
                      </a:lnTo>
                      <a:lnTo>
                        <a:pt x="368" y="0"/>
                      </a:lnTo>
                      <a:lnTo>
                        <a:pt x="292" y="160"/>
                      </a:lnTo>
                      <a:lnTo>
                        <a:pt x="192" y="44"/>
                      </a:lnTo>
                      <a:close/>
                    </a:path>
                  </a:pathLst>
                </a:custGeom>
                <a:solidFill>
                  <a:srgbClr val="96969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8404200" y="4565520"/>
                <a:ext cx="311040" cy="1060560"/>
              </a:xfrm>
              <a:custGeom>
                <a:avLst/>
                <a:gdLst/>
                <a:ahLst/>
                <a:rect l="l" t="t" r="r" b="b"/>
                <a:pathLst>
                  <a:path w="600" h="2036">
                    <a:moveTo>
                      <a:pt x="520" y="2012"/>
                    </a:moveTo>
                    <a:lnTo>
                      <a:pt x="448" y="1764"/>
                    </a:lnTo>
                    <a:lnTo>
                      <a:pt x="384" y="1484"/>
                    </a:lnTo>
                    <a:lnTo>
                      <a:pt x="320" y="1304"/>
                    </a:lnTo>
                    <a:lnTo>
                      <a:pt x="264" y="1204"/>
                    </a:lnTo>
                    <a:lnTo>
                      <a:pt x="172" y="1156"/>
                    </a:lnTo>
                    <a:lnTo>
                      <a:pt x="128" y="1104"/>
                    </a:lnTo>
                    <a:lnTo>
                      <a:pt x="92" y="1036"/>
                    </a:lnTo>
                    <a:lnTo>
                      <a:pt x="68" y="980"/>
                    </a:lnTo>
                    <a:lnTo>
                      <a:pt x="64" y="924"/>
                    </a:lnTo>
                    <a:lnTo>
                      <a:pt x="52" y="836"/>
                    </a:lnTo>
                    <a:lnTo>
                      <a:pt x="36" y="708"/>
                    </a:lnTo>
                    <a:lnTo>
                      <a:pt x="16" y="592"/>
                    </a:lnTo>
                    <a:lnTo>
                      <a:pt x="0" y="520"/>
                    </a:lnTo>
                    <a:lnTo>
                      <a:pt x="4" y="356"/>
                    </a:lnTo>
                    <a:lnTo>
                      <a:pt x="8" y="260"/>
                    </a:lnTo>
                    <a:lnTo>
                      <a:pt x="36" y="168"/>
                    </a:lnTo>
                    <a:lnTo>
                      <a:pt x="72" y="92"/>
                    </a:lnTo>
                    <a:lnTo>
                      <a:pt x="108" y="48"/>
                    </a:lnTo>
                    <a:lnTo>
                      <a:pt x="176" y="12"/>
                    </a:lnTo>
                    <a:lnTo>
                      <a:pt x="256" y="0"/>
                    </a:lnTo>
                    <a:lnTo>
                      <a:pt x="308" y="8"/>
                    </a:lnTo>
                    <a:lnTo>
                      <a:pt x="368" y="40"/>
                    </a:lnTo>
                    <a:lnTo>
                      <a:pt x="420" y="108"/>
                    </a:lnTo>
                    <a:lnTo>
                      <a:pt x="476" y="212"/>
                    </a:lnTo>
                    <a:lnTo>
                      <a:pt x="488" y="292"/>
                    </a:lnTo>
                    <a:lnTo>
                      <a:pt x="520" y="436"/>
                    </a:lnTo>
                    <a:lnTo>
                      <a:pt x="544" y="576"/>
                    </a:lnTo>
                    <a:lnTo>
                      <a:pt x="556" y="736"/>
                    </a:lnTo>
                    <a:lnTo>
                      <a:pt x="576" y="788"/>
                    </a:lnTo>
                    <a:lnTo>
                      <a:pt x="596" y="836"/>
                    </a:lnTo>
                    <a:lnTo>
                      <a:pt x="596" y="948"/>
                    </a:lnTo>
                    <a:lnTo>
                      <a:pt x="552" y="1072"/>
                    </a:lnTo>
                    <a:lnTo>
                      <a:pt x="488" y="1160"/>
                    </a:lnTo>
                    <a:lnTo>
                      <a:pt x="464" y="1276"/>
                    </a:lnTo>
                    <a:lnTo>
                      <a:pt x="484" y="1408"/>
                    </a:lnTo>
                    <a:lnTo>
                      <a:pt x="512" y="1600"/>
                    </a:lnTo>
                    <a:lnTo>
                      <a:pt x="556" y="1796"/>
                    </a:lnTo>
                    <a:lnTo>
                      <a:pt x="600" y="2036"/>
                    </a:lnTo>
                    <a:lnTo>
                      <a:pt x="520" y="2012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115480" y="5411880"/>
                <a:ext cx="1014120" cy="1128600"/>
              </a:xfrm>
              <a:custGeom>
                <a:avLst/>
                <a:gdLst/>
                <a:ahLst/>
                <a:rect l="l" t="t" r="r" b="b"/>
                <a:pathLst>
                  <a:path w="639" h="711">
                    <a:moveTo>
                      <a:pt x="393" y="52"/>
                    </a:moveTo>
                    <a:lnTo>
                      <a:pt x="406" y="5"/>
                    </a:lnTo>
                    <a:lnTo>
                      <a:pt x="418" y="26"/>
                    </a:lnTo>
                    <a:lnTo>
                      <a:pt x="429" y="62"/>
                    </a:lnTo>
                    <a:lnTo>
                      <a:pt x="433" y="92"/>
                    </a:lnTo>
                    <a:lnTo>
                      <a:pt x="459" y="96"/>
                    </a:lnTo>
                    <a:lnTo>
                      <a:pt x="454" y="119"/>
                    </a:lnTo>
                    <a:lnTo>
                      <a:pt x="448" y="140"/>
                    </a:lnTo>
                    <a:lnTo>
                      <a:pt x="461" y="122"/>
                    </a:lnTo>
                    <a:lnTo>
                      <a:pt x="479" y="118"/>
                    </a:lnTo>
                    <a:lnTo>
                      <a:pt x="475" y="135"/>
                    </a:lnTo>
                    <a:lnTo>
                      <a:pt x="489" y="126"/>
                    </a:lnTo>
                    <a:lnTo>
                      <a:pt x="488" y="140"/>
                    </a:lnTo>
                    <a:lnTo>
                      <a:pt x="498" y="130"/>
                    </a:lnTo>
                    <a:lnTo>
                      <a:pt x="504" y="139"/>
                    </a:lnTo>
                    <a:lnTo>
                      <a:pt x="518" y="143"/>
                    </a:lnTo>
                    <a:lnTo>
                      <a:pt x="509" y="159"/>
                    </a:lnTo>
                    <a:lnTo>
                      <a:pt x="523" y="161"/>
                    </a:lnTo>
                    <a:lnTo>
                      <a:pt x="523" y="176"/>
                    </a:lnTo>
                    <a:lnTo>
                      <a:pt x="537" y="175"/>
                    </a:lnTo>
                    <a:lnTo>
                      <a:pt x="536" y="185"/>
                    </a:lnTo>
                    <a:lnTo>
                      <a:pt x="558" y="184"/>
                    </a:lnTo>
                    <a:lnTo>
                      <a:pt x="571" y="192"/>
                    </a:lnTo>
                    <a:lnTo>
                      <a:pt x="562" y="211"/>
                    </a:lnTo>
                    <a:lnTo>
                      <a:pt x="582" y="203"/>
                    </a:lnTo>
                    <a:lnTo>
                      <a:pt x="573" y="222"/>
                    </a:lnTo>
                    <a:lnTo>
                      <a:pt x="583" y="227"/>
                    </a:lnTo>
                    <a:lnTo>
                      <a:pt x="583" y="247"/>
                    </a:lnTo>
                    <a:lnTo>
                      <a:pt x="597" y="247"/>
                    </a:lnTo>
                    <a:lnTo>
                      <a:pt x="587" y="269"/>
                    </a:lnTo>
                    <a:lnTo>
                      <a:pt x="591" y="287"/>
                    </a:lnTo>
                    <a:lnTo>
                      <a:pt x="580" y="306"/>
                    </a:lnTo>
                    <a:lnTo>
                      <a:pt x="592" y="307"/>
                    </a:lnTo>
                    <a:lnTo>
                      <a:pt x="580" y="320"/>
                    </a:lnTo>
                    <a:lnTo>
                      <a:pt x="597" y="333"/>
                    </a:lnTo>
                    <a:lnTo>
                      <a:pt x="587" y="345"/>
                    </a:lnTo>
                    <a:lnTo>
                      <a:pt x="600" y="349"/>
                    </a:lnTo>
                    <a:lnTo>
                      <a:pt x="591" y="353"/>
                    </a:lnTo>
                    <a:lnTo>
                      <a:pt x="606" y="362"/>
                    </a:lnTo>
                    <a:lnTo>
                      <a:pt x="599" y="369"/>
                    </a:lnTo>
                    <a:lnTo>
                      <a:pt x="604" y="377"/>
                    </a:lnTo>
                    <a:lnTo>
                      <a:pt x="618" y="380"/>
                    </a:lnTo>
                    <a:lnTo>
                      <a:pt x="623" y="401"/>
                    </a:lnTo>
                    <a:lnTo>
                      <a:pt x="606" y="404"/>
                    </a:lnTo>
                    <a:lnTo>
                      <a:pt x="626" y="422"/>
                    </a:lnTo>
                    <a:lnTo>
                      <a:pt x="617" y="430"/>
                    </a:lnTo>
                    <a:lnTo>
                      <a:pt x="632" y="443"/>
                    </a:lnTo>
                    <a:lnTo>
                      <a:pt x="626" y="457"/>
                    </a:lnTo>
                    <a:lnTo>
                      <a:pt x="639" y="467"/>
                    </a:lnTo>
                    <a:lnTo>
                      <a:pt x="627" y="491"/>
                    </a:lnTo>
                    <a:lnTo>
                      <a:pt x="631" y="504"/>
                    </a:lnTo>
                    <a:lnTo>
                      <a:pt x="614" y="510"/>
                    </a:lnTo>
                    <a:lnTo>
                      <a:pt x="610" y="527"/>
                    </a:lnTo>
                    <a:lnTo>
                      <a:pt x="593" y="534"/>
                    </a:lnTo>
                    <a:lnTo>
                      <a:pt x="583" y="563"/>
                    </a:lnTo>
                    <a:lnTo>
                      <a:pt x="565" y="560"/>
                    </a:lnTo>
                    <a:lnTo>
                      <a:pt x="560" y="576"/>
                    </a:lnTo>
                    <a:lnTo>
                      <a:pt x="543" y="573"/>
                    </a:lnTo>
                    <a:lnTo>
                      <a:pt x="540" y="581"/>
                    </a:lnTo>
                    <a:lnTo>
                      <a:pt x="526" y="588"/>
                    </a:lnTo>
                    <a:lnTo>
                      <a:pt x="511" y="605"/>
                    </a:lnTo>
                    <a:lnTo>
                      <a:pt x="510" y="617"/>
                    </a:lnTo>
                    <a:lnTo>
                      <a:pt x="497" y="626"/>
                    </a:lnTo>
                    <a:lnTo>
                      <a:pt x="496" y="642"/>
                    </a:lnTo>
                    <a:lnTo>
                      <a:pt x="478" y="638"/>
                    </a:lnTo>
                    <a:lnTo>
                      <a:pt x="485" y="651"/>
                    </a:lnTo>
                    <a:lnTo>
                      <a:pt x="474" y="649"/>
                    </a:lnTo>
                    <a:lnTo>
                      <a:pt x="465" y="670"/>
                    </a:lnTo>
                    <a:lnTo>
                      <a:pt x="446" y="655"/>
                    </a:lnTo>
                    <a:lnTo>
                      <a:pt x="452" y="670"/>
                    </a:lnTo>
                    <a:lnTo>
                      <a:pt x="441" y="685"/>
                    </a:lnTo>
                    <a:lnTo>
                      <a:pt x="427" y="678"/>
                    </a:lnTo>
                    <a:lnTo>
                      <a:pt x="412" y="698"/>
                    </a:lnTo>
                    <a:lnTo>
                      <a:pt x="396" y="689"/>
                    </a:lnTo>
                    <a:lnTo>
                      <a:pt x="399" y="701"/>
                    </a:lnTo>
                    <a:lnTo>
                      <a:pt x="393" y="711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1" y="163"/>
                    </a:lnTo>
                    <a:lnTo>
                      <a:pt x="7" y="148"/>
                    </a:lnTo>
                    <a:lnTo>
                      <a:pt x="27" y="150"/>
                    </a:lnTo>
                    <a:lnTo>
                      <a:pt x="21" y="136"/>
                    </a:lnTo>
                    <a:lnTo>
                      <a:pt x="41" y="144"/>
                    </a:lnTo>
                    <a:lnTo>
                      <a:pt x="30" y="125"/>
                    </a:lnTo>
                    <a:lnTo>
                      <a:pt x="39" y="113"/>
                    </a:lnTo>
                    <a:lnTo>
                      <a:pt x="50" y="125"/>
                    </a:lnTo>
                    <a:lnTo>
                      <a:pt x="62" y="110"/>
                    </a:lnTo>
                    <a:lnTo>
                      <a:pt x="95" y="106"/>
                    </a:lnTo>
                    <a:lnTo>
                      <a:pt x="93" y="97"/>
                    </a:lnTo>
                    <a:lnTo>
                      <a:pt x="106" y="105"/>
                    </a:lnTo>
                    <a:lnTo>
                      <a:pt x="113" y="97"/>
                    </a:lnTo>
                    <a:lnTo>
                      <a:pt x="134" y="102"/>
                    </a:lnTo>
                    <a:lnTo>
                      <a:pt x="169" y="102"/>
                    </a:lnTo>
                    <a:lnTo>
                      <a:pt x="173" y="94"/>
                    </a:lnTo>
                    <a:lnTo>
                      <a:pt x="192" y="108"/>
                    </a:lnTo>
                    <a:lnTo>
                      <a:pt x="208" y="100"/>
                    </a:lnTo>
                    <a:lnTo>
                      <a:pt x="218" y="113"/>
                    </a:lnTo>
                    <a:lnTo>
                      <a:pt x="225" y="108"/>
                    </a:lnTo>
                    <a:lnTo>
                      <a:pt x="228" y="118"/>
                    </a:lnTo>
                    <a:lnTo>
                      <a:pt x="260" y="129"/>
                    </a:lnTo>
                    <a:lnTo>
                      <a:pt x="278" y="142"/>
                    </a:lnTo>
                    <a:lnTo>
                      <a:pt x="287" y="140"/>
                    </a:lnTo>
                    <a:lnTo>
                      <a:pt x="285" y="151"/>
                    </a:lnTo>
                    <a:lnTo>
                      <a:pt x="299" y="144"/>
                    </a:lnTo>
                    <a:lnTo>
                      <a:pt x="304" y="152"/>
                    </a:lnTo>
                    <a:lnTo>
                      <a:pt x="321" y="148"/>
                    </a:lnTo>
                    <a:lnTo>
                      <a:pt x="320" y="159"/>
                    </a:lnTo>
                    <a:lnTo>
                      <a:pt x="334" y="160"/>
                    </a:lnTo>
                    <a:lnTo>
                      <a:pt x="332" y="168"/>
                    </a:lnTo>
                    <a:lnTo>
                      <a:pt x="341" y="169"/>
                    </a:lnTo>
                    <a:lnTo>
                      <a:pt x="334" y="176"/>
                    </a:lnTo>
                    <a:lnTo>
                      <a:pt x="343" y="180"/>
                    </a:lnTo>
                    <a:lnTo>
                      <a:pt x="351" y="172"/>
                    </a:lnTo>
                    <a:lnTo>
                      <a:pt x="382" y="161"/>
                    </a:lnTo>
                    <a:lnTo>
                      <a:pt x="377" y="147"/>
                    </a:lnTo>
                    <a:lnTo>
                      <a:pt x="354" y="140"/>
                    </a:lnTo>
                    <a:lnTo>
                      <a:pt x="368" y="129"/>
                    </a:lnTo>
                    <a:lnTo>
                      <a:pt x="354" y="108"/>
                    </a:lnTo>
                    <a:lnTo>
                      <a:pt x="351" y="98"/>
                    </a:lnTo>
                    <a:lnTo>
                      <a:pt x="355" y="71"/>
                    </a:lnTo>
                    <a:lnTo>
                      <a:pt x="366" y="77"/>
                    </a:lnTo>
                    <a:lnTo>
                      <a:pt x="359" y="59"/>
                    </a:lnTo>
                    <a:lnTo>
                      <a:pt x="364" y="35"/>
                    </a:lnTo>
                    <a:lnTo>
                      <a:pt x="373" y="0"/>
                    </a:lnTo>
                    <a:lnTo>
                      <a:pt x="393" y="52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807680" y="2860920"/>
              <a:ext cx="1161360" cy="3818880"/>
              <a:chOff x="7807680" y="2860920"/>
              <a:chExt cx="1161360" cy="381888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8216640" y="4673520"/>
                <a:ext cx="453600" cy="1663200"/>
                <a:chOff x="8216640" y="4673520"/>
                <a:chExt cx="453600" cy="1663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8481600" y="5861160"/>
                  <a:ext cx="188640" cy="475560"/>
                </a:xfrm>
                <a:custGeom>
                  <a:avLst/>
                  <a:gdLst/>
                  <a:ahLst/>
                  <a:rect l="l" t="t" r="r" b="b"/>
                  <a:pathLst>
                    <a:path w="289" h="664">
                      <a:moveTo>
                        <a:pt x="146" y="25"/>
                      </a:moveTo>
                      <a:cubicBezTo>
                        <a:pt x="160" y="50"/>
                        <a:pt x="159" y="107"/>
                        <a:pt x="170" y="161"/>
                      </a:cubicBezTo>
                      <a:cubicBezTo>
                        <a:pt x="181" y="215"/>
                        <a:pt x="196" y="288"/>
                        <a:pt x="210" y="349"/>
                      </a:cubicBezTo>
                      <a:cubicBezTo>
                        <a:pt x="224" y="410"/>
                        <a:pt x="243" y="481"/>
                        <a:pt x="254" y="529"/>
                      </a:cubicBezTo>
                      <a:cubicBezTo>
                        <a:pt x="265" y="577"/>
                        <a:pt x="289" y="620"/>
                        <a:pt x="278" y="637"/>
                      </a:cubicBezTo>
                      <a:cubicBezTo>
                        <a:pt x="267" y="654"/>
                        <a:pt x="211" y="664"/>
                        <a:pt x="186" y="633"/>
                      </a:cubicBezTo>
                      <a:cubicBezTo>
                        <a:pt x="161" y="602"/>
                        <a:pt x="141" y="504"/>
                        <a:pt x="126" y="449"/>
                      </a:cubicBezTo>
                      <a:cubicBezTo>
                        <a:pt x="111" y="394"/>
                        <a:pt x="111" y="356"/>
                        <a:pt x="98" y="305"/>
                      </a:cubicBezTo>
                      <a:cubicBezTo>
                        <a:pt x="85" y="254"/>
                        <a:pt x="65" y="186"/>
                        <a:pt x="50" y="145"/>
                      </a:cubicBezTo>
                      <a:cubicBezTo>
                        <a:pt x="35" y="104"/>
                        <a:pt x="0" y="80"/>
                        <a:pt x="6" y="57"/>
                      </a:cubicBezTo>
                      <a:cubicBezTo>
                        <a:pt x="12" y="34"/>
                        <a:pt x="63" y="13"/>
                        <a:pt x="86" y="9"/>
                      </a:cubicBezTo>
                      <a:cubicBezTo>
                        <a:pt x="109" y="5"/>
                        <a:pt x="132" y="0"/>
                        <a:pt x="146" y="25"/>
                      </a:cubicBezTo>
                      <a:close/>
                    </a:path>
                  </a:pathLst>
                </a:custGeom>
                <a:solidFill>
                  <a:srgbClr val="596b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216640" y="4673520"/>
                  <a:ext cx="317520" cy="518400"/>
                </a:xfrm>
                <a:custGeom>
                  <a:avLst/>
                  <a:gdLst/>
                  <a:ahLst/>
                  <a:rect l="l" t="t" r="r" b="b"/>
                  <a:pathLst>
                    <a:path w="486" h="724">
                      <a:moveTo>
                        <a:pt x="76" y="691"/>
                      </a:moveTo>
                      <a:cubicBezTo>
                        <a:pt x="45" y="658"/>
                        <a:pt x="44" y="563"/>
                        <a:pt x="32" y="515"/>
                      </a:cubicBezTo>
                      <a:cubicBezTo>
                        <a:pt x="20" y="467"/>
                        <a:pt x="8" y="444"/>
                        <a:pt x="4" y="399"/>
                      </a:cubicBezTo>
                      <a:cubicBezTo>
                        <a:pt x="0" y="354"/>
                        <a:pt x="5" y="286"/>
                        <a:pt x="8" y="243"/>
                      </a:cubicBezTo>
                      <a:cubicBezTo>
                        <a:pt x="11" y="200"/>
                        <a:pt x="9" y="172"/>
                        <a:pt x="20" y="139"/>
                      </a:cubicBezTo>
                      <a:cubicBezTo>
                        <a:pt x="31" y="106"/>
                        <a:pt x="55" y="67"/>
                        <a:pt x="72" y="47"/>
                      </a:cubicBezTo>
                      <a:cubicBezTo>
                        <a:pt x="89" y="27"/>
                        <a:pt x="101" y="26"/>
                        <a:pt x="124" y="19"/>
                      </a:cubicBezTo>
                      <a:cubicBezTo>
                        <a:pt x="147" y="12"/>
                        <a:pt x="188" y="8"/>
                        <a:pt x="212" y="7"/>
                      </a:cubicBezTo>
                      <a:cubicBezTo>
                        <a:pt x="236" y="6"/>
                        <a:pt x="248" y="0"/>
                        <a:pt x="268" y="11"/>
                      </a:cubicBezTo>
                      <a:cubicBezTo>
                        <a:pt x="288" y="22"/>
                        <a:pt x="310" y="42"/>
                        <a:pt x="332" y="71"/>
                      </a:cubicBezTo>
                      <a:cubicBezTo>
                        <a:pt x="354" y="100"/>
                        <a:pt x="387" y="153"/>
                        <a:pt x="400" y="183"/>
                      </a:cubicBezTo>
                      <a:cubicBezTo>
                        <a:pt x="413" y="213"/>
                        <a:pt x="405" y="215"/>
                        <a:pt x="412" y="251"/>
                      </a:cubicBezTo>
                      <a:cubicBezTo>
                        <a:pt x="419" y="287"/>
                        <a:pt x="437" y="350"/>
                        <a:pt x="444" y="399"/>
                      </a:cubicBezTo>
                      <a:cubicBezTo>
                        <a:pt x="451" y="448"/>
                        <a:pt x="453" y="510"/>
                        <a:pt x="456" y="547"/>
                      </a:cubicBezTo>
                      <a:cubicBezTo>
                        <a:pt x="459" y="584"/>
                        <a:pt x="486" y="594"/>
                        <a:pt x="464" y="619"/>
                      </a:cubicBezTo>
                      <a:cubicBezTo>
                        <a:pt x="442" y="644"/>
                        <a:pt x="365" y="679"/>
                        <a:pt x="324" y="695"/>
                      </a:cubicBezTo>
                      <a:cubicBezTo>
                        <a:pt x="283" y="711"/>
                        <a:pt x="259" y="714"/>
                        <a:pt x="220" y="715"/>
                      </a:cubicBezTo>
                      <a:cubicBezTo>
                        <a:pt x="181" y="716"/>
                        <a:pt x="107" y="724"/>
                        <a:pt x="76" y="69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249760" y="5084640"/>
                  <a:ext cx="293040" cy="249120"/>
                </a:xfrm>
                <a:custGeom>
                  <a:avLst/>
                  <a:gdLst/>
                  <a:ahLst/>
                  <a:rect l="l" t="t" r="r" b="b"/>
                  <a:pathLst>
                    <a:path w="449" h="348">
                      <a:moveTo>
                        <a:pt x="233" y="345"/>
                      </a:moveTo>
                      <a:cubicBezTo>
                        <a:pt x="206" y="342"/>
                        <a:pt x="174" y="320"/>
                        <a:pt x="145" y="305"/>
                      </a:cubicBezTo>
                      <a:cubicBezTo>
                        <a:pt x="116" y="290"/>
                        <a:pt x="82" y="274"/>
                        <a:pt x="61" y="253"/>
                      </a:cubicBezTo>
                      <a:cubicBezTo>
                        <a:pt x="40" y="232"/>
                        <a:pt x="27" y="202"/>
                        <a:pt x="17" y="181"/>
                      </a:cubicBezTo>
                      <a:cubicBezTo>
                        <a:pt x="7" y="160"/>
                        <a:pt x="2" y="144"/>
                        <a:pt x="1" y="125"/>
                      </a:cubicBezTo>
                      <a:cubicBezTo>
                        <a:pt x="0" y="106"/>
                        <a:pt x="4" y="74"/>
                        <a:pt x="9" y="69"/>
                      </a:cubicBezTo>
                      <a:cubicBezTo>
                        <a:pt x="14" y="64"/>
                        <a:pt x="15" y="92"/>
                        <a:pt x="29" y="97"/>
                      </a:cubicBezTo>
                      <a:cubicBezTo>
                        <a:pt x="43" y="102"/>
                        <a:pt x="73" y="100"/>
                        <a:pt x="93" y="101"/>
                      </a:cubicBezTo>
                      <a:cubicBezTo>
                        <a:pt x="113" y="102"/>
                        <a:pt x="126" y="98"/>
                        <a:pt x="149" y="101"/>
                      </a:cubicBezTo>
                      <a:cubicBezTo>
                        <a:pt x="172" y="104"/>
                        <a:pt x="209" y="124"/>
                        <a:pt x="229" y="121"/>
                      </a:cubicBezTo>
                      <a:cubicBezTo>
                        <a:pt x="249" y="118"/>
                        <a:pt x="251" y="96"/>
                        <a:pt x="269" y="85"/>
                      </a:cubicBezTo>
                      <a:cubicBezTo>
                        <a:pt x="287" y="74"/>
                        <a:pt x="316" y="66"/>
                        <a:pt x="337" y="57"/>
                      </a:cubicBezTo>
                      <a:cubicBezTo>
                        <a:pt x="358" y="48"/>
                        <a:pt x="384" y="42"/>
                        <a:pt x="397" y="33"/>
                      </a:cubicBezTo>
                      <a:cubicBezTo>
                        <a:pt x="410" y="24"/>
                        <a:pt x="410" y="0"/>
                        <a:pt x="417" y="1"/>
                      </a:cubicBezTo>
                      <a:cubicBezTo>
                        <a:pt x="424" y="2"/>
                        <a:pt x="436" y="22"/>
                        <a:pt x="441" y="41"/>
                      </a:cubicBezTo>
                      <a:cubicBezTo>
                        <a:pt x="446" y="60"/>
                        <a:pt x="449" y="90"/>
                        <a:pt x="445" y="117"/>
                      </a:cubicBezTo>
                      <a:cubicBezTo>
                        <a:pt x="441" y="144"/>
                        <a:pt x="430" y="180"/>
                        <a:pt x="417" y="205"/>
                      </a:cubicBezTo>
                      <a:cubicBezTo>
                        <a:pt x="404" y="230"/>
                        <a:pt x="388" y="249"/>
                        <a:pt x="369" y="269"/>
                      </a:cubicBezTo>
                      <a:cubicBezTo>
                        <a:pt x="350" y="289"/>
                        <a:pt x="328" y="314"/>
                        <a:pt x="305" y="325"/>
                      </a:cubicBezTo>
                      <a:cubicBezTo>
                        <a:pt x="282" y="336"/>
                        <a:pt x="260" y="348"/>
                        <a:pt x="233" y="3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66040" y="5277960"/>
                  <a:ext cx="172440" cy="448200"/>
                </a:xfrm>
                <a:custGeom>
                  <a:avLst/>
                  <a:gdLst/>
                  <a:ahLst/>
                  <a:rect l="l" t="t" r="r" b="b"/>
                  <a:pathLst>
                    <a:path w="264" h="626">
                      <a:moveTo>
                        <a:pt x="179" y="611"/>
                      </a:moveTo>
                      <a:cubicBezTo>
                        <a:pt x="168" y="598"/>
                        <a:pt x="150" y="567"/>
                        <a:pt x="143" y="547"/>
                      </a:cubicBezTo>
                      <a:cubicBezTo>
                        <a:pt x="136" y="527"/>
                        <a:pt x="146" y="533"/>
                        <a:pt x="139" y="491"/>
                      </a:cubicBezTo>
                      <a:cubicBezTo>
                        <a:pt x="132" y="449"/>
                        <a:pt x="115" y="353"/>
                        <a:pt x="99" y="295"/>
                      </a:cubicBezTo>
                      <a:cubicBezTo>
                        <a:pt x="83" y="237"/>
                        <a:pt x="59" y="178"/>
                        <a:pt x="43" y="139"/>
                      </a:cubicBezTo>
                      <a:cubicBezTo>
                        <a:pt x="27" y="100"/>
                        <a:pt x="6" y="79"/>
                        <a:pt x="3" y="59"/>
                      </a:cubicBezTo>
                      <a:cubicBezTo>
                        <a:pt x="0" y="39"/>
                        <a:pt x="3" y="28"/>
                        <a:pt x="27" y="19"/>
                      </a:cubicBezTo>
                      <a:cubicBezTo>
                        <a:pt x="51" y="10"/>
                        <a:pt x="125" y="0"/>
                        <a:pt x="147" y="7"/>
                      </a:cubicBezTo>
                      <a:cubicBezTo>
                        <a:pt x="169" y="14"/>
                        <a:pt x="155" y="36"/>
                        <a:pt x="159" y="63"/>
                      </a:cubicBezTo>
                      <a:cubicBezTo>
                        <a:pt x="163" y="90"/>
                        <a:pt x="164" y="120"/>
                        <a:pt x="171" y="171"/>
                      </a:cubicBezTo>
                      <a:cubicBezTo>
                        <a:pt x="178" y="222"/>
                        <a:pt x="192" y="314"/>
                        <a:pt x="203" y="371"/>
                      </a:cubicBezTo>
                      <a:cubicBezTo>
                        <a:pt x="214" y="428"/>
                        <a:pt x="230" y="474"/>
                        <a:pt x="239" y="511"/>
                      </a:cubicBezTo>
                      <a:cubicBezTo>
                        <a:pt x="248" y="548"/>
                        <a:pt x="264" y="572"/>
                        <a:pt x="259" y="591"/>
                      </a:cubicBezTo>
                      <a:cubicBezTo>
                        <a:pt x="254" y="610"/>
                        <a:pt x="222" y="620"/>
                        <a:pt x="207" y="623"/>
                      </a:cubicBezTo>
                      <a:cubicBezTo>
                        <a:pt x="192" y="626"/>
                        <a:pt x="190" y="624"/>
                        <a:pt x="179" y="6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100000">
                      <a:srgbClr val="82a6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59560" y="5167800"/>
                  <a:ext cx="123840" cy="186840"/>
                </a:xfrm>
                <a:custGeom>
                  <a:avLst/>
                  <a:gdLst/>
                  <a:ahLst/>
                  <a:rect l="l" t="t" r="r" b="b"/>
                  <a:pathLst>
                    <a:path w="190" h="261">
                      <a:moveTo>
                        <a:pt x="29" y="245"/>
                      </a:moveTo>
                      <a:cubicBezTo>
                        <a:pt x="14" y="231"/>
                        <a:pt x="0" y="201"/>
                        <a:pt x="1" y="177"/>
                      </a:cubicBezTo>
                      <a:cubicBezTo>
                        <a:pt x="2" y="153"/>
                        <a:pt x="21" y="126"/>
                        <a:pt x="33" y="101"/>
                      </a:cubicBezTo>
                      <a:cubicBezTo>
                        <a:pt x="45" y="76"/>
                        <a:pt x="60" y="41"/>
                        <a:pt x="73" y="25"/>
                      </a:cubicBezTo>
                      <a:cubicBezTo>
                        <a:pt x="86" y="9"/>
                        <a:pt x="94" y="0"/>
                        <a:pt x="109" y="5"/>
                      </a:cubicBezTo>
                      <a:cubicBezTo>
                        <a:pt x="124" y="10"/>
                        <a:pt x="148" y="34"/>
                        <a:pt x="161" y="57"/>
                      </a:cubicBezTo>
                      <a:cubicBezTo>
                        <a:pt x="174" y="80"/>
                        <a:pt x="188" y="111"/>
                        <a:pt x="189" y="141"/>
                      </a:cubicBezTo>
                      <a:cubicBezTo>
                        <a:pt x="190" y="171"/>
                        <a:pt x="186" y="217"/>
                        <a:pt x="169" y="237"/>
                      </a:cubicBezTo>
                      <a:cubicBezTo>
                        <a:pt x="152" y="257"/>
                        <a:pt x="112" y="261"/>
                        <a:pt x="89" y="261"/>
                      </a:cubicBezTo>
                      <a:cubicBezTo>
                        <a:pt x="66" y="261"/>
                        <a:pt x="44" y="259"/>
                        <a:pt x="29" y="2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2a66d"/>
                    </a:gs>
                    <a:gs pos="100000">
                      <a:srgbClr val="596b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273520" y="4674960"/>
                  <a:ext cx="156600" cy="182520"/>
                </a:xfrm>
                <a:custGeom>
                  <a:avLst/>
                  <a:gdLst/>
                  <a:ahLst/>
                  <a:rect l="l" t="t" r="r" b="b"/>
                  <a:pathLst>
                    <a:path w="240" h="255">
                      <a:moveTo>
                        <a:pt x="189" y="241"/>
                      </a:moveTo>
                      <a:cubicBezTo>
                        <a:pt x="186" y="234"/>
                        <a:pt x="214" y="230"/>
                        <a:pt x="213" y="213"/>
                      </a:cubicBezTo>
                      <a:cubicBezTo>
                        <a:pt x="212" y="196"/>
                        <a:pt x="194" y="165"/>
                        <a:pt x="181" y="141"/>
                      </a:cubicBezTo>
                      <a:cubicBezTo>
                        <a:pt x="168" y="117"/>
                        <a:pt x="153" y="89"/>
                        <a:pt x="137" y="69"/>
                      </a:cubicBezTo>
                      <a:cubicBezTo>
                        <a:pt x="121" y="49"/>
                        <a:pt x="103" y="26"/>
                        <a:pt x="85" y="21"/>
                      </a:cubicBezTo>
                      <a:cubicBezTo>
                        <a:pt x="67" y="16"/>
                        <a:pt x="43" y="34"/>
                        <a:pt x="29" y="37"/>
                      </a:cubicBezTo>
                      <a:cubicBezTo>
                        <a:pt x="15" y="40"/>
                        <a:pt x="2" y="44"/>
                        <a:pt x="1" y="41"/>
                      </a:cubicBezTo>
                      <a:cubicBezTo>
                        <a:pt x="0" y="38"/>
                        <a:pt x="9" y="27"/>
                        <a:pt x="21" y="21"/>
                      </a:cubicBezTo>
                      <a:cubicBezTo>
                        <a:pt x="33" y="15"/>
                        <a:pt x="54" y="8"/>
                        <a:pt x="73" y="5"/>
                      </a:cubicBezTo>
                      <a:cubicBezTo>
                        <a:pt x="92" y="2"/>
                        <a:pt x="120" y="0"/>
                        <a:pt x="137" y="1"/>
                      </a:cubicBezTo>
                      <a:cubicBezTo>
                        <a:pt x="154" y="2"/>
                        <a:pt x="175" y="6"/>
                        <a:pt x="173" y="9"/>
                      </a:cubicBezTo>
                      <a:cubicBezTo>
                        <a:pt x="171" y="12"/>
                        <a:pt x="126" y="4"/>
                        <a:pt x="125" y="17"/>
                      </a:cubicBezTo>
                      <a:cubicBezTo>
                        <a:pt x="124" y="30"/>
                        <a:pt x="151" y="62"/>
                        <a:pt x="165" y="85"/>
                      </a:cubicBezTo>
                      <a:cubicBezTo>
                        <a:pt x="179" y="108"/>
                        <a:pt x="197" y="129"/>
                        <a:pt x="209" y="153"/>
                      </a:cubicBezTo>
                      <a:cubicBezTo>
                        <a:pt x="221" y="177"/>
                        <a:pt x="234" y="212"/>
                        <a:pt x="237" y="229"/>
                      </a:cubicBezTo>
                      <a:cubicBezTo>
                        <a:pt x="240" y="246"/>
                        <a:pt x="237" y="251"/>
                        <a:pt x="229" y="253"/>
                      </a:cubicBezTo>
                      <a:cubicBezTo>
                        <a:pt x="221" y="255"/>
                        <a:pt x="192" y="248"/>
                        <a:pt x="189" y="24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c4db"/>
                    </a:gs>
                    <a:gs pos="100000">
                      <a:srgbClr val="a1bd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24360" y="5684040"/>
                  <a:ext cx="186120" cy="244080"/>
                </a:xfrm>
                <a:custGeom>
                  <a:avLst/>
                  <a:gdLst/>
                  <a:ahLst/>
                  <a:rect l="l" t="t" r="r" b="b"/>
                  <a:pathLst>
                    <a:path w="285" h="341">
                      <a:moveTo>
                        <a:pt x="38" y="0"/>
                      </a:moveTo>
                      <a:cubicBezTo>
                        <a:pt x="32" y="2"/>
                        <a:pt x="27" y="4"/>
                        <a:pt x="22" y="20"/>
                      </a:cubicBezTo>
                      <a:cubicBezTo>
                        <a:pt x="17" y="36"/>
                        <a:pt x="0" y="71"/>
                        <a:pt x="6" y="96"/>
                      </a:cubicBezTo>
                      <a:cubicBezTo>
                        <a:pt x="12" y="121"/>
                        <a:pt x="44" y="142"/>
                        <a:pt x="58" y="168"/>
                      </a:cubicBezTo>
                      <a:cubicBezTo>
                        <a:pt x="72" y="194"/>
                        <a:pt x="84" y="227"/>
                        <a:pt x="90" y="252"/>
                      </a:cubicBezTo>
                      <a:cubicBezTo>
                        <a:pt x="96" y="277"/>
                        <a:pt x="84" y="305"/>
                        <a:pt x="94" y="320"/>
                      </a:cubicBezTo>
                      <a:cubicBezTo>
                        <a:pt x="104" y="335"/>
                        <a:pt x="133" y="339"/>
                        <a:pt x="150" y="340"/>
                      </a:cubicBezTo>
                      <a:cubicBezTo>
                        <a:pt x="167" y="341"/>
                        <a:pt x="177" y="332"/>
                        <a:pt x="194" y="324"/>
                      </a:cubicBezTo>
                      <a:cubicBezTo>
                        <a:pt x="211" y="316"/>
                        <a:pt x="245" y="304"/>
                        <a:pt x="254" y="292"/>
                      </a:cubicBezTo>
                      <a:cubicBezTo>
                        <a:pt x="263" y="280"/>
                        <a:pt x="253" y="267"/>
                        <a:pt x="250" y="252"/>
                      </a:cubicBezTo>
                      <a:cubicBezTo>
                        <a:pt x="247" y="237"/>
                        <a:pt x="235" y="222"/>
                        <a:pt x="238" y="204"/>
                      </a:cubicBezTo>
                      <a:cubicBezTo>
                        <a:pt x="241" y="186"/>
                        <a:pt x="259" y="159"/>
                        <a:pt x="266" y="144"/>
                      </a:cubicBezTo>
                      <a:cubicBezTo>
                        <a:pt x="273" y="129"/>
                        <a:pt x="285" y="120"/>
                        <a:pt x="278" y="112"/>
                      </a:cubicBezTo>
                      <a:cubicBezTo>
                        <a:pt x="271" y="104"/>
                        <a:pt x="251" y="102"/>
                        <a:pt x="226" y="96"/>
                      </a:cubicBezTo>
                      <a:cubicBezTo>
                        <a:pt x="201" y="90"/>
                        <a:pt x="160" y="89"/>
                        <a:pt x="126" y="76"/>
                      </a:cubicBezTo>
                      <a:cubicBezTo>
                        <a:pt x="92" y="63"/>
                        <a:pt x="37" y="33"/>
                        <a:pt x="22" y="20"/>
                      </a:cubicBezTo>
                    </a:path>
                  </a:pathLst>
                </a:custGeom>
                <a:solidFill>
                  <a:srgbClr val="7189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443080" y="5590080"/>
                  <a:ext cx="126000" cy="219240"/>
                </a:xfrm>
                <a:custGeom>
                  <a:avLst/>
                  <a:gdLst/>
                  <a:ahLst/>
                  <a:rect l="l" t="t" r="r" b="b"/>
                  <a:pathLst>
                    <a:path w="193" h="306">
                      <a:moveTo>
                        <a:pt x="109" y="143"/>
                      </a:moveTo>
                      <a:cubicBezTo>
                        <a:pt x="124" y="142"/>
                        <a:pt x="132" y="128"/>
                        <a:pt x="133" y="115"/>
                      </a:cubicBezTo>
                      <a:cubicBezTo>
                        <a:pt x="134" y="102"/>
                        <a:pt x="120" y="86"/>
                        <a:pt x="117" y="67"/>
                      </a:cubicBezTo>
                      <a:cubicBezTo>
                        <a:pt x="114" y="48"/>
                        <a:pt x="108" y="6"/>
                        <a:pt x="113" y="3"/>
                      </a:cubicBezTo>
                      <a:cubicBezTo>
                        <a:pt x="118" y="0"/>
                        <a:pt x="138" y="24"/>
                        <a:pt x="149" y="47"/>
                      </a:cubicBezTo>
                      <a:cubicBezTo>
                        <a:pt x="160" y="70"/>
                        <a:pt x="172" y="111"/>
                        <a:pt x="177" y="143"/>
                      </a:cubicBezTo>
                      <a:cubicBezTo>
                        <a:pt x="182" y="175"/>
                        <a:pt x="193" y="213"/>
                        <a:pt x="181" y="239"/>
                      </a:cubicBezTo>
                      <a:cubicBezTo>
                        <a:pt x="169" y="265"/>
                        <a:pt x="126" y="292"/>
                        <a:pt x="105" y="299"/>
                      </a:cubicBezTo>
                      <a:cubicBezTo>
                        <a:pt x="84" y="306"/>
                        <a:pt x="68" y="298"/>
                        <a:pt x="53" y="279"/>
                      </a:cubicBezTo>
                      <a:cubicBezTo>
                        <a:pt x="38" y="260"/>
                        <a:pt x="26" y="214"/>
                        <a:pt x="17" y="183"/>
                      </a:cubicBezTo>
                      <a:cubicBezTo>
                        <a:pt x="8" y="152"/>
                        <a:pt x="0" y="121"/>
                        <a:pt x="1" y="95"/>
                      </a:cubicBezTo>
                      <a:cubicBezTo>
                        <a:pt x="2" y="69"/>
                        <a:pt x="18" y="23"/>
                        <a:pt x="25" y="27"/>
                      </a:cubicBezTo>
                      <a:cubicBezTo>
                        <a:pt x="32" y="31"/>
                        <a:pt x="34" y="100"/>
                        <a:pt x="45" y="119"/>
                      </a:cubicBezTo>
                      <a:cubicBezTo>
                        <a:pt x="56" y="138"/>
                        <a:pt x="94" y="144"/>
                        <a:pt x="109" y="143"/>
                      </a:cubicBezTo>
                      <a:close/>
                    </a:path>
                  </a:pathLst>
                </a:custGeom>
                <a:solidFill>
                  <a:srgbClr val="596b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442000" y="5667840"/>
                  <a:ext cx="171720" cy="245520"/>
                </a:xfrm>
                <a:custGeom>
                  <a:avLst/>
                  <a:gdLst/>
                  <a:ahLst/>
                  <a:rect l="l" t="t" r="r" b="b"/>
                  <a:pathLst>
                    <a:path w="263" h="343">
                      <a:moveTo>
                        <a:pt x="191" y="335"/>
                      </a:moveTo>
                      <a:cubicBezTo>
                        <a:pt x="209" y="329"/>
                        <a:pt x="224" y="316"/>
                        <a:pt x="227" y="303"/>
                      </a:cubicBezTo>
                      <a:cubicBezTo>
                        <a:pt x="230" y="290"/>
                        <a:pt x="210" y="270"/>
                        <a:pt x="207" y="255"/>
                      </a:cubicBezTo>
                      <a:cubicBezTo>
                        <a:pt x="204" y="240"/>
                        <a:pt x="202" y="231"/>
                        <a:pt x="207" y="215"/>
                      </a:cubicBezTo>
                      <a:cubicBezTo>
                        <a:pt x="212" y="199"/>
                        <a:pt x="231" y="177"/>
                        <a:pt x="239" y="159"/>
                      </a:cubicBezTo>
                      <a:cubicBezTo>
                        <a:pt x="247" y="141"/>
                        <a:pt x="263" y="118"/>
                        <a:pt x="255" y="107"/>
                      </a:cubicBezTo>
                      <a:cubicBezTo>
                        <a:pt x="247" y="96"/>
                        <a:pt x="212" y="100"/>
                        <a:pt x="191" y="91"/>
                      </a:cubicBezTo>
                      <a:cubicBezTo>
                        <a:pt x="170" y="82"/>
                        <a:pt x="142" y="66"/>
                        <a:pt x="127" y="51"/>
                      </a:cubicBezTo>
                      <a:cubicBezTo>
                        <a:pt x="112" y="36"/>
                        <a:pt x="108" y="0"/>
                        <a:pt x="99" y="3"/>
                      </a:cubicBezTo>
                      <a:cubicBezTo>
                        <a:pt x="90" y="6"/>
                        <a:pt x="84" y="45"/>
                        <a:pt x="75" y="71"/>
                      </a:cubicBezTo>
                      <a:cubicBezTo>
                        <a:pt x="66" y="97"/>
                        <a:pt x="55" y="137"/>
                        <a:pt x="43" y="159"/>
                      </a:cubicBezTo>
                      <a:cubicBezTo>
                        <a:pt x="31" y="181"/>
                        <a:pt x="0" y="192"/>
                        <a:pt x="3" y="203"/>
                      </a:cubicBezTo>
                      <a:cubicBezTo>
                        <a:pt x="6" y="214"/>
                        <a:pt x="45" y="218"/>
                        <a:pt x="63" y="227"/>
                      </a:cubicBezTo>
                      <a:cubicBezTo>
                        <a:pt x="81" y="236"/>
                        <a:pt x="103" y="240"/>
                        <a:pt x="111" y="255"/>
                      </a:cubicBezTo>
                      <a:cubicBezTo>
                        <a:pt x="119" y="270"/>
                        <a:pt x="110" y="301"/>
                        <a:pt x="111" y="315"/>
                      </a:cubicBezTo>
                      <a:cubicBezTo>
                        <a:pt x="112" y="329"/>
                        <a:pt x="103" y="335"/>
                        <a:pt x="119" y="339"/>
                      </a:cubicBezTo>
                      <a:cubicBezTo>
                        <a:pt x="135" y="343"/>
                        <a:pt x="173" y="341"/>
                        <a:pt x="191" y="33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1bd7f"/>
                    </a:gs>
                    <a:gs pos="50000">
                      <a:srgbClr val="596b66"/>
                    </a:gs>
                    <a:gs pos="100000">
                      <a:srgbClr val="a1bd7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807680" y="2860920"/>
                <a:ext cx="1139760" cy="3011040"/>
                <a:chOff x="7807680" y="2860920"/>
                <a:chExt cx="1139760" cy="3011040"/>
              </a:xfrm>
            </p:grpSpPr>
            <p:sp>
              <p:nvSpPr>
                <p:cNvPr id="413" name=""/>
                <p:cNvSpPr/>
                <p:nvPr/>
              </p:nvSpPr>
              <p:spPr>
                <a:xfrm rot="21135600">
                  <a:off x="8308800" y="2949120"/>
                  <a:ext cx="215280" cy="153360"/>
                </a:xfrm>
                <a:custGeom>
                  <a:avLst/>
                  <a:gdLst/>
                  <a:ahLst/>
                  <a:rect l="l" t="t" r="r" b="b"/>
                  <a:pathLst>
                    <a:path w="293" h="181">
                      <a:moveTo>
                        <a:pt x="14" y="168"/>
                      </a:moveTo>
                      <a:cubicBezTo>
                        <a:pt x="0" y="155"/>
                        <a:pt x="16" y="40"/>
                        <a:pt x="22" y="20"/>
                      </a:cubicBezTo>
                      <a:cubicBezTo>
                        <a:pt x="28" y="0"/>
                        <a:pt x="39" y="50"/>
                        <a:pt x="50" y="48"/>
                      </a:cubicBezTo>
                      <a:cubicBezTo>
                        <a:pt x="61" y="46"/>
                        <a:pt x="77" y="10"/>
                        <a:pt x="86" y="8"/>
                      </a:cubicBezTo>
                      <a:cubicBezTo>
                        <a:pt x="95" y="6"/>
                        <a:pt x="96" y="35"/>
                        <a:pt x="106" y="36"/>
                      </a:cubicBezTo>
                      <a:cubicBezTo>
                        <a:pt x="116" y="37"/>
                        <a:pt x="135" y="13"/>
                        <a:pt x="146" y="12"/>
                      </a:cubicBezTo>
                      <a:cubicBezTo>
                        <a:pt x="157" y="11"/>
                        <a:pt x="163" y="28"/>
                        <a:pt x="174" y="28"/>
                      </a:cubicBezTo>
                      <a:cubicBezTo>
                        <a:pt x="185" y="28"/>
                        <a:pt x="197" y="12"/>
                        <a:pt x="210" y="12"/>
                      </a:cubicBezTo>
                      <a:cubicBezTo>
                        <a:pt x="223" y="12"/>
                        <a:pt x="241" y="23"/>
                        <a:pt x="254" y="28"/>
                      </a:cubicBezTo>
                      <a:cubicBezTo>
                        <a:pt x="267" y="33"/>
                        <a:pt x="293" y="31"/>
                        <a:pt x="286" y="40"/>
                      </a:cubicBezTo>
                      <a:cubicBezTo>
                        <a:pt x="279" y="49"/>
                        <a:pt x="240" y="71"/>
                        <a:pt x="210" y="80"/>
                      </a:cubicBezTo>
                      <a:cubicBezTo>
                        <a:pt x="180" y="89"/>
                        <a:pt x="139" y="79"/>
                        <a:pt x="106" y="96"/>
                      </a:cubicBezTo>
                      <a:cubicBezTo>
                        <a:pt x="73" y="113"/>
                        <a:pt x="28" y="181"/>
                        <a:pt x="14" y="168"/>
                      </a:cubicBezTo>
                      <a:close/>
                    </a:path>
                  </a:pathLst>
                </a:custGeom>
                <a:solidFill>
                  <a:srgbClr val="e1a3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21135600">
                  <a:off x="7852680" y="3414240"/>
                  <a:ext cx="132480" cy="174600"/>
                </a:xfrm>
                <a:custGeom>
                  <a:avLst/>
                  <a:gdLst/>
                  <a:ahLst/>
                  <a:rect l="l" t="t" r="r" b="b"/>
                  <a:pathLst>
                    <a:path w="180" h="206">
                      <a:moveTo>
                        <a:pt x="47" y="4"/>
                      </a:moveTo>
                      <a:cubicBezTo>
                        <a:pt x="31" y="0"/>
                        <a:pt x="17" y="39"/>
                        <a:pt x="15" y="52"/>
                      </a:cubicBezTo>
                      <a:cubicBezTo>
                        <a:pt x="13" y="65"/>
                        <a:pt x="37" y="72"/>
                        <a:pt x="35" y="80"/>
                      </a:cubicBezTo>
                      <a:cubicBezTo>
                        <a:pt x="33" y="88"/>
                        <a:pt x="2" y="91"/>
                        <a:pt x="3" y="100"/>
                      </a:cubicBezTo>
                      <a:cubicBezTo>
                        <a:pt x="4" y="109"/>
                        <a:pt x="42" y="125"/>
                        <a:pt x="43" y="136"/>
                      </a:cubicBezTo>
                      <a:cubicBezTo>
                        <a:pt x="44" y="147"/>
                        <a:pt x="0" y="156"/>
                        <a:pt x="7" y="164"/>
                      </a:cubicBezTo>
                      <a:cubicBezTo>
                        <a:pt x="14" y="172"/>
                        <a:pt x="55" y="180"/>
                        <a:pt x="83" y="184"/>
                      </a:cubicBezTo>
                      <a:cubicBezTo>
                        <a:pt x="111" y="188"/>
                        <a:pt x="170" y="206"/>
                        <a:pt x="175" y="188"/>
                      </a:cubicBezTo>
                      <a:cubicBezTo>
                        <a:pt x="180" y="170"/>
                        <a:pt x="133" y="105"/>
                        <a:pt x="111" y="76"/>
                      </a:cubicBezTo>
                      <a:cubicBezTo>
                        <a:pt x="89" y="47"/>
                        <a:pt x="63" y="8"/>
                        <a:pt x="47" y="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e9f1"/>
                    </a:gs>
                    <a:gs pos="100000">
                      <a:srgbClr val="e7b7c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21135600">
                  <a:off x="7829640" y="3385800"/>
                  <a:ext cx="233640" cy="190800"/>
                </a:xfrm>
                <a:custGeom>
                  <a:avLst/>
                  <a:gdLst/>
                  <a:ahLst/>
                  <a:rect l="l" t="t" r="r" b="b"/>
                  <a:pathLst>
                    <a:path w="318" h="225">
                      <a:moveTo>
                        <a:pt x="75" y="5"/>
                      </a:moveTo>
                      <a:cubicBezTo>
                        <a:pt x="54" y="0"/>
                        <a:pt x="42" y="5"/>
                        <a:pt x="31" y="13"/>
                      </a:cubicBezTo>
                      <a:cubicBezTo>
                        <a:pt x="20" y="21"/>
                        <a:pt x="0" y="46"/>
                        <a:pt x="11" y="53"/>
                      </a:cubicBezTo>
                      <a:cubicBezTo>
                        <a:pt x="22" y="60"/>
                        <a:pt x="80" y="44"/>
                        <a:pt x="99" y="53"/>
                      </a:cubicBezTo>
                      <a:cubicBezTo>
                        <a:pt x="118" y="62"/>
                        <a:pt x="117" y="86"/>
                        <a:pt x="127" y="109"/>
                      </a:cubicBezTo>
                      <a:cubicBezTo>
                        <a:pt x="137" y="132"/>
                        <a:pt x="140" y="170"/>
                        <a:pt x="159" y="189"/>
                      </a:cubicBezTo>
                      <a:cubicBezTo>
                        <a:pt x="178" y="208"/>
                        <a:pt x="219" y="225"/>
                        <a:pt x="243" y="221"/>
                      </a:cubicBezTo>
                      <a:cubicBezTo>
                        <a:pt x="267" y="217"/>
                        <a:pt x="318" y="195"/>
                        <a:pt x="303" y="165"/>
                      </a:cubicBezTo>
                      <a:cubicBezTo>
                        <a:pt x="288" y="135"/>
                        <a:pt x="194" y="64"/>
                        <a:pt x="155" y="41"/>
                      </a:cubicBezTo>
                      <a:cubicBezTo>
                        <a:pt x="116" y="18"/>
                        <a:pt x="96" y="10"/>
                        <a:pt x="75" y="5"/>
                      </a:cubicBezTo>
                      <a:close/>
                    </a:path>
                  </a:pathLst>
                </a:custGeom>
                <a:solidFill>
                  <a:srgbClr val="e1a3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21135600">
                  <a:off x="7859520" y="3096000"/>
                  <a:ext cx="454680" cy="235800"/>
                </a:xfrm>
                <a:custGeom>
                  <a:avLst/>
                  <a:gdLst/>
                  <a:ahLst/>
                  <a:rect l="l" t="t" r="r" b="b"/>
                  <a:pathLst>
                    <a:path w="618" h="278">
                      <a:moveTo>
                        <a:pt x="7" y="261"/>
                      </a:moveTo>
                      <a:cubicBezTo>
                        <a:pt x="0" y="248"/>
                        <a:pt x="1" y="210"/>
                        <a:pt x="7" y="197"/>
                      </a:cubicBezTo>
                      <a:cubicBezTo>
                        <a:pt x="13" y="184"/>
                        <a:pt x="36" y="195"/>
                        <a:pt x="43" y="185"/>
                      </a:cubicBezTo>
                      <a:cubicBezTo>
                        <a:pt x="50" y="175"/>
                        <a:pt x="41" y="144"/>
                        <a:pt x="47" y="137"/>
                      </a:cubicBezTo>
                      <a:cubicBezTo>
                        <a:pt x="53" y="130"/>
                        <a:pt x="72" y="148"/>
                        <a:pt x="79" y="141"/>
                      </a:cubicBezTo>
                      <a:cubicBezTo>
                        <a:pt x="86" y="134"/>
                        <a:pt x="80" y="105"/>
                        <a:pt x="91" y="97"/>
                      </a:cubicBezTo>
                      <a:cubicBezTo>
                        <a:pt x="102" y="89"/>
                        <a:pt x="128" y="102"/>
                        <a:pt x="143" y="93"/>
                      </a:cubicBezTo>
                      <a:cubicBezTo>
                        <a:pt x="158" y="84"/>
                        <a:pt x="168" y="52"/>
                        <a:pt x="179" y="45"/>
                      </a:cubicBezTo>
                      <a:cubicBezTo>
                        <a:pt x="190" y="38"/>
                        <a:pt x="197" y="57"/>
                        <a:pt x="207" y="53"/>
                      </a:cubicBezTo>
                      <a:cubicBezTo>
                        <a:pt x="217" y="49"/>
                        <a:pt x="226" y="25"/>
                        <a:pt x="239" y="21"/>
                      </a:cubicBezTo>
                      <a:cubicBezTo>
                        <a:pt x="252" y="17"/>
                        <a:pt x="274" y="32"/>
                        <a:pt x="287" y="29"/>
                      </a:cubicBezTo>
                      <a:cubicBezTo>
                        <a:pt x="300" y="26"/>
                        <a:pt x="302" y="0"/>
                        <a:pt x="315" y="1"/>
                      </a:cubicBezTo>
                      <a:cubicBezTo>
                        <a:pt x="328" y="2"/>
                        <a:pt x="344" y="32"/>
                        <a:pt x="363" y="37"/>
                      </a:cubicBezTo>
                      <a:cubicBezTo>
                        <a:pt x="382" y="42"/>
                        <a:pt x="414" y="33"/>
                        <a:pt x="431" y="33"/>
                      </a:cubicBezTo>
                      <a:cubicBezTo>
                        <a:pt x="448" y="33"/>
                        <a:pt x="452" y="31"/>
                        <a:pt x="463" y="37"/>
                      </a:cubicBezTo>
                      <a:cubicBezTo>
                        <a:pt x="474" y="43"/>
                        <a:pt x="485" y="70"/>
                        <a:pt x="495" y="69"/>
                      </a:cubicBezTo>
                      <a:cubicBezTo>
                        <a:pt x="505" y="68"/>
                        <a:pt x="514" y="32"/>
                        <a:pt x="523" y="33"/>
                      </a:cubicBezTo>
                      <a:cubicBezTo>
                        <a:pt x="532" y="34"/>
                        <a:pt x="540" y="75"/>
                        <a:pt x="547" y="77"/>
                      </a:cubicBezTo>
                      <a:cubicBezTo>
                        <a:pt x="554" y="79"/>
                        <a:pt x="556" y="41"/>
                        <a:pt x="567" y="45"/>
                      </a:cubicBezTo>
                      <a:cubicBezTo>
                        <a:pt x="578" y="49"/>
                        <a:pt x="618" y="76"/>
                        <a:pt x="615" y="101"/>
                      </a:cubicBezTo>
                      <a:cubicBezTo>
                        <a:pt x="612" y="126"/>
                        <a:pt x="592" y="189"/>
                        <a:pt x="547" y="193"/>
                      </a:cubicBezTo>
                      <a:cubicBezTo>
                        <a:pt x="502" y="197"/>
                        <a:pt x="396" y="122"/>
                        <a:pt x="347" y="125"/>
                      </a:cubicBezTo>
                      <a:cubicBezTo>
                        <a:pt x="298" y="128"/>
                        <a:pt x="285" y="192"/>
                        <a:pt x="251" y="209"/>
                      </a:cubicBezTo>
                      <a:cubicBezTo>
                        <a:pt x="217" y="226"/>
                        <a:pt x="176" y="214"/>
                        <a:pt x="143" y="225"/>
                      </a:cubicBezTo>
                      <a:cubicBezTo>
                        <a:pt x="110" y="236"/>
                        <a:pt x="74" y="268"/>
                        <a:pt x="51" y="273"/>
                      </a:cubicBezTo>
                      <a:cubicBezTo>
                        <a:pt x="28" y="278"/>
                        <a:pt x="14" y="274"/>
                        <a:pt x="7" y="2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c4db"/>
                    </a:gs>
                    <a:gs pos="100000">
                      <a:srgbClr val="e1a3b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21135600">
                  <a:off x="7839720" y="3123360"/>
                  <a:ext cx="554760" cy="516600"/>
                </a:xfrm>
                <a:custGeom>
                  <a:avLst/>
                  <a:gdLst/>
                  <a:ahLst/>
                  <a:rect l="l" t="t" r="r" b="b"/>
                  <a:pathLst>
                    <a:path w="754" h="609">
                      <a:moveTo>
                        <a:pt x="333" y="518"/>
                      </a:moveTo>
                      <a:cubicBezTo>
                        <a:pt x="263" y="489"/>
                        <a:pt x="226" y="459"/>
                        <a:pt x="189" y="430"/>
                      </a:cubicBezTo>
                      <a:cubicBezTo>
                        <a:pt x="152" y="401"/>
                        <a:pt x="143" y="371"/>
                        <a:pt x="113" y="346"/>
                      </a:cubicBezTo>
                      <a:cubicBezTo>
                        <a:pt x="83" y="321"/>
                        <a:pt x="18" y="295"/>
                        <a:pt x="9" y="278"/>
                      </a:cubicBezTo>
                      <a:cubicBezTo>
                        <a:pt x="0" y="261"/>
                        <a:pt x="50" y="257"/>
                        <a:pt x="57" y="246"/>
                      </a:cubicBezTo>
                      <a:cubicBezTo>
                        <a:pt x="64" y="235"/>
                        <a:pt x="43" y="220"/>
                        <a:pt x="49" y="214"/>
                      </a:cubicBezTo>
                      <a:cubicBezTo>
                        <a:pt x="55" y="208"/>
                        <a:pt x="86" y="218"/>
                        <a:pt x="93" y="210"/>
                      </a:cubicBezTo>
                      <a:cubicBezTo>
                        <a:pt x="100" y="202"/>
                        <a:pt x="87" y="173"/>
                        <a:pt x="93" y="166"/>
                      </a:cubicBezTo>
                      <a:cubicBezTo>
                        <a:pt x="99" y="159"/>
                        <a:pt x="121" y="173"/>
                        <a:pt x="129" y="166"/>
                      </a:cubicBezTo>
                      <a:cubicBezTo>
                        <a:pt x="137" y="159"/>
                        <a:pt x="132" y="133"/>
                        <a:pt x="141" y="126"/>
                      </a:cubicBezTo>
                      <a:cubicBezTo>
                        <a:pt x="150" y="119"/>
                        <a:pt x="172" y="133"/>
                        <a:pt x="181" y="126"/>
                      </a:cubicBezTo>
                      <a:cubicBezTo>
                        <a:pt x="190" y="119"/>
                        <a:pt x="183" y="92"/>
                        <a:pt x="193" y="86"/>
                      </a:cubicBezTo>
                      <a:cubicBezTo>
                        <a:pt x="203" y="80"/>
                        <a:pt x="232" y="97"/>
                        <a:pt x="241" y="90"/>
                      </a:cubicBezTo>
                      <a:cubicBezTo>
                        <a:pt x="250" y="83"/>
                        <a:pt x="238" y="53"/>
                        <a:pt x="245" y="46"/>
                      </a:cubicBezTo>
                      <a:cubicBezTo>
                        <a:pt x="252" y="39"/>
                        <a:pt x="273" y="53"/>
                        <a:pt x="285" y="46"/>
                      </a:cubicBezTo>
                      <a:cubicBezTo>
                        <a:pt x="297" y="39"/>
                        <a:pt x="302" y="4"/>
                        <a:pt x="317" y="2"/>
                      </a:cubicBezTo>
                      <a:cubicBezTo>
                        <a:pt x="332" y="0"/>
                        <a:pt x="359" y="31"/>
                        <a:pt x="377" y="34"/>
                      </a:cubicBezTo>
                      <a:cubicBezTo>
                        <a:pt x="395" y="37"/>
                        <a:pt x="411" y="15"/>
                        <a:pt x="425" y="18"/>
                      </a:cubicBezTo>
                      <a:cubicBezTo>
                        <a:pt x="439" y="21"/>
                        <a:pt x="441" y="45"/>
                        <a:pt x="461" y="54"/>
                      </a:cubicBezTo>
                      <a:cubicBezTo>
                        <a:pt x="481" y="63"/>
                        <a:pt x="528" y="63"/>
                        <a:pt x="545" y="70"/>
                      </a:cubicBezTo>
                      <a:cubicBezTo>
                        <a:pt x="562" y="77"/>
                        <a:pt x="556" y="97"/>
                        <a:pt x="565" y="98"/>
                      </a:cubicBezTo>
                      <a:cubicBezTo>
                        <a:pt x="574" y="99"/>
                        <a:pt x="586" y="73"/>
                        <a:pt x="597" y="78"/>
                      </a:cubicBezTo>
                      <a:cubicBezTo>
                        <a:pt x="608" y="83"/>
                        <a:pt x="613" y="116"/>
                        <a:pt x="629" y="126"/>
                      </a:cubicBezTo>
                      <a:cubicBezTo>
                        <a:pt x="645" y="136"/>
                        <a:pt x="681" y="111"/>
                        <a:pt x="693" y="138"/>
                      </a:cubicBezTo>
                      <a:cubicBezTo>
                        <a:pt x="705" y="165"/>
                        <a:pt x="692" y="253"/>
                        <a:pt x="701" y="286"/>
                      </a:cubicBezTo>
                      <a:cubicBezTo>
                        <a:pt x="710" y="319"/>
                        <a:pt x="744" y="314"/>
                        <a:pt x="749" y="338"/>
                      </a:cubicBezTo>
                      <a:cubicBezTo>
                        <a:pt x="754" y="362"/>
                        <a:pt x="740" y="396"/>
                        <a:pt x="729" y="430"/>
                      </a:cubicBezTo>
                      <a:cubicBezTo>
                        <a:pt x="718" y="464"/>
                        <a:pt x="701" y="513"/>
                        <a:pt x="681" y="542"/>
                      </a:cubicBezTo>
                      <a:cubicBezTo>
                        <a:pt x="661" y="571"/>
                        <a:pt x="667" y="609"/>
                        <a:pt x="609" y="606"/>
                      </a:cubicBezTo>
                      <a:cubicBezTo>
                        <a:pt x="551" y="603"/>
                        <a:pt x="403" y="547"/>
                        <a:pt x="333" y="51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fec4d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21135600">
                  <a:off x="8000280" y="3439800"/>
                  <a:ext cx="442800" cy="304200"/>
                </a:xfrm>
                <a:custGeom>
                  <a:avLst/>
                  <a:gdLst/>
                  <a:ahLst/>
                  <a:rect l="l" t="t" r="r" b="b"/>
                  <a:pathLst>
                    <a:path w="602" h="359">
                      <a:moveTo>
                        <a:pt x="499" y="7"/>
                      </a:moveTo>
                      <a:cubicBezTo>
                        <a:pt x="476" y="0"/>
                        <a:pt x="480" y="126"/>
                        <a:pt x="455" y="135"/>
                      </a:cubicBezTo>
                      <a:cubicBezTo>
                        <a:pt x="430" y="144"/>
                        <a:pt x="374" y="64"/>
                        <a:pt x="351" y="59"/>
                      </a:cubicBezTo>
                      <a:cubicBezTo>
                        <a:pt x="328" y="54"/>
                        <a:pt x="340" y="108"/>
                        <a:pt x="319" y="107"/>
                      </a:cubicBezTo>
                      <a:cubicBezTo>
                        <a:pt x="298" y="106"/>
                        <a:pt x="237" y="55"/>
                        <a:pt x="223" y="55"/>
                      </a:cubicBezTo>
                      <a:cubicBezTo>
                        <a:pt x="209" y="55"/>
                        <a:pt x="256" y="111"/>
                        <a:pt x="235" y="107"/>
                      </a:cubicBezTo>
                      <a:cubicBezTo>
                        <a:pt x="214" y="103"/>
                        <a:pt x="120" y="38"/>
                        <a:pt x="99" y="31"/>
                      </a:cubicBezTo>
                      <a:cubicBezTo>
                        <a:pt x="78" y="24"/>
                        <a:pt x="127" y="64"/>
                        <a:pt x="111" y="63"/>
                      </a:cubicBezTo>
                      <a:cubicBezTo>
                        <a:pt x="95" y="62"/>
                        <a:pt x="6" y="12"/>
                        <a:pt x="3" y="23"/>
                      </a:cubicBezTo>
                      <a:cubicBezTo>
                        <a:pt x="0" y="34"/>
                        <a:pt x="60" y="102"/>
                        <a:pt x="91" y="131"/>
                      </a:cubicBezTo>
                      <a:cubicBezTo>
                        <a:pt x="122" y="160"/>
                        <a:pt x="146" y="170"/>
                        <a:pt x="187" y="195"/>
                      </a:cubicBezTo>
                      <a:cubicBezTo>
                        <a:pt x="228" y="220"/>
                        <a:pt x="293" y="253"/>
                        <a:pt x="339" y="279"/>
                      </a:cubicBezTo>
                      <a:cubicBezTo>
                        <a:pt x="385" y="305"/>
                        <a:pt x="430" y="359"/>
                        <a:pt x="463" y="351"/>
                      </a:cubicBezTo>
                      <a:cubicBezTo>
                        <a:pt x="496" y="343"/>
                        <a:pt x="517" y="260"/>
                        <a:pt x="539" y="231"/>
                      </a:cubicBezTo>
                      <a:cubicBezTo>
                        <a:pt x="561" y="202"/>
                        <a:pt x="602" y="211"/>
                        <a:pt x="595" y="175"/>
                      </a:cubicBezTo>
                      <a:cubicBezTo>
                        <a:pt x="588" y="139"/>
                        <a:pt x="522" y="14"/>
                        <a:pt x="499" y="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d0de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21135600">
                  <a:off x="8410680" y="2890080"/>
                  <a:ext cx="487080" cy="771840"/>
                </a:xfrm>
                <a:custGeom>
                  <a:avLst/>
                  <a:gdLst/>
                  <a:ahLst/>
                  <a:rect l="l" t="t" r="r" b="b"/>
                  <a:pathLst>
                    <a:path w="662" h="910">
                      <a:moveTo>
                        <a:pt x="21" y="747"/>
                      </a:moveTo>
                      <a:cubicBezTo>
                        <a:pt x="32" y="696"/>
                        <a:pt x="47" y="597"/>
                        <a:pt x="81" y="483"/>
                      </a:cubicBezTo>
                      <a:cubicBezTo>
                        <a:pt x="115" y="369"/>
                        <a:pt x="196" y="126"/>
                        <a:pt x="225" y="63"/>
                      </a:cubicBezTo>
                      <a:cubicBezTo>
                        <a:pt x="254" y="0"/>
                        <a:pt x="247" y="101"/>
                        <a:pt x="257" y="107"/>
                      </a:cubicBezTo>
                      <a:cubicBezTo>
                        <a:pt x="267" y="113"/>
                        <a:pt x="276" y="94"/>
                        <a:pt x="285" y="99"/>
                      </a:cubicBezTo>
                      <a:cubicBezTo>
                        <a:pt x="294" y="104"/>
                        <a:pt x="297" y="129"/>
                        <a:pt x="309" y="135"/>
                      </a:cubicBezTo>
                      <a:cubicBezTo>
                        <a:pt x="321" y="141"/>
                        <a:pt x="349" y="128"/>
                        <a:pt x="357" y="135"/>
                      </a:cubicBezTo>
                      <a:cubicBezTo>
                        <a:pt x="365" y="142"/>
                        <a:pt x="349" y="169"/>
                        <a:pt x="357" y="175"/>
                      </a:cubicBezTo>
                      <a:cubicBezTo>
                        <a:pt x="365" y="181"/>
                        <a:pt x="396" y="166"/>
                        <a:pt x="405" y="171"/>
                      </a:cubicBezTo>
                      <a:cubicBezTo>
                        <a:pt x="414" y="176"/>
                        <a:pt x="405" y="198"/>
                        <a:pt x="413" y="203"/>
                      </a:cubicBezTo>
                      <a:cubicBezTo>
                        <a:pt x="421" y="208"/>
                        <a:pt x="444" y="190"/>
                        <a:pt x="453" y="199"/>
                      </a:cubicBezTo>
                      <a:cubicBezTo>
                        <a:pt x="462" y="208"/>
                        <a:pt x="456" y="251"/>
                        <a:pt x="465" y="259"/>
                      </a:cubicBezTo>
                      <a:cubicBezTo>
                        <a:pt x="474" y="267"/>
                        <a:pt x="494" y="242"/>
                        <a:pt x="505" y="247"/>
                      </a:cubicBezTo>
                      <a:cubicBezTo>
                        <a:pt x="516" y="252"/>
                        <a:pt x="518" y="285"/>
                        <a:pt x="529" y="291"/>
                      </a:cubicBezTo>
                      <a:cubicBezTo>
                        <a:pt x="540" y="297"/>
                        <a:pt x="563" y="276"/>
                        <a:pt x="569" y="283"/>
                      </a:cubicBezTo>
                      <a:cubicBezTo>
                        <a:pt x="575" y="290"/>
                        <a:pt x="562" y="316"/>
                        <a:pt x="565" y="331"/>
                      </a:cubicBezTo>
                      <a:cubicBezTo>
                        <a:pt x="568" y="346"/>
                        <a:pt x="575" y="364"/>
                        <a:pt x="585" y="375"/>
                      </a:cubicBezTo>
                      <a:cubicBezTo>
                        <a:pt x="595" y="386"/>
                        <a:pt x="619" y="384"/>
                        <a:pt x="625" y="395"/>
                      </a:cubicBezTo>
                      <a:cubicBezTo>
                        <a:pt x="631" y="406"/>
                        <a:pt x="618" y="425"/>
                        <a:pt x="621" y="439"/>
                      </a:cubicBezTo>
                      <a:cubicBezTo>
                        <a:pt x="624" y="453"/>
                        <a:pt x="635" y="467"/>
                        <a:pt x="641" y="479"/>
                      </a:cubicBezTo>
                      <a:cubicBezTo>
                        <a:pt x="647" y="491"/>
                        <a:pt x="660" y="501"/>
                        <a:pt x="657" y="511"/>
                      </a:cubicBezTo>
                      <a:cubicBezTo>
                        <a:pt x="654" y="521"/>
                        <a:pt x="626" y="528"/>
                        <a:pt x="625" y="539"/>
                      </a:cubicBezTo>
                      <a:cubicBezTo>
                        <a:pt x="624" y="550"/>
                        <a:pt x="650" y="564"/>
                        <a:pt x="653" y="575"/>
                      </a:cubicBezTo>
                      <a:cubicBezTo>
                        <a:pt x="656" y="586"/>
                        <a:pt x="640" y="596"/>
                        <a:pt x="641" y="603"/>
                      </a:cubicBezTo>
                      <a:cubicBezTo>
                        <a:pt x="642" y="610"/>
                        <a:pt x="660" y="610"/>
                        <a:pt x="661" y="619"/>
                      </a:cubicBezTo>
                      <a:cubicBezTo>
                        <a:pt x="662" y="628"/>
                        <a:pt x="651" y="645"/>
                        <a:pt x="645" y="655"/>
                      </a:cubicBezTo>
                      <a:cubicBezTo>
                        <a:pt x="639" y="665"/>
                        <a:pt x="644" y="661"/>
                        <a:pt x="625" y="679"/>
                      </a:cubicBezTo>
                      <a:cubicBezTo>
                        <a:pt x="606" y="697"/>
                        <a:pt x="563" y="728"/>
                        <a:pt x="529" y="763"/>
                      </a:cubicBezTo>
                      <a:cubicBezTo>
                        <a:pt x="495" y="798"/>
                        <a:pt x="457" y="872"/>
                        <a:pt x="421" y="891"/>
                      </a:cubicBezTo>
                      <a:cubicBezTo>
                        <a:pt x="385" y="910"/>
                        <a:pt x="347" y="883"/>
                        <a:pt x="313" y="879"/>
                      </a:cubicBezTo>
                      <a:cubicBezTo>
                        <a:pt x="279" y="875"/>
                        <a:pt x="248" y="866"/>
                        <a:pt x="217" y="867"/>
                      </a:cubicBezTo>
                      <a:cubicBezTo>
                        <a:pt x="186" y="868"/>
                        <a:pt x="158" y="900"/>
                        <a:pt x="125" y="887"/>
                      </a:cubicBezTo>
                      <a:cubicBezTo>
                        <a:pt x="92" y="874"/>
                        <a:pt x="34" y="814"/>
                        <a:pt x="17" y="791"/>
                      </a:cubicBezTo>
                      <a:cubicBezTo>
                        <a:pt x="0" y="768"/>
                        <a:pt x="10" y="798"/>
                        <a:pt x="21" y="74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e9f1"/>
                    </a:gs>
                    <a:gs pos="100000">
                      <a:srgbClr val="e7b7c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21135600">
                  <a:off x="8481600" y="3188520"/>
                  <a:ext cx="288360" cy="481680"/>
                </a:xfrm>
                <a:custGeom>
                  <a:avLst/>
                  <a:gdLst/>
                  <a:ahLst/>
                  <a:rect l="l" t="t" r="r" b="b"/>
                  <a:pathLst>
                    <a:path w="392" h="568">
                      <a:moveTo>
                        <a:pt x="0" y="457"/>
                      </a:moveTo>
                      <a:cubicBezTo>
                        <a:pt x="0" y="422"/>
                        <a:pt x="14" y="387"/>
                        <a:pt x="32" y="349"/>
                      </a:cubicBezTo>
                      <a:cubicBezTo>
                        <a:pt x="50" y="311"/>
                        <a:pt x="81" y="281"/>
                        <a:pt x="108" y="225"/>
                      </a:cubicBezTo>
                      <a:cubicBezTo>
                        <a:pt x="135" y="169"/>
                        <a:pt x="181" y="26"/>
                        <a:pt x="192" y="13"/>
                      </a:cubicBezTo>
                      <a:cubicBezTo>
                        <a:pt x="203" y="0"/>
                        <a:pt x="171" y="131"/>
                        <a:pt x="176" y="149"/>
                      </a:cubicBezTo>
                      <a:cubicBezTo>
                        <a:pt x="181" y="167"/>
                        <a:pt x="217" y="104"/>
                        <a:pt x="220" y="121"/>
                      </a:cubicBezTo>
                      <a:cubicBezTo>
                        <a:pt x="223" y="138"/>
                        <a:pt x="183" y="237"/>
                        <a:pt x="192" y="249"/>
                      </a:cubicBezTo>
                      <a:cubicBezTo>
                        <a:pt x="201" y="261"/>
                        <a:pt x="269" y="183"/>
                        <a:pt x="276" y="193"/>
                      </a:cubicBezTo>
                      <a:cubicBezTo>
                        <a:pt x="283" y="203"/>
                        <a:pt x="213" y="298"/>
                        <a:pt x="232" y="309"/>
                      </a:cubicBezTo>
                      <a:cubicBezTo>
                        <a:pt x="251" y="320"/>
                        <a:pt x="384" y="248"/>
                        <a:pt x="388" y="261"/>
                      </a:cubicBezTo>
                      <a:cubicBezTo>
                        <a:pt x="392" y="274"/>
                        <a:pt x="272" y="360"/>
                        <a:pt x="256" y="385"/>
                      </a:cubicBezTo>
                      <a:cubicBezTo>
                        <a:pt x="240" y="410"/>
                        <a:pt x="301" y="394"/>
                        <a:pt x="292" y="409"/>
                      </a:cubicBezTo>
                      <a:cubicBezTo>
                        <a:pt x="283" y="424"/>
                        <a:pt x="233" y="455"/>
                        <a:pt x="204" y="473"/>
                      </a:cubicBezTo>
                      <a:cubicBezTo>
                        <a:pt x="175" y="491"/>
                        <a:pt x="149" y="503"/>
                        <a:pt x="120" y="517"/>
                      </a:cubicBezTo>
                      <a:cubicBezTo>
                        <a:pt x="91" y="531"/>
                        <a:pt x="52" y="568"/>
                        <a:pt x="32" y="557"/>
                      </a:cubicBezTo>
                      <a:cubicBezTo>
                        <a:pt x="12" y="546"/>
                        <a:pt x="0" y="492"/>
                        <a:pt x="0" y="45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e9f1"/>
                    </a:gs>
                    <a:gs pos="100000">
                      <a:srgbClr val="e7b7c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21135600">
                  <a:off x="8241120" y="2964960"/>
                  <a:ext cx="339840" cy="628560"/>
                </a:xfrm>
                <a:custGeom>
                  <a:avLst/>
                  <a:gdLst/>
                  <a:ahLst/>
                  <a:rect l="l" t="t" r="r" b="b"/>
                  <a:pathLst>
                    <a:path w="462" h="741">
                      <a:moveTo>
                        <a:pt x="193" y="705"/>
                      </a:moveTo>
                      <a:cubicBezTo>
                        <a:pt x="174" y="690"/>
                        <a:pt x="163" y="656"/>
                        <a:pt x="141" y="629"/>
                      </a:cubicBezTo>
                      <a:cubicBezTo>
                        <a:pt x="119" y="602"/>
                        <a:pt x="80" y="577"/>
                        <a:pt x="61" y="545"/>
                      </a:cubicBezTo>
                      <a:cubicBezTo>
                        <a:pt x="42" y="513"/>
                        <a:pt x="35" y="466"/>
                        <a:pt x="25" y="437"/>
                      </a:cubicBezTo>
                      <a:cubicBezTo>
                        <a:pt x="15" y="408"/>
                        <a:pt x="2" y="397"/>
                        <a:pt x="1" y="369"/>
                      </a:cubicBezTo>
                      <a:cubicBezTo>
                        <a:pt x="0" y="341"/>
                        <a:pt x="6" y="284"/>
                        <a:pt x="17" y="269"/>
                      </a:cubicBezTo>
                      <a:cubicBezTo>
                        <a:pt x="28" y="254"/>
                        <a:pt x="58" y="286"/>
                        <a:pt x="65" y="281"/>
                      </a:cubicBezTo>
                      <a:cubicBezTo>
                        <a:pt x="72" y="276"/>
                        <a:pt x="56" y="245"/>
                        <a:pt x="61" y="237"/>
                      </a:cubicBezTo>
                      <a:cubicBezTo>
                        <a:pt x="66" y="229"/>
                        <a:pt x="92" y="245"/>
                        <a:pt x="93" y="233"/>
                      </a:cubicBezTo>
                      <a:cubicBezTo>
                        <a:pt x="94" y="221"/>
                        <a:pt x="67" y="175"/>
                        <a:pt x="69" y="165"/>
                      </a:cubicBezTo>
                      <a:cubicBezTo>
                        <a:pt x="71" y="155"/>
                        <a:pt x="98" y="180"/>
                        <a:pt x="105" y="173"/>
                      </a:cubicBezTo>
                      <a:cubicBezTo>
                        <a:pt x="112" y="166"/>
                        <a:pt x="104" y="130"/>
                        <a:pt x="113" y="125"/>
                      </a:cubicBezTo>
                      <a:cubicBezTo>
                        <a:pt x="122" y="120"/>
                        <a:pt x="153" y="146"/>
                        <a:pt x="161" y="141"/>
                      </a:cubicBezTo>
                      <a:cubicBezTo>
                        <a:pt x="169" y="136"/>
                        <a:pt x="155" y="100"/>
                        <a:pt x="161" y="93"/>
                      </a:cubicBezTo>
                      <a:cubicBezTo>
                        <a:pt x="167" y="86"/>
                        <a:pt x="184" y="101"/>
                        <a:pt x="197" y="97"/>
                      </a:cubicBezTo>
                      <a:cubicBezTo>
                        <a:pt x="210" y="93"/>
                        <a:pt x="222" y="69"/>
                        <a:pt x="237" y="69"/>
                      </a:cubicBezTo>
                      <a:cubicBezTo>
                        <a:pt x="252" y="69"/>
                        <a:pt x="274" y="104"/>
                        <a:pt x="285" y="97"/>
                      </a:cubicBezTo>
                      <a:cubicBezTo>
                        <a:pt x="296" y="90"/>
                        <a:pt x="291" y="38"/>
                        <a:pt x="301" y="25"/>
                      </a:cubicBezTo>
                      <a:cubicBezTo>
                        <a:pt x="311" y="12"/>
                        <a:pt x="332" y="14"/>
                        <a:pt x="345" y="17"/>
                      </a:cubicBezTo>
                      <a:cubicBezTo>
                        <a:pt x="358" y="20"/>
                        <a:pt x="369" y="44"/>
                        <a:pt x="381" y="41"/>
                      </a:cubicBezTo>
                      <a:cubicBezTo>
                        <a:pt x="393" y="38"/>
                        <a:pt x="404" y="2"/>
                        <a:pt x="417" y="1"/>
                      </a:cubicBezTo>
                      <a:cubicBezTo>
                        <a:pt x="430" y="0"/>
                        <a:pt x="460" y="2"/>
                        <a:pt x="461" y="37"/>
                      </a:cubicBezTo>
                      <a:cubicBezTo>
                        <a:pt x="462" y="72"/>
                        <a:pt x="441" y="151"/>
                        <a:pt x="425" y="209"/>
                      </a:cubicBezTo>
                      <a:cubicBezTo>
                        <a:pt x="409" y="267"/>
                        <a:pt x="386" y="323"/>
                        <a:pt x="365" y="385"/>
                      </a:cubicBezTo>
                      <a:cubicBezTo>
                        <a:pt x="344" y="447"/>
                        <a:pt x="320" y="525"/>
                        <a:pt x="301" y="581"/>
                      </a:cubicBezTo>
                      <a:cubicBezTo>
                        <a:pt x="282" y="637"/>
                        <a:pt x="272" y="701"/>
                        <a:pt x="253" y="721"/>
                      </a:cubicBezTo>
                      <a:cubicBezTo>
                        <a:pt x="234" y="741"/>
                        <a:pt x="212" y="720"/>
                        <a:pt x="193" y="7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fec4d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21135600">
                  <a:off x="7859160" y="3511800"/>
                  <a:ext cx="334800" cy="153360"/>
                </a:xfrm>
                <a:custGeom>
                  <a:avLst/>
                  <a:gdLst/>
                  <a:ahLst/>
                  <a:rect l="l" t="t" r="r" b="b"/>
                  <a:pathLst>
                    <a:path w="455" h="181">
                      <a:moveTo>
                        <a:pt x="403" y="173"/>
                      </a:moveTo>
                      <a:cubicBezTo>
                        <a:pt x="372" y="169"/>
                        <a:pt x="315" y="163"/>
                        <a:pt x="259" y="149"/>
                      </a:cubicBezTo>
                      <a:cubicBezTo>
                        <a:pt x="203" y="135"/>
                        <a:pt x="109" y="102"/>
                        <a:pt x="67" y="89"/>
                      </a:cubicBezTo>
                      <a:cubicBezTo>
                        <a:pt x="25" y="76"/>
                        <a:pt x="14" y="77"/>
                        <a:pt x="7" y="69"/>
                      </a:cubicBezTo>
                      <a:cubicBezTo>
                        <a:pt x="0" y="61"/>
                        <a:pt x="18" y="48"/>
                        <a:pt x="27" y="41"/>
                      </a:cubicBezTo>
                      <a:cubicBezTo>
                        <a:pt x="36" y="34"/>
                        <a:pt x="51" y="29"/>
                        <a:pt x="63" y="29"/>
                      </a:cubicBezTo>
                      <a:cubicBezTo>
                        <a:pt x="75" y="29"/>
                        <a:pt x="93" y="44"/>
                        <a:pt x="99" y="41"/>
                      </a:cubicBezTo>
                      <a:cubicBezTo>
                        <a:pt x="105" y="38"/>
                        <a:pt x="94" y="15"/>
                        <a:pt x="99" y="13"/>
                      </a:cubicBezTo>
                      <a:cubicBezTo>
                        <a:pt x="104" y="11"/>
                        <a:pt x="114" y="27"/>
                        <a:pt x="127" y="29"/>
                      </a:cubicBezTo>
                      <a:cubicBezTo>
                        <a:pt x="140" y="31"/>
                        <a:pt x="164" y="30"/>
                        <a:pt x="175" y="25"/>
                      </a:cubicBezTo>
                      <a:cubicBezTo>
                        <a:pt x="186" y="20"/>
                        <a:pt x="184" y="0"/>
                        <a:pt x="195" y="1"/>
                      </a:cubicBezTo>
                      <a:cubicBezTo>
                        <a:pt x="206" y="2"/>
                        <a:pt x="231" y="28"/>
                        <a:pt x="243" y="33"/>
                      </a:cubicBezTo>
                      <a:cubicBezTo>
                        <a:pt x="255" y="38"/>
                        <a:pt x="256" y="19"/>
                        <a:pt x="267" y="29"/>
                      </a:cubicBezTo>
                      <a:cubicBezTo>
                        <a:pt x="278" y="39"/>
                        <a:pt x="294" y="76"/>
                        <a:pt x="307" y="93"/>
                      </a:cubicBezTo>
                      <a:cubicBezTo>
                        <a:pt x="320" y="110"/>
                        <a:pt x="324" y="116"/>
                        <a:pt x="347" y="129"/>
                      </a:cubicBezTo>
                      <a:cubicBezTo>
                        <a:pt x="370" y="142"/>
                        <a:pt x="439" y="165"/>
                        <a:pt x="447" y="173"/>
                      </a:cubicBezTo>
                      <a:cubicBezTo>
                        <a:pt x="455" y="181"/>
                        <a:pt x="434" y="177"/>
                        <a:pt x="403" y="17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fec4d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21135600">
                  <a:off x="8132400" y="3508200"/>
                  <a:ext cx="410400" cy="272880"/>
                </a:xfrm>
                <a:custGeom>
                  <a:avLst/>
                  <a:gdLst/>
                  <a:ahLst/>
                  <a:rect l="l" t="t" r="r" b="b"/>
                  <a:pathLst>
                    <a:path w="558" h="322">
                      <a:moveTo>
                        <a:pt x="70" y="224"/>
                      </a:moveTo>
                      <a:cubicBezTo>
                        <a:pt x="57" y="214"/>
                        <a:pt x="29" y="189"/>
                        <a:pt x="18" y="176"/>
                      </a:cubicBezTo>
                      <a:cubicBezTo>
                        <a:pt x="7" y="163"/>
                        <a:pt x="0" y="153"/>
                        <a:pt x="2" y="144"/>
                      </a:cubicBezTo>
                      <a:cubicBezTo>
                        <a:pt x="4" y="135"/>
                        <a:pt x="17" y="123"/>
                        <a:pt x="30" y="120"/>
                      </a:cubicBezTo>
                      <a:cubicBezTo>
                        <a:pt x="43" y="117"/>
                        <a:pt x="60" y="118"/>
                        <a:pt x="82" y="124"/>
                      </a:cubicBezTo>
                      <a:cubicBezTo>
                        <a:pt x="104" y="130"/>
                        <a:pt x="135" y="142"/>
                        <a:pt x="162" y="156"/>
                      </a:cubicBezTo>
                      <a:cubicBezTo>
                        <a:pt x="189" y="170"/>
                        <a:pt x="226" y="197"/>
                        <a:pt x="246" y="208"/>
                      </a:cubicBezTo>
                      <a:cubicBezTo>
                        <a:pt x="266" y="219"/>
                        <a:pt x="269" y="230"/>
                        <a:pt x="282" y="224"/>
                      </a:cubicBezTo>
                      <a:cubicBezTo>
                        <a:pt x="295" y="218"/>
                        <a:pt x="313" y="189"/>
                        <a:pt x="326" y="172"/>
                      </a:cubicBezTo>
                      <a:cubicBezTo>
                        <a:pt x="339" y="155"/>
                        <a:pt x="351" y="135"/>
                        <a:pt x="358" y="120"/>
                      </a:cubicBezTo>
                      <a:cubicBezTo>
                        <a:pt x="365" y="105"/>
                        <a:pt x="360" y="91"/>
                        <a:pt x="370" y="80"/>
                      </a:cubicBezTo>
                      <a:cubicBezTo>
                        <a:pt x="380" y="69"/>
                        <a:pt x="405" y="65"/>
                        <a:pt x="418" y="52"/>
                      </a:cubicBezTo>
                      <a:cubicBezTo>
                        <a:pt x="431" y="39"/>
                        <a:pt x="442" y="0"/>
                        <a:pt x="450" y="0"/>
                      </a:cubicBezTo>
                      <a:cubicBezTo>
                        <a:pt x="458" y="0"/>
                        <a:pt x="459" y="41"/>
                        <a:pt x="466" y="52"/>
                      </a:cubicBezTo>
                      <a:cubicBezTo>
                        <a:pt x="473" y="63"/>
                        <a:pt x="481" y="57"/>
                        <a:pt x="490" y="68"/>
                      </a:cubicBezTo>
                      <a:cubicBezTo>
                        <a:pt x="499" y="79"/>
                        <a:pt x="514" y="100"/>
                        <a:pt x="522" y="116"/>
                      </a:cubicBezTo>
                      <a:cubicBezTo>
                        <a:pt x="530" y="132"/>
                        <a:pt x="558" y="154"/>
                        <a:pt x="538" y="164"/>
                      </a:cubicBezTo>
                      <a:cubicBezTo>
                        <a:pt x="518" y="174"/>
                        <a:pt x="434" y="154"/>
                        <a:pt x="402" y="176"/>
                      </a:cubicBezTo>
                      <a:cubicBezTo>
                        <a:pt x="370" y="198"/>
                        <a:pt x="372" y="273"/>
                        <a:pt x="346" y="296"/>
                      </a:cubicBezTo>
                      <a:cubicBezTo>
                        <a:pt x="320" y="319"/>
                        <a:pt x="288" y="322"/>
                        <a:pt x="246" y="312"/>
                      </a:cubicBezTo>
                      <a:cubicBezTo>
                        <a:pt x="204" y="302"/>
                        <a:pt x="124" y="251"/>
                        <a:pt x="94" y="236"/>
                      </a:cubicBezTo>
                      <a:cubicBezTo>
                        <a:pt x="64" y="221"/>
                        <a:pt x="83" y="234"/>
                        <a:pt x="70" y="22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5f0"/>
                    </a:gs>
                    <a:gs pos="100000">
                      <a:srgbClr val="d0de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21135600">
                  <a:off x="8191080" y="3560760"/>
                  <a:ext cx="426600" cy="717480"/>
                </a:xfrm>
                <a:custGeom>
                  <a:avLst/>
                  <a:gdLst/>
                  <a:ahLst/>
                  <a:rect l="l" t="t" r="r" b="b"/>
                  <a:pathLst>
                    <a:path w="580" h="846">
                      <a:moveTo>
                        <a:pt x="297" y="835"/>
                      </a:moveTo>
                      <a:cubicBezTo>
                        <a:pt x="263" y="828"/>
                        <a:pt x="254" y="810"/>
                        <a:pt x="237" y="787"/>
                      </a:cubicBezTo>
                      <a:cubicBezTo>
                        <a:pt x="220" y="764"/>
                        <a:pt x="210" y="738"/>
                        <a:pt x="197" y="695"/>
                      </a:cubicBezTo>
                      <a:cubicBezTo>
                        <a:pt x="184" y="652"/>
                        <a:pt x="174" y="585"/>
                        <a:pt x="161" y="527"/>
                      </a:cubicBezTo>
                      <a:cubicBezTo>
                        <a:pt x="148" y="469"/>
                        <a:pt x="136" y="398"/>
                        <a:pt x="121" y="347"/>
                      </a:cubicBezTo>
                      <a:cubicBezTo>
                        <a:pt x="106" y="296"/>
                        <a:pt x="86" y="258"/>
                        <a:pt x="69" y="219"/>
                      </a:cubicBezTo>
                      <a:cubicBezTo>
                        <a:pt x="52" y="180"/>
                        <a:pt x="28" y="134"/>
                        <a:pt x="17" y="111"/>
                      </a:cubicBezTo>
                      <a:cubicBezTo>
                        <a:pt x="6" y="88"/>
                        <a:pt x="0" y="86"/>
                        <a:pt x="5" y="79"/>
                      </a:cubicBezTo>
                      <a:cubicBezTo>
                        <a:pt x="10" y="72"/>
                        <a:pt x="24" y="65"/>
                        <a:pt x="49" y="71"/>
                      </a:cubicBezTo>
                      <a:cubicBezTo>
                        <a:pt x="74" y="77"/>
                        <a:pt x="118" y="96"/>
                        <a:pt x="153" y="115"/>
                      </a:cubicBezTo>
                      <a:cubicBezTo>
                        <a:pt x="188" y="134"/>
                        <a:pt x="240" y="166"/>
                        <a:pt x="257" y="183"/>
                      </a:cubicBezTo>
                      <a:cubicBezTo>
                        <a:pt x="274" y="200"/>
                        <a:pt x="253" y="212"/>
                        <a:pt x="257" y="215"/>
                      </a:cubicBezTo>
                      <a:cubicBezTo>
                        <a:pt x="261" y="218"/>
                        <a:pt x="279" y="212"/>
                        <a:pt x="281" y="203"/>
                      </a:cubicBezTo>
                      <a:cubicBezTo>
                        <a:pt x="283" y="194"/>
                        <a:pt x="259" y="181"/>
                        <a:pt x="269" y="159"/>
                      </a:cubicBezTo>
                      <a:cubicBezTo>
                        <a:pt x="279" y="137"/>
                        <a:pt x="317" y="95"/>
                        <a:pt x="341" y="71"/>
                      </a:cubicBezTo>
                      <a:cubicBezTo>
                        <a:pt x="365" y="47"/>
                        <a:pt x="396" y="25"/>
                        <a:pt x="413" y="15"/>
                      </a:cubicBezTo>
                      <a:cubicBezTo>
                        <a:pt x="430" y="5"/>
                        <a:pt x="427" y="0"/>
                        <a:pt x="445" y="11"/>
                      </a:cubicBezTo>
                      <a:cubicBezTo>
                        <a:pt x="463" y="22"/>
                        <a:pt x="502" y="67"/>
                        <a:pt x="521" y="83"/>
                      </a:cubicBezTo>
                      <a:cubicBezTo>
                        <a:pt x="540" y="99"/>
                        <a:pt x="549" y="79"/>
                        <a:pt x="557" y="107"/>
                      </a:cubicBezTo>
                      <a:cubicBezTo>
                        <a:pt x="565" y="135"/>
                        <a:pt x="566" y="196"/>
                        <a:pt x="569" y="251"/>
                      </a:cubicBezTo>
                      <a:cubicBezTo>
                        <a:pt x="572" y="306"/>
                        <a:pt x="572" y="381"/>
                        <a:pt x="573" y="439"/>
                      </a:cubicBezTo>
                      <a:cubicBezTo>
                        <a:pt x="574" y="497"/>
                        <a:pt x="580" y="548"/>
                        <a:pt x="573" y="599"/>
                      </a:cubicBezTo>
                      <a:cubicBezTo>
                        <a:pt x="566" y="650"/>
                        <a:pt x="555" y="704"/>
                        <a:pt x="533" y="743"/>
                      </a:cubicBezTo>
                      <a:cubicBezTo>
                        <a:pt x="511" y="782"/>
                        <a:pt x="478" y="816"/>
                        <a:pt x="441" y="831"/>
                      </a:cubicBezTo>
                      <a:cubicBezTo>
                        <a:pt x="404" y="846"/>
                        <a:pt x="331" y="842"/>
                        <a:pt x="297" y="83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21135600">
                  <a:off x="8402400" y="4041360"/>
                  <a:ext cx="207360" cy="317160"/>
                </a:xfrm>
                <a:custGeom>
                  <a:avLst/>
                  <a:gdLst/>
                  <a:ahLst/>
                  <a:rect l="l" t="t" r="r" b="b"/>
                  <a:pathLst>
                    <a:path w="282" h="374">
                      <a:moveTo>
                        <a:pt x="111" y="343"/>
                      </a:moveTo>
                      <a:cubicBezTo>
                        <a:pt x="91" y="327"/>
                        <a:pt x="68" y="292"/>
                        <a:pt x="51" y="271"/>
                      </a:cubicBezTo>
                      <a:cubicBezTo>
                        <a:pt x="34" y="250"/>
                        <a:pt x="18" y="244"/>
                        <a:pt x="11" y="219"/>
                      </a:cubicBezTo>
                      <a:cubicBezTo>
                        <a:pt x="4" y="194"/>
                        <a:pt x="0" y="146"/>
                        <a:pt x="11" y="123"/>
                      </a:cubicBezTo>
                      <a:cubicBezTo>
                        <a:pt x="22" y="100"/>
                        <a:pt x="56" y="93"/>
                        <a:pt x="79" y="79"/>
                      </a:cubicBezTo>
                      <a:cubicBezTo>
                        <a:pt x="102" y="65"/>
                        <a:pt x="134" y="52"/>
                        <a:pt x="151" y="39"/>
                      </a:cubicBezTo>
                      <a:cubicBezTo>
                        <a:pt x="168" y="26"/>
                        <a:pt x="170" y="0"/>
                        <a:pt x="183" y="3"/>
                      </a:cubicBezTo>
                      <a:cubicBezTo>
                        <a:pt x="196" y="6"/>
                        <a:pt x="216" y="41"/>
                        <a:pt x="231" y="55"/>
                      </a:cubicBezTo>
                      <a:cubicBezTo>
                        <a:pt x="246" y="69"/>
                        <a:pt x="268" y="64"/>
                        <a:pt x="275" y="87"/>
                      </a:cubicBezTo>
                      <a:cubicBezTo>
                        <a:pt x="282" y="110"/>
                        <a:pt x="279" y="156"/>
                        <a:pt x="271" y="191"/>
                      </a:cubicBezTo>
                      <a:cubicBezTo>
                        <a:pt x="263" y="226"/>
                        <a:pt x="244" y="266"/>
                        <a:pt x="227" y="295"/>
                      </a:cubicBezTo>
                      <a:cubicBezTo>
                        <a:pt x="210" y="324"/>
                        <a:pt x="190" y="360"/>
                        <a:pt x="171" y="367"/>
                      </a:cubicBezTo>
                      <a:cubicBezTo>
                        <a:pt x="152" y="374"/>
                        <a:pt x="131" y="359"/>
                        <a:pt x="111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6b66"/>
                    </a:gs>
                    <a:gs pos="50000">
                      <a:srgbClr val="a1bd7f"/>
                    </a:gs>
                    <a:gs pos="100000">
                      <a:srgbClr val="596b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8264160" y="4203720"/>
                  <a:ext cx="588600" cy="1668240"/>
                  <a:chOff x="8264160" y="4203720"/>
                  <a:chExt cx="588600" cy="16682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21135600">
                    <a:off x="8513640" y="4208760"/>
                    <a:ext cx="126360" cy="69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815">
                        <a:moveTo>
                          <a:pt x="57" y="610"/>
                        </a:moveTo>
                        <a:cubicBezTo>
                          <a:pt x="55" y="543"/>
                          <a:pt x="54" y="477"/>
                          <a:pt x="49" y="410"/>
                        </a:cubicBezTo>
                        <a:cubicBezTo>
                          <a:pt x="44" y="343"/>
                          <a:pt x="35" y="259"/>
                          <a:pt x="29" y="210"/>
                        </a:cubicBezTo>
                        <a:cubicBezTo>
                          <a:pt x="23" y="161"/>
                          <a:pt x="16" y="138"/>
                          <a:pt x="13" y="114"/>
                        </a:cubicBezTo>
                        <a:cubicBezTo>
                          <a:pt x="10" y="90"/>
                          <a:pt x="0" y="67"/>
                          <a:pt x="9" y="66"/>
                        </a:cubicBezTo>
                        <a:cubicBezTo>
                          <a:pt x="18" y="65"/>
                          <a:pt x="46" y="114"/>
                          <a:pt x="65" y="106"/>
                        </a:cubicBezTo>
                        <a:cubicBezTo>
                          <a:pt x="84" y="98"/>
                          <a:pt x="108" y="31"/>
                          <a:pt x="125" y="18"/>
                        </a:cubicBezTo>
                        <a:cubicBezTo>
                          <a:pt x="142" y="5"/>
                          <a:pt x="166" y="0"/>
                          <a:pt x="169" y="26"/>
                        </a:cubicBezTo>
                        <a:cubicBezTo>
                          <a:pt x="172" y="52"/>
                          <a:pt x="144" y="110"/>
                          <a:pt x="141" y="174"/>
                        </a:cubicBezTo>
                        <a:cubicBezTo>
                          <a:pt x="138" y="238"/>
                          <a:pt x="146" y="347"/>
                          <a:pt x="149" y="410"/>
                        </a:cubicBezTo>
                        <a:cubicBezTo>
                          <a:pt x="152" y="473"/>
                          <a:pt x="158" y="500"/>
                          <a:pt x="157" y="554"/>
                        </a:cubicBezTo>
                        <a:cubicBezTo>
                          <a:pt x="156" y="608"/>
                          <a:pt x="156" y="695"/>
                          <a:pt x="141" y="734"/>
                        </a:cubicBezTo>
                        <a:cubicBezTo>
                          <a:pt x="126" y="773"/>
                          <a:pt x="82" y="815"/>
                          <a:pt x="69" y="790"/>
                        </a:cubicBezTo>
                        <a:cubicBezTo>
                          <a:pt x="56" y="765"/>
                          <a:pt x="68" y="620"/>
                          <a:pt x="65" y="582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29312f"/>
                      </a:gs>
                      <a:gs pos="100000">
                        <a:srgbClr val="596b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21135600">
                    <a:off x="8432280" y="4298760"/>
                    <a:ext cx="381600" cy="59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19" h="705">
                        <a:moveTo>
                          <a:pt x="252" y="605"/>
                        </a:moveTo>
                        <a:cubicBezTo>
                          <a:pt x="261" y="598"/>
                          <a:pt x="258" y="546"/>
                          <a:pt x="272" y="521"/>
                        </a:cubicBezTo>
                        <a:cubicBezTo>
                          <a:pt x="286" y="496"/>
                          <a:pt x="314" y="479"/>
                          <a:pt x="336" y="453"/>
                        </a:cubicBezTo>
                        <a:cubicBezTo>
                          <a:pt x="358" y="427"/>
                          <a:pt x="381" y="394"/>
                          <a:pt x="404" y="365"/>
                        </a:cubicBezTo>
                        <a:cubicBezTo>
                          <a:pt x="427" y="336"/>
                          <a:pt x="456" y="314"/>
                          <a:pt x="472" y="277"/>
                        </a:cubicBezTo>
                        <a:cubicBezTo>
                          <a:pt x="488" y="240"/>
                          <a:pt x="496" y="171"/>
                          <a:pt x="500" y="141"/>
                        </a:cubicBezTo>
                        <a:cubicBezTo>
                          <a:pt x="504" y="111"/>
                          <a:pt x="494" y="77"/>
                          <a:pt x="496" y="97"/>
                        </a:cubicBezTo>
                        <a:cubicBezTo>
                          <a:pt x="498" y="117"/>
                          <a:pt x="519" y="215"/>
                          <a:pt x="512" y="261"/>
                        </a:cubicBezTo>
                        <a:cubicBezTo>
                          <a:pt x="505" y="307"/>
                          <a:pt x="480" y="339"/>
                          <a:pt x="456" y="373"/>
                        </a:cubicBezTo>
                        <a:cubicBezTo>
                          <a:pt x="432" y="407"/>
                          <a:pt x="391" y="430"/>
                          <a:pt x="368" y="465"/>
                        </a:cubicBezTo>
                        <a:cubicBezTo>
                          <a:pt x="345" y="500"/>
                          <a:pt x="326" y="548"/>
                          <a:pt x="316" y="581"/>
                        </a:cubicBezTo>
                        <a:cubicBezTo>
                          <a:pt x="306" y="614"/>
                          <a:pt x="317" y="644"/>
                          <a:pt x="308" y="665"/>
                        </a:cubicBezTo>
                        <a:cubicBezTo>
                          <a:pt x="299" y="686"/>
                          <a:pt x="277" y="705"/>
                          <a:pt x="264" y="705"/>
                        </a:cubicBezTo>
                        <a:cubicBezTo>
                          <a:pt x="251" y="705"/>
                          <a:pt x="244" y="666"/>
                          <a:pt x="232" y="665"/>
                        </a:cubicBezTo>
                        <a:cubicBezTo>
                          <a:pt x="220" y="664"/>
                          <a:pt x="206" y="700"/>
                          <a:pt x="192" y="701"/>
                        </a:cubicBezTo>
                        <a:cubicBezTo>
                          <a:pt x="178" y="702"/>
                          <a:pt x="159" y="698"/>
                          <a:pt x="148" y="669"/>
                        </a:cubicBezTo>
                        <a:cubicBezTo>
                          <a:pt x="137" y="640"/>
                          <a:pt x="139" y="575"/>
                          <a:pt x="128" y="529"/>
                        </a:cubicBezTo>
                        <a:cubicBezTo>
                          <a:pt x="117" y="483"/>
                          <a:pt x="103" y="435"/>
                          <a:pt x="84" y="393"/>
                        </a:cubicBezTo>
                        <a:cubicBezTo>
                          <a:pt x="65" y="351"/>
                          <a:pt x="29" y="327"/>
                          <a:pt x="16" y="277"/>
                        </a:cubicBezTo>
                        <a:cubicBezTo>
                          <a:pt x="3" y="227"/>
                          <a:pt x="0" y="137"/>
                          <a:pt x="4" y="93"/>
                        </a:cubicBezTo>
                        <a:cubicBezTo>
                          <a:pt x="8" y="49"/>
                          <a:pt x="36" y="0"/>
                          <a:pt x="40" y="13"/>
                        </a:cubicBezTo>
                        <a:cubicBezTo>
                          <a:pt x="44" y="26"/>
                          <a:pt x="19" y="118"/>
                          <a:pt x="28" y="169"/>
                        </a:cubicBezTo>
                        <a:cubicBezTo>
                          <a:pt x="37" y="220"/>
                          <a:pt x="68" y="280"/>
                          <a:pt x="92" y="321"/>
                        </a:cubicBezTo>
                        <a:cubicBezTo>
                          <a:pt x="116" y="362"/>
                          <a:pt x="151" y="376"/>
                          <a:pt x="172" y="417"/>
                        </a:cubicBezTo>
                        <a:cubicBezTo>
                          <a:pt x="193" y="458"/>
                          <a:pt x="202" y="535"/>
                          <a:pt x="216" y="565"/>
                        </a:cubicBezTo>
                        <a:cubicBezTo>
                          <a:pt x="230" y="595"/>
                          <a:pt x="243" y="612"/>
                          <a:pt x="252" y="6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96b66"/>
                      </a:gs>
                      <a:gs pos="100000">
                        <a:srgbClr val="3540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21135600">
                    <a:off x="8327520" y="4878000"/>
                    <a:ext cx="41580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1144">
                        <a:moveTo>
                          <a:pt x="342" y="1128"/>
                        </a:moveTo>
                        <a:cubicBezTo>
                          <a:pt x="359" y="1123"/>
                          <a:pt x="402" y="1087"/>
                          <a:pt x="414" y="1060"/>
                        </a:cubicBezTo>
                        <a:cubicBezTo>
                          <a:pt x="426" y="1033"/>
                          <a:pt x="407" y="1004"/>
                          <a:pt x="414" y="964"/>
                        </a:cubicBezTo>
                        <a:cubicBezTo>
                          <a:pt x="421" y="924"/>
                          <a:pt x="440" y="869"/>
                          <a:pt x="458" y="820"/>
                        </a:cubicBezTo>
                        <a:cubicBezTo>
                          <a:pt x="476" y="771"/>
                          <a:pt x="507" y="720"/>
                          <a:pt x="522" y="672"/>
                        </a:cubicBezTo>
                        <a:cubicBezTo>
                          <a:pt x="537" y="624"/>
                          <a:pt x="547" y="574"/>
                          <a:pt x="546" y="532"/>
                        </a:cubicBezTo>
                        <a:cubicBezTo>
                          <a:pt x="545" y="490"/>
                          <a:pt x="519" y="429"/>
                          <a:pt x="514" y="420"/>
                        </a:cubicBezTo>
                        <a:cubicBezTo>
                          <a:pt x="509" y="411"/>
                          <a:pt x="515" y="450"/>
                          <a:pt x="514" y="480"/>
                        </a:cubicBezTo>
                        <a:cubicBezTo>
                          <a:pt x="513" y="510"/>
                          <a:pt x="518" y="551"/>
                          <a:pt x="506" y="600"/>
                        </a:cubicBezTo>
                        <a:cubicBezTo>
                          <a:pt x="494" y="649"/>
                          <a:pt x="459" y="732"/>
                          <a:pt x="442" y="776"/>
                        </a:cubicBezTo>
                        <a:cubicBezTo>
                          <a:pt x="425" y="820"/>
                          <a:pt x="407" y="881"/>
                          <a:pt x="406" y="864"/>
                        </a:cubicBezTo>
                        <a:cubicBezTo>
                          <a:pt x="405" y="847"/>
                          <a:pt x="424" y="737"/>
                          <a:pt x="434" y="672"/>
                        </a:cubicBezTo>
                        <a:cubicBezTo>
                          <a:pt x="444" y="607"/>
                          <a:pt x="455" y="541"/>
                          <a:pt x="466" y="472"/>
                        </a:cubicBezTo>
                        <a:cubicBezTo>
                          <a:pt x="477" y="403"/>
                          <a:pt x="490" y="321"/>
                          <a:pt x="502" y="256"/>
                        </a:cubicBezTo>
                        <a:cubicBezTo>
                          <a:pt x="514" y="191"/>
                          <a:pt x="529" y="113"/>
                          <a:pt x="538" y="80"/>
                        </a:cubicBezTo>
                        <a:cubicBezTo>
                          <a:pt x="547" y="47"/>
                          <a:pt x="565" y="65"/>
                          <a:pt x="558" y="56"/>
                        </a:cubicBezTo>
                        <a:cubicBezTo>
                          <a:pt x="551" y="47"/>
                          <a:pt x="516" y="31"/>
                          <a:pt x="498" y="24"/>
                        </a:cubicBezTo>
                        <a:cubicBezTo>
                          <a:pt x="480" y="17"/>
                          <a:pt x="455" y="0"/>
                          <a:pt x="446" y="16"/>
                        </a:cubicBezTo>
                        <a:cubicBezTo>
                          <a:pt x="437" y="32"/>
                          <a:pt x="451" y="70"/>
                          <a:pt x="446" y="120"/>
                        </a:cubicBezTo>
                        <a:cubicBezTo>
                          <a:pt x="441" y="170"/>
                          <a:pt x="431" y="229"/>
                          <a:pt x="418" y="316"/>
                        </a:cubicBezTo>
                        <a:cubicBezTo>
                          <a:pt x="405" y="403"/>
                          <a:pt x="382" y="551"/>
                          <a:pt x="366" y="644"/>
                        </a:cubicBezTo>
                        <a:cubicBezTo>
                          <a:pt x="350" y="737"/>
                          <a:pt x="332" y="813"/>
                          <a:pt x="322" y="872"/>
                        </a:cubicBezTo>
                        <a:cubicBezTo>
                          <a:pt x="312" y="931"/>
                          <a:pt x="321" y="1000"/>
                          <a:pt x="306" y="1000"/>
                        </a:cubicBezTo>
                        <a:cubicBezTo>
                          <a:pt x="291" y="1000"/>
                          <a:pt x="263" y="914"/>
                          <a:pt x="234" y="872"/>
                        </a:cubicBezTo>
                        <a:cubicBezTo>
                          <a:pt x="205" y="830"/>
                          <a:pt x="162" y="787"/>
                          <a:pt x="134" y="748"/>
                        </a:cubicBezTo>
                        <a:cubicBezTo>
                          <a:pt x="106" y="709"/>
                          <a:pt x="84" y="675"/>
                          <a:pt x="66" y="636"/>
                        </a:cubicBezTo>
                        <a:cubicBezTo>
                          <a:pt x="48" y="597"/>
                          <a:pt x="34" y="543"/>
                          <a:pt x="26" y="512"/>
                        </a:cubicBezTo>
                        <a:cubicBezTo>
                          <a:pt x="18" y="481"/>
                          <a:pt x="21" y="445"/>
                          <a:pt x="18" y="452"/>
                        </a:cubicBezTo>
                        <a:cubicBezTo>
                          <a:pt x="15" y="459"/>
                          <a:pt x="0" y="513"/>
                          <a:pt x="6" y="552"/>
                        </a:cubicBezTo>
                        <a:cubicBezTo>
                          <a:pt x="12" y="591"/>
                          <a:pt x="29" y="639"/>
                          <a:pt x="54" y="688"/>
                        </a:cubicBezTo>
                        <a:cubicBezTo>
                          <a:pt x="79" y="737"/>
                          <a:pt x="131" y="797"/>
                          <a:pt x="154" y="844"/>
                        </a:cubicBezTo>
                        <a:cubicBezTo>
                          <a:pt x="177" y="891"/>
                          <a:pt x="187" y="929"/>
                          <a:pt x="190" y="968"/>
                        </a:cubicBezTo>
                        <a:cubicBezTo>
                          <a:pt x="193" y="1007"/>
                          <a:pt x="169" y="1048"/>
                          <a:pt x="174" y="1076"/>
                        </a:cubicBezTo>
                        <a:cubicBezTo>
                          <a:pt x="179" y="1104"/>
                          <a:pt x="203" y="1128"/>
                          <a:pt x="222" y="1136"/>
                        </a:cubicBezTo>
                        <a:cubicBezTo>
                          <a:pt x="241" y="1144"/>
                          <a:pt x="271" y="1131"/>
                          <a:pt x="286" y="1124"/>
                        </a:cubicBezTo>
                        <a:cubicBezTo>
                          <a:pt x="301" y="1117"/>
                          <a:pt x="305" y="1090"/>
                          <a:pt x="314" y="1092"/>
                        </a:cubicBezTo>
                        <a:cubicBezTo>
                          <a:pt x="323" y="1094"/>
                          <a:pt x="325" y="1133"/>
                          <a:pt x="342" y="11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96b66"/>
                      </a:gs>
                      <a:gs pos="100000">
                        <a:srgbClr val="3540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21135600">
                    <a:off x="8563680" y="4635000"/>
                    <a:ext cx="13968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365">
                        <a:moveTo>
                          <a:pt x="17" y="321"/>
                        </a:moveTo>
                        <a:cubicBezTo>
                          <a:pt x="0" y="307"/>
                          <a:pt x="2" y="300"/>
                          <a:pt x="1" y="277"/>
                        </a:cubicBezTo>
                        <a:cubicBezTo>
                          <a:pt x="0" y="254"/>
                          <a:pt x="7" y="210"/>
                          <a:pt x="9" y="181"/>
                        </a:cubicBezTo>
                        <a:cubicBezTo>
                          <a:pt x="11" y="152"/>
                          <a:pt x="8" y="128"/>
                          <a:pt x="13" y="101"/>
                        </a:cubicBezTo>
                        <a:cubicBezTo>
                          <a:pt x="18" y="74"/>
                          <a:pt x="27" y="16"/>
                          <a:pt x="37" y="21"/>
                        </a:cubicBezTo>
                        <a:cubicBezTo>
                          <a:pt x="47" y="26"/>
                          <a:pt x="70" y="101"/>
                          <a:pt x="73" y="133"/>
                        </a:cubicBezTo>
                        <a:cubicBezTo>
                          <a:pt x="76" y="165"/>
                          <a:pt x="56" y="200"/>
                          <a:pt x="57" y="213"/>
                        </a:cubicBezTo>
                        <a:cubicBezTo>
                          <a:pt x="58" y="226"/>
                          <a:pt x="74" y="227"/>
                          <a:pt x="81" y="213"/>
                        </a:cubicBezTo>
                        <a:cubicBezTo>
                          <a:pt x="88" y="199"/>
                          <a:pt x="86" y="148"/>
                          <a:pt x="97" y="129"/>
                        </a:cubicBezTo>
                        <a:cubicBezTo>
                          <a:pt x="108" y="110"/>
                          <a:pt x="134" y="118"/>
                          <a:pt x="145" y="97"/>
                        </a:cubicBezTo>
                        <a:cubicBezTo>
                          <a:pt x="156" y="76"/>
                          <a:pt x="154" y="10"/>
                          <a:pt x="161" y="5"/>
                        </a:cubicBezTo>
                        <a:cubicBezTo>
                          <a:pt x="168" y="0"/>
                          <a:pt x="188" y="41"/>
                          <a:pt x="189" y="69"/>
                        </a:cubicBezTo>
                        <a:cubicBezTo>
                          <a:pt x="190" y="97"/>
                          <a:pt x="168" y="139"/>
                          <a:pt x="165" y="173"/>
                        </a:cubicBezTo>
                        <a:cubicBezTo>
                          <a:pt x="162" y="207"/>
                          <a:pt x="175" y="246"/>
                          <a:pt x="169" y="273"/>
                        </a:cubicBezTo>
                        <a:cubicBezTo>
                          <a:pt x="163" y="300"/>
                          <a:pt x="140" y="318"/>
                          <a:pt x="129" y="333"/>
                        </a:cubicBezTo>
                        <a:cubicBezTo>
                          <a:pt x="118" y="348"/>
                          <a:pt x="124" y="365"/>
                          <a:pt x="105" y="361"/>
                        </a:cubicBezTo>
                        <a:cubicBezTo>
                          <a:pt x="86" y="357"/>
                          <a:pt x="34" y="335"/>
                          <a:pt x="17" y="32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96b66"/>
                      </a:gs>
                      <a:gs pos="100000">
                        <a:srgbClr val="71896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7835760" y="5663880"/>
                <a:ext cx="1133280" cy="1015920"/>
                <a:chOff x="7835760" y="5663880"/>
                <a:chExt cx="1133280" cy="10159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8714520" y="6075360"/>
                  <a:ext cx="254520" cy="381960"/>
                </a:xfrm>
                <a:custGeom>
                  <a:avLst/>
                  <a:gdLst/>
                  <a:ahLst/>
                  <a:rect l="l" t="t" r="r" b="b"/>
                  <a:pathLst>
                    <a:path w="855" h="1313">
                      <a:moveTo>
                        <a:pt x="537" y="10"/>
                      </a:moveTo>
                      <a:cubicBezTo>
                        <a:pt x="582" y="0"/>
                        <a:pt x="640" y="55"/>
                        <a:pt x="657" y="76"/>
                      </a:cubicBezTo>
                      <a:cubicBezTo>
                        <a:pt x="674" y="97"/>
                        <a:pt x="625" y="119"/>
                        <a:pt x="639" y="136"/>
                      </a:cubicBezTo>
                      <a:cubicBezTo>
                        <a:pt x="653" y="153"/>
                        <a:pt x="720" y="153"/>
                        <a:pt x="741" y="178"/>
                      </a:cubicBezTo>
                      <a:cubicBezTo>
                        <a:pt x="762" y="203"/>
                        <a:pt x="769" y="264"/>
                        <a:pt x="765" y="286"/>
                      </a:cubicBezTo>
                      <a:cubicBezTo>
                        <a:pt x="761" y="308"/>
                        <a:pt x="716" y="290"/>
                        <a:pt x="717" y="310"/>
                      </a:cubicBezTo>
                      <a:cubicBezTo>
                        <a:pt x="718" y="330"/>
                        <a:pt x="769" y="383"/>
                        <a:pt x="771" y="406"/>
                      </a:cubicBezTo>
                      <a:cubicBezTo>
                        <a:pt x="773" y="429"/>
                        <a:pt x="721" y="428"/>
                        <a:pt x="729" y="448"/>
                      </a:cubicBezTo>
                      <a:cubicBezTo>
                        <a:pt x="737" y="468"/>
                        <a:pt x="809" y="503"/>
                        <a:pt x="819" y="526"/>
                      </a:cubicBezTo>
                      <a:cubicBezTo>
                        <a:pt x="829" y="549"/>
                        <a:pt x="783" y="562"/>
                        <a:pt x="789" y="586"/>
                      </a:cubicBezTo>
                      <a:cubicBezTo>
                        <a:pt x="795" y="610"/>
                        <a:pt x="855" y="638"/>
                        <a:pt x="855" y="670"/>
                      </a:cubicBezTo>
                      <a:cubicBezTo>
                        <a:pt x="855" y="702"/>
                        <a:pt x="799" y="746"/>
                        <a:pt x="789" y="778"/>
                      </a:cubicBezTo>
                      <a:cubicBezTo>
                        <a:pt x="779" y="810"/>
                        <a:pt x="808" y="841"/>
                        <a:pt x="795" y="862"/>
                      </a:cubicBezTo>
                      <a:cubicBezTo>
                        <a:pt x="782" y="883"/>
                        <a:pt x="725" y="883"/>
                        <a:pt x="711" y="904"/>
                      </a:cubicBezTo>
                      <a:cubicBezTo>
                        <a:pt x="697" y="925"/>
                        <a:pt x="729" y="965"/>
                        <a:pt x="711" y="988"/>
                      </a:cubicBezTo>
                      <a:cubicBezTo>
                        <a:pt x="693" y="1011"/>
                        <a:pt x="626" y="1019"/>
                        <a:pt x="603" y="1042"/>
                      </a:cubicBezTo>
                      <a:cubicBezTo>
                        <a:pt x="580" y="1065"/>
                        <a:pt x="582" y="1102"/>
                        <a:pt x="573" y="1126"/>
                      </a:cubicBezTo>
                      <a:cubicBezTo>
                        <a:pt x="564" y="1150"/>
                        <a:pt x="570" y="1176"/>
                        <a:pt x="549" y="1186"/>
                      </a:cubicBezTo>
                      <a:cubicBezTo>
                        <a:pt x="528" y="1196"/>
                        <a:pt x="470" y="1174"/>
                        <a:pt x="447" y="1186"/>
                      </a:cubicBezTo>
                      <a:cubicBezTo>
                        <a:pt x="424" y="1198"/>
                        <a:pt x="445" y="1245"/>
                        <a:pt x="411" y="1258"/>
                      </a:cubicBezTo>
                      <a:cubicBezTo>
                        <a:pt x="377" y="1271"/>
                        <a:pt x="304" y="1262"/>
                        <a:pt x="243" y="1264"/>
                      </a:cubicBezTo>
                      <a:cubicBezTo>
                        <a:pt x="182" y="1266"/>
                        <a:pt x="81" y="1313"/>
                        <a:pt x="45" y="1270"/>
                      </a:cubicBezTo>
                      <a:cubicBezTo>
                        <a:pt x="9" y="1227"/>
                        <a:pt x="0" y="1098"/>
                        <a:pt x="27" y="1006"/>
                      </a:cubicBezTo>
                      <a:cubicBezTo>
                        <a:pt x="54" y="914"/>
                        <a:pt x="178" y="814"/>
                        <a:pt x="207" y="718"/>
                      </a:cubicBezTo>
                      <a:cubicBezTo>
                        <a:pt x="236" y="622"/>
                        <a:pt x="171" y="527"/>
                        <a:pt x="201" y="430"/>
                      </a:cubicBezTo>
                      <a:cubicBezTo>
                        <a:pt x="231" y="333"/>
                        <a:pt x="332" y="206"/>
                        <a:pt x="387" y="136"/>
                      </a:cubicBezTo>
                      <a:cubicBezTo>
                        <a:pt x="442" y="66"/>
                        <a:pt x="492" y="20"/>
                        <a:pt x="537" y="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458560" y="5701320"/>
                  <a:ext cx="442800" cy="537480"/>
                </a:xfrm>
                <a:custGeom>
                  <a:avLst/>
                  <a:gdLst/>
                  <a:ahLst/>
                  <a:rect l="l" t="t" r="r" b="b"/>
                  <a:pathLst>
                    <a:path w="1487" h="1847">
                      <a:moveTo>
                        <a:pt x="64" y="497"/>
                      </a:moveTo>
                      <a:cubicBezTo>
                        <a:pt x="73" y="413"/>
                        <a:pt x="93" y="356"/>
                        <a:pt x="124" y="317"/>
                      </a:cubicBezTo>
                      <a:cubicBezTo>
                        <a:pt x="155" y="278"/>
                        <a:pt x="215" y="281"/>
                        <a:pt x="250" y="263"/>
                      </a:cubicBezTo>
                      <a:cubicBezTo>
                        <a:pt x="285" y="245"/>
                        <a:pt x="311" y="219"/>
                        <a:pt x="334" y="209"/>
                      </a:cubicBezTo>
                      <a:cubicBezTo>
                        <a:pt x="357" y="199"/>
                        <a:pt x="376" y="221"/>
                        <a:pt x="388" y="203"/>
                      </a:cubicBezTo>
                      <a:cubicBezTo>
                        <a:pt x="400" y="185"/>
                        <a:pt x="384" y="125"/>
                        <a:pt x="406" y="101"/>
                      </a:cubicBezTo>
                      <a:cubicBezTo>
                        <a:pt x="428" y="77"/>
                        <a:pt x="490" y="72"/>
                        <a:pt x="520" y="59"/>
                      </a:cubicBezTo>
                      <a:cubicBezTo>
                        <a:pt x="550" y="46"/>
                        <a:pt x="560" y="18"/>
                        <a:pt x="586" y="23"/>
                      </a:cubicBezTo>
                      <a:cubicBezTo>
                        <a:pt x="612" y="28"/>
                        <a:pt x="651" y="91"/>
                        <a:pt x="676" y="89"/>
                      </a:cubicBezTo>
                      <a:cubicBezTo>
                        <a:pt x="701" y="87"/>
                        <a:pt x="714" y="22"/>
                        <a:pt x="736" y="11"/>
                      </a:cubicBezTo>
                      <a:cubicBezTo>
                        <a:pt x="758" y="0"/>
                        <a:pt x="793" y="12"/>
                        <a:pt x="808" y="23"/>
                      </a:cubicBezTo>
                      <a:cubicBezTo>
                        <a:pt x="823" y="34"/>
                        <a:pt x="815" y="72"/>
                        <a:pt x="826" y="77"/>
                      </a:cubicBezTo>
                      <a:cubicBezTo>
                        <a:pt x="837" y="82"/>
                        <a:pt x="864" y="47"/>
                        <a:pt x="874" y="53"/>
                      </a:cubicBezTo>
                      <a:cubicBezTo>
                        <a:pt x="884" y="59"/>
                        <a:pt x="875" y="110"/>
                        <a:pt x="886" y="113"/>
                      </a:cubicBezTo>
                      <a:cubicBezTo>
                        <a:pt x="897" y="116"/>
                        <a:pt x="926" y="68"/>
                        <a:pt x="940" y="71"/>
                      </a:cubicBezTo>
                      <a:cubicBezTo>
                        <a:pt x="954" y="74"/>
                        <a:pt x="952" y="118"/>
                        <a:pt x="970" y="131"/>
                      </a:cubicBezTo>
                      <a:cubicBezTo>
                        <a:pt x="988" y="144"/>
                        <a:pt x="1040" y="133"/>
                        <a:pt x="1048" y="149"/>
                      </a:cubicBezTo>
                      <a:cubicBezTo>
                        <a:pt x="1056" y="165"/>
                        <a:pt x="1013" y="211"/>
                        <a:pt x="1018" y="227"/>
                      </a:cubicBezTo>
                      <a:cubicBezTo>
                        <a:pt x="1023" y="243"/>
                        <a:pt x="1068" y="231"/>
                        <a:pt x="1078" y="245"/>
                      </a:cubicBezTo>
                      <a:cubicBezTo>
                        <a:pt x="1088" y="259"/>
                        <a:pt x="1066" y="299"/>
                        <a:pt x="1078" y="311"/>
                      </a:cubicBezTo>
                      <a:cubicBezTo>
                        <a:pt x="1090" y="323"/>
                        <a:pt x="1132" y="308"/>
                        <a:pt x="1150" y="317"/>
                      </a:cubicBezTo>
                      <a:cubicBezTo>
                        <a:pt x="1168" y="326"/>
                        <a:pt x="1165" y="356"/>
                        <a:pt x="1186" y="365"/>
                      </a:cubicBezTo>
                      <a:cubicBezTo>
                        <a:pt x="1207" y="374"/>
                        <a:pt x="1250" y="362"/>
                        <a:pt x="1276" y="371"/>
                      </a:cubicBezTo>
                      <a:cubicBezTo>
                        <a:pt x="1302" y="380"/>
                        <a:pt x="1336" y="399"/>
                        <a:pt x="1342" y="419"/>
                      </a:cubicBezTo>
                      <a:cubicBezTo>
                        <a:pt x="1348" y="439"/>
                        <a:pt x="1305" y="480"/>
                        <a:pt x="1312" y="491"/>
                      </a:cubicBezTo>
                      <a:cubicBezTo>
                        <a:pt x="1319" y="502"/>
                        <a:pt x="1374" y="472"/>
                        <a:pt x="1384" y="485"/>
                      </a:cubicBezTo>
                      <a:cubicBezTo>
                        <a:pt x="1394" y="498"/>
                        <a:pt x="1367" y="547"/>
                        <a:pt x="1372" y="569"/>
                      </a:cubicBezTo>
                      <a:cubicBezTo>
                        <a:pt x="1377" y="591"/>
                        <a:pt x="1407" y="595"/>
                        <a:pt x="1414" y="617"/>
                      </a:cubicBezTo>
                      <a:cubicBezTo>
                        <a:pt x="1421" y="639"/>
                        <a:pt x="1404" y="685"/>
                        <a:pt x="1414" y="701"/>
                      </a:cubicBezTo>
                      <a:cubicBezTo>
                        <a:pt x="1424" y="717"/>
                        <a:pt x="1473" y="693"/>
                        <a:pt x="1474" y="713"/>
                      </a:cubicBezTo>
                      <a:cubicBezTo>
                        <a:pt x="1475" y="733"/>
                        <a:pt x="1426" y="792"/>
                        <a:pt x="1420" y="821"/>
                      </a:cubicBezTo>
                      <a:cubicBezTo>
                        <a:pt x="1414" y="850"/>
                        <a:pt x="1432" y="865"/>
                        <a:pt x="1438" y="887"/>
                      </a:cubicBezTo>
                      <a:cubicBezTo>
                        <a:pt x="1444" y="909"/>
                        <a:pt x="1462" y="932"/>
                        <a:pt x="1456" y="953"/>
                      </a:cubicBezTo>
                      <a:cubicBezTo>
                        <a:pt x="1450" y="974"/>
                        <a:pt x="1406" y="994"/>
                        <a:pt x="1402" y="1013"/>
                      </a:cubicBezTo>
                      <a:cubicBezTo>
                        <a:pt x="1398" y="1032"/>
                        <a:pt x="1432" y="1050"/>
                        <a:pt x="1432" y="1067"/>
                      </a:cubicBezTo>
                      <a:cubicBezTo>
                        <a:pt x="1432" y="1084"/>
                        <a:pt x="1394" y="1093"/>
                        <a:pt x="1402" y="1115"/>
                      </a:cubicBezTo>
                      <a:cubicBezTo>
                        <a:pt x="1410" y="1137"/>
                        <a:pt x="1473" y="1176"/>
                        <a:pt x="1480" y="1199"/>
                      </a:cubicBezTo>
                      <a:cubicBezTo>
                        <a:pt x="1487" y="1222"/>
                        <a:pt x="1445" y="1236"/>
                        <a:pt x="1444" y="1253"/>
                      </a:cubicBezTo>
                      <a:cubicBezTo>
                        <a:pt x="1443" y="1270"/>
                        <a:pt x="1487" y="1275"/>
                        <a:pt x="1474" y="1301"/>
                      </a:cubicBezTo>
                      <a:cubicBezTo>
                        <a:pt x="1461" y="1327"/>
                        <a:pt x="1392" y="1387"/>
                        <a:pt x="1366" y="1409"/>
                      </a:cubicBezTo>
                      <a:cubicBezTo>
                        <a:pt x="1340" y="1431"/>
                        <a:pt x="1315" y="1419"/>
                        <a:pt x="1318" y="1433"/>
                      </a:cubicBezTo>
                      <a:cubicBezTo>
                        <a:pt x="1321" y="1447"/>
                        <a:pt x="1381" y="1463"/>
                        <a:pt x="1384" y="1493"/>
                      </a:cubicBezTo>
                      <a:cubicBezTo>
                        <a:pt x="1387" y="1523"/>
                        <a:pt x="1360" y="1588"/>
                        <a:pt x="1336" y="1613"/>
                      </a:cubicBezTo>
                      <a:cubicBezTo>
                        <a:pt x="1312" y="1638"/>
                        <a:pt x="1264" y="1627"/>
                        <a:pt x="1240" y="1643"/>
                      </a:cubicBezTo>
                      <a:cubicBezTo>
                        <a:pt x="1216" y="1659"/>
                        <a:pt x="1217" y="1690"/>
                        <a:pt x="1192" y="1709"/>
                      </a:cubicBezTo>
                      <a:cubicBezTo>
                        <a:pt x="1167" y="1728"/>
                        <a:pt x="1148" y="1745"/>
                        <a:pt x="1090" y="1757"/>
                      </a:cubicBezTo>
                      <a:cubicBezTo>
                        <a:pt x="1032" y="1769"/>
                        <a:pt x="944" y="1847"/>
                        <a:pt x="844" y="1781"/>
                      </a:cubicBezTo>
                      <a:cubicBezTo>
                        <a:pt x="744" y="1715"/>
                        <a:pt x="619" y="1521"/>
                        <a:pt x="490" y="1361"/>
                      </a:cubicBezTo>
                      <a:cubicBezTo>
                        <a:pt x="361" y="1201"/>
                        <a:pt x="140" y="966"/>
                        <a:pt x="70" y="821"/>
                      </a:cubicBezTo>
                      <a:cubicBezTo>
                        <a:pt x="0" y="676"/>
                        <a:pt x="55" y="581"/>
                        <a:pt x="64" y="49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835760" y="5663880"/>
                  <a:ext cx="557280" cy="480600"/>
                </a:xfrm>
                <a:custGeom>
                  <a:avLst/>
                  <a:gdLst/>
                  <a:ahLst/>
                  <a:rect l="l" t="t" r="r" b="b"/>
                  <a:pathLst>
                    <a:path w="1871" h="1652">
                      <a:moveTo>
                        <a:pt x="367" y="1622"/>
                      </a:moveTo>
                      <a:cubicBezTo>
                        <a:pt x="279" y="1652"/>
                        <a:pt x="221" y="1581"/>
                        <a:pt x="193" y="1550"/>
                      </a:cubicBezTo>
                      <a:cubicBezTo>
                        <a:pt x="165" y="1519"/>
                        <a:pt x="212" y="1457"/>
                        <a:pt x="199" y="1436"/>
                      </a:cubicBezTo>
                      <a:cubicBezTo>
                        <a:pt x="186" y="1415"/>
                        <a:pt x="143" y="1445"/>
                        <a:pt x="115" y="1424"/>
                      </a:cubicBezTo>
                      <a:cubicBezTo>
                        <a:pt x="87" y="1403"/>
                        <a:pt x="31" y="1342"/>
                        <a:pt x="31" y="1310"/>
                      </a:cubicBezTo>
                      <a:cubicBezTo>
                        <a:pt x="31" y="1278"/>
                        <a:pt x="116" y="1252"/>
                        <a:pt x="115" y="1232"/>
                      </a:cubicBezTo>
                      <a:cubicBezTo>
                        <a:pt x="114" y="1212"/>
                        <a:pt x="36" y="1206"/>
                        <a:pt x="25" y="1190"/>
                      </a:cubicBezTo>
                      <a:cubicBezTo>
                        <a:pt x="14" y="1174"/>
                        <a:pt x="53" y="1152"/>
                        <a:pt x="49" y="1136"/>
                      </a:cubicBezTo>
                      <a:cubicBezTo>
                        <a:pt x="45" y="1120"/>
                        <a:pt x="2" y="1109"/>
                        <a:pt x="1" y="1094"/>
                      </a:cubicBezTo>
                      <a:cubicBezTo>
                        <a:pt x="0" y="1079"/>
                        <a:pt x="40" y="1059"/>
                        <a:pt x="43" y="1046"/>
                      </a:cubicBezTo>
                      <a:cubicBezTo>
                        <a:pt x="46" y="1033"/>
                        <a:pt x="10" y="1025"/>
                        <a:pt x="19" y="1016"/>
                      </a:cubicBezTo>
                      <a:cubicBezTo>
                        <a:pt x="28" y="1007"/>
                        <a:pt x="90" y="1012"/>
                        <a:pt x="97" y="992"/>
                      </a:cubicBezTo>
                      <a:cubicBezTo>
                        <a:pt x="104" y="972"/>
                        <a:pt x="59" y="916"/>
                        <a:pt x="61" y="896"/>
                      </a:cubicBezTo>
                      <a:cubicBezTo>
                        <a:pt x="63" y="876"/>
                        <a:pt x="103" y="888"/>
                        <a:pt x="109" y="872"/>
                      </a:cubicBezTo>
                      <a:cubicBezTo>
                        <a:pt x="115" y="856"/>
                        <a:pt x="83" y="819"/>
                        <a:pt x="97" y="800"/>
                      </a:cubicBezTo>
                      <a:cubicBezTo>
                        <a:pt x="111" y="781"/>
                        <a:pt x="185" y="772"/>
                        <a:pt x="193" y="758"/>
                      </a:cubicBezTo>
                      <a:cubicBezTo>
                        <a:pt x="201" y="744"/>
                        <a:pt x="147" y="735"/>
                        <a:pt x="145" y="716"/>
                      </a:cubicBezTo>
                      <a:cubicBezTo>
                        <a:pt x="143" y="697"/>
                        <a:pt x="171" y="668"/>
                        <a:pt x="181" y="644"/>
                      </a:cubicBezTo>
                      <a:cubicBezTo>
                        <a:pt x="191" y="620"/>
                        <a:pt x="190" y="587"/>
                        <a:pt x="205" y="572"/>
                      </a:cubicBezTo>
                      <a:cubicBezTo>
                        <a:pt x="220" y="557"/>
                        <a:pt x="266" y="567"/>
                        <a:pt x="271" y="554"/>
                      </a:cubicBezTo>
                      <a:cubicBezTo>
                        <a:pt x="276" y="541"/>
                        <a:pt x="229" y="512"/>
                        <a:pt x="235" y="494"/>
                      </a:cubicBezTo>
                      <a:cubicBezTo>
                        <a:pt x="241" y="476"/>
                        <a:pt x="298" y="474"/>
                        <a:pt x="307" y="446"/>
                      </a:cubicBezTo>
                      <a:cubicBezTo>
                        <a:pt x="316" y="418"/>
                        <a:pt x="284" y="345"/>
                        <a:pt x="289" y="326"/>
                      </a:cubicBezTo>
                      <a:cubicBezTo>
                        <a:pt x="294" y="307"/>
                        <a:pt x="327" y="338"/>
                        <a:pt x="337" y="332"/>
                      </a:cubicBezTo>
                      <a:cubicBezTo>
                        <a:pt x="347" y="326"/>
                        <a:pt x="334" y="297"/>
                        <a:pt x="349" y="290"/>
                      </a:cubicBezTo>
                      <a:cubicBezTo>
                        <a:pt x="364" y="283"/>
                        <a:pt x="417" y="302"/>
                        <a:pt x="427" y="290"/>
                      </a:cubicBezTo>
                      <a:cubicBezTo>
                        <a:pt x="437" y="278"/>
                        <a:pt x="394" y="220"/>
                        <a:pt x="409" y="218"/>
                      </a:cubicBezTo>
                      <a:cubicBezTo>
                        <a:pt x="424" y="216"/>
                        <a:pt x="511" y="283"/>
                        <a:pt x="517" y="278"/>
                      </a:cubicBezTo>
                      <a:cubicBezTo>
                        <a:pt x="523" y="273"/>
                        <a:pt x="452" y="219"/>
                        <a:pt x="445" y="188"/>
                      </a:cubicBezTo>
                      <a:cubicBezTo>
                        <a:pt x="438" y="157"/>
                        <a:pt x="456" y="98"/>
                        <a:pt x="475" y="92"/>
                      </a:cubicBezTo>
                      <a:cubicBezTo>
                        <a:pt x="494" y="86"/>
                        <a:pt x="531" y="153"/>
                        <a:pt x="559" y="152"/>
                      </a:cubicBezTo>
                      <a:cubicBezTo>
                        <a:pt x="587" y="151"/>
                        <a:pt x="605" y="99"/>
                        <a:pt x="643" y="86"/>
                      </a:cubicBezTo>
                      <a:cubicBezTo>
                        <a:pt x="681" y="73"/>
                        <a:pt x="760" y="85"/>
                        <a:pt x="787" y="74"/>
                      </a:cubicBezTo>
                      <a:cubicBezTo>
                        <a:pt x="814" y="63"/>
                        <a:pt x="792" y="26"/>
                        <a:pt x="805" y="20"/>
                      </a:cubicBezTo>
                      <a:cubicBezTo>
                        <a:pt x="818" y="14"/>
                        <a:pt x="848" y="40"/>
                        <a:pt x="865" y="38"/>
                      </a:cubicBezTo>
                      <a:cubicBezTo>
                        <a:pt x="882" y="36"/>
                        <a:pt x="874" y="6"/>
                        <a:pt x="907" y="8"/>
                      </a:cubicBezTo>
                      <a:cubicBezTo>
                        <a:pt x="940" y="10"/>
                        <a:pt x="1013" y="44"/>
                        <a:pt x="1063" y="50"/>
                      </a:cubicBezTo>
                      <a:cubicBezTo>
                        <a:pt x="1113" y="56"/>
                        <a:pt x="1174" y="52"/>
                        <a:pt x="1207" y="44"/>
                      </a:cubicBezTo>
                      <a:cubicBezTo>
                        <a:pt x="1240" y="36"/>
                        <a:pt x="1237" y="0"/>
                        <a:pt x="1261" y="2"/>
                      </a:cubicBezTo>
                      <a:cubicBezTo>
                        <a:pt x="1285" y="4"/>
                        <a:pt x="1322" y="51"/>
                        <a:pt x="1351" y="56"/>
                      </a:cubicBezTo>
                      <a:cubicBezTo>
                        <a:pt x="1380" y="61"/>
                        <a:pt x="1414" y="23"/>
                        <a:pt x="1435" y="32"/>
                      </a:cubicBezTo>
                      <a:cubicBezTo>
                        <a:pt x="1456" y="41"/>
                        <a:pt x="1461" y="102"/>
                        <a:pt x="1477" y="110"/>
                      </a:cubicBezTo>
                      <a:cubicBezTo>
                        <a:pt x="1493" y="118"/>
                        <a:pt x="1518" y="76"/>
                        <a:pt x="1531" y="80"/>
                      </a:cubicBezTo>
                      <a:cubicBezTo>
                        <a:pt x="1544" y="84"/>
                        <a:pt x="1533" y="120"/>
                        <a:pt x="1555" y="134"/>
                      </a:cubicBezTo>
                      <a:cubicBezTo>
                        <a:pt x="1577" y="148"/>
                        <a:pt x="1629" y="149"/>
                        <a:pt x="1663" y="164"/>
                      </a:cubicBezTo>
                      <a:cubicBezTo>
                        <a:pt x="1697" y="179"/>
                        <a:pt x="1730" y="194"/>
                        <a:pt x="1759" y="224"/>
                      </a:cubicBezTo>
                      <a:cubicBezTo>
                        <a:pt x="1788" y="254"/>
                        <a:pt x="1871" y="281"/>
                        <a:pt x="1837" y="344"/>
                      </a:cubicBezTo>
                      <a:cubicBezTo>
                        <a:pt x="1803" y="407"/>
                        <a:pt x="1660" y="494"/>
                        <a:pt x="1555" y="602"/>
                      </a:cubicBezTo>
                      <a:cubicBezTo>
                        <a:pt x="1450" y="710"/>
                        <a:pt x="1346" y="864"/>
                        <a:pt x="1207" y="992"/>
                      </a:cubicBezTo>
                      <a:cubicBezTo>
                        <a:pt x="1068" y="1120"/>
                        <a:pt x="862" y="1262"/>
                        <a:pt x="721" y="1370"/>
                      </a:cubicBezTo>
                      <a:cubicBezTo>
                        <a:pt x="580" y="1478"/>
                        <a:pt x="455" y="1592"/>
                        <a:pt x="367" y="162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837200" y="5970240"/>
                  <a:ext cx="296280" cy="605520"/>
                </a:xfrm>
                <a:custGeom>
                  <a:avLst/>
                  <a:gdLst/>
                  <a:ahLst/>
                  <a:rect l="l" t="t" r="r" b="b"/>
                  <a:pathLst>
                    <a:path w="995" h="2081">
                      <a:moveTo>
                        <a:pt x="836" y="119"/>
                      </a:moveTo>
                      <a:cubicBezTo>
                        <a:pt x="804" y="34"/>
                        <a:pt x="744" y="22"/>
                        <a:pt x="698" y="11"/>
                      </a:cubicBezTo>
                      <a:cubicBezTo>
                        <a:pt x="652" y="0"/>
                        <a:pt x="606" y="40"/>
                        <a:pt x="560" y="53"/>
                      </a:cubicBezTo>
                      <a:cubicBezTo>
                        <a:pt x="514" y="66"/>
                        <a:pt x="459" y="50"/>
                        <a:pt x="422" y="89"/>
                      </a:cubicBezTo>
                      <a:cubicBezTo>
                        <a:pt x="385" y="128"/>
                        <a:pt x="359" y="227"/>
                        <a:pt x="338" y="287"/>
                      </a:cubicBezTo>
                      <a:cubicBezTo>
                        <a:pt x="317" y="347"/>
                        <a:pt x="324" y="401"/>
                        <a:pt x="296" y="449"/>
                      </a:cubicBezTo>
                      <a:cubicBezTo>
                        <a:pt x="268" y="497"/>
                        <a:pt x="185" y="546"/>
                        <a:pt x="170" y="575"/>
                      </a:cubicBezTo>
                      <a:cubicBezTo>
                        <a:pt x="155" y="604"/>
                        <a:pt x="213" y="602"/>
                        <a:pt x="206" y="623"/>
                      </a:cubicBezTo>
                      <a:cubicBezTo>
                        <a:pt x="199" y="644"/>
                        <a:pt x="134" y="672"/>
                        <a:pt x="128" y="701"/>
                      </a:cubicBezTo>
                      <a:cubicBezTo>
                        <a:pt x="122" y="730"/>
                        <a:pt x="173" y="771"/>
                        <a:pt x="170" y="797"/>
                      </a:cubicBezTo>
                      <a:cubicBezTo>
                        <a:pt x="167" y="823"/>
                        <a:pt x="127" y="837"/>
                        <a:pt x="110" y="857"/>
                      </a:cubicBezTo>
                      <a:cubicBezTo>
                        <a:pt x="93" y="877"/>
                        <a:pt x="73" y="898"/>
                        <a:pt x="68" y="917"/>
                      </a:cubicBezTo>
                      <a:cubicBezTo>
                        <a:pt x="63" y="936"/>
                        <a:pt x="90" y="954"/>
                        <a:pt x="80" y="971"/>
                      </a:cubicBezTo>
                      <a:cubicBezTo>
                        <a:pt x="70" y="988"/>
                        <a:pt x="16" y="1001"/>
                        <a:pt x="8" y="1019"/>
                      </a:cubicBezTo>
                      <a:cubicBezTo>
                        <a:pt x="0" y="1037"/>
                        <a:pt x="31" y="1063"/>
                        <a:pt x="32" y="1079"/>
                      </a:cubicBezTo>
                      <a:cubicBezTo>
                        <a:pt x="33" y="1095"/>
                        <a:pt x="7" y="1103"/>
                        <a:pt x="14" y="1115"/>
                      </a:cubicBezTo>
                      <a:cubicBezTo>
                        <a:pt x="21" y="1127"/>
                        <a:pt x="70" y="1131"/>
                        <a:pt x="74" y="1151"/>
                      </a:cubicBezTo>
                      <a:cubicBezTo>
                        <a:pt x="78" y="1171"/>
                        <a:pt x="33" y="1204"/>
                        <a:pt x="38" y="1235"/>
                      </a:cubicBezTo>
                      <a:cubicBezTo>
                        <a:pt x="43" y="1266"/>
                        <a:pt x="83" y="1313"/>
                        <a:pt x="104" y="1337"/>
                      </a:cubicBezTo>
                      <a:cubicBezTo>
                        <a:pt x="125" y="1361"/>
                        <a:pt x="160" y="1361"/>
                        <a:pt x="164" y="1379"/>
                      </a:cubicBezTo>
                      <a:cubicBezTo>
                        <a:pt x="168" y="1397"/>
                        <a:pt x="120" y="1427"/>
                        <a:pt x="128" y="1445"/>
                      </a:cubicBezTo>
                      <a:cubicBezTo>
                        <a:pt x="136" y="1463"/>
                        <a:pt x="200" y="1472"/>
                        <a:pt x="212" y="1487"/>
                      </a:cubicBezTo>
                      <a:cubicBezTo>
                        <a:pt x="224" y="1502"/>
                        <a:pt x="189" y="1526"/>
                        <a:pt x="200" y="1535"/>
                      </a:cubicBezTo>
                      <a:cubicBezTo>
                        <a:pt x="211" y="1544"/>
                        <a:pt x="260" y="1531"/>
                        <a:pt x="278" y="1541"/>
                      </a:cubicBezTo>
                      <a:cubicBezTo>
                        <a:pt x="296" y="1551"/>
                        <a:pt x="287" y="1585"/>
                        <a:pt x="308" y="1595"/>
                      </a:cubicBezTo>
                      <a:cubicBezTo>
                        <a:pt x="329" y="1605"/>
                        <a:pt x="383" y="1589"/>
                        <a:pt x="404" y="1601"/>
                      </a:cubicBezTo>
                      <a:cubicBezTo>
                        <a:pt x="425" y="1613"/>
                        <a:pt x="426" y="1650"/>
                        <a:pt x="434" y="1667"/>
                      </a:cubicBezTo>
                      <a:cubicBezTo>
                        <a:pt x="442" y="1684"/>
                        <a:pt x="438" y="1685"/>
                        <a:pt x="452" y="1703"/>
                      </a:cubicBezTo>
                      <a:cubicBezTo>
                        <a:pt x="466" y="1721"/>
                        <a:pt x="514" y="1752"/>
                        <a:pt x="518" y="1775"/>
                      </a:cubicBezTo>
                      <a:cubicBezTo>
                        <a:pt x="522" y="1798"/>
                        <a:pt x="469" y="1829"/>
                        <a:pt x="476" y="1841"/>
                      </a:cubicBezTo>
                      <a:cubicBezTo>
                        <a:pt x="483" y="1853"/>
                        <a:pt x="546" y="1836"/>
                        <a:pt x="560" y="1847"/>
                      </a:cubicBezTo>
                      <a:cubicBezTo>
                        <a:pt x="574" y="1858"/>
                        <a:pt x="540" y="1896"/>
                        <a:pt x="560" y="1907"/>
                      </a:cubicBezTo>
                      <a:cubicBezTo>
                        <a:pt x="580" y="1918"/>
                        <a:pt x="660" y="1897"/>
                        <a:pt x="680" y="1913"/>
                      </a:cubicBezTo>
                      <a:cubicBezTo>
                        <a:pt x="700" y="1929"/>
                        <a:pt x="667" y="1987"/>
                        <a:pt x="680" y="2003"/>
                      </a:cubicBezTo>
                      <a:cubicBezTo>
                        <a:pt x="693" y="2019"/>
                        <a:pt x="734" y="2002"/>
                        <a:pt x="758" y="2009"/>
                      </a:cubicBezTo>
                      <a:cubicBezTo>
                        <a:pt x="782" y="2016"/>
                        <a:pt x="799" y="2081"/>
                        <a:pt x="824" y="2045"/>
                      </a:cubicBezTo>
                      <a:cubicBezTo>
                        <a:pt x="849" y="2009"/>
                        <a:pt x="880" y="1947"/>
                        <a:pt x="908" y="1793"/>
                      </a:cubicBezTo>
                      <a:cubicBezTo>
                        <a:pt x="936" y="1639"/>
                        <a:pt x="995" y="1333"/>
                        <a:pt x="992" y="1121"/>
                      </a:cubicBezTo>
                      <a:cubicBezTo>
                        <a:pt x="989" y="909"/>
                        <a:pt x="914" y="686"/>
                        <a:pt x="890" y="521"/>
                      </a:cubicBezTo>
                      <a:cubicBezTo>
                        <a:pt x="866" y="356"/>
                        <a:pt x="868" y="204"/>
                        <a:pt x="836" y="11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030520" y="5967720"/>
                  <a:ext cx="165600" cy="291600"/>
                </a:xfrm>
                <a:custGeom>
                  <a:avLst/>
                  <a:gdLst/>
                  <a:ahLst/>
                  <a:rect l="l" t="t" r="r" b="b"/>
                  <a:pathLst>
                    <a:path w="557" h="1003">
                      <a:moveTo>
                        <a:pt x="343" y="68"/>
                      </a:moveTo>
                      <a:cubicBezTo>
                        <a:pt x="287" y="42"/>
                        <a:pt x="222" y="0"/>
                        <a:pt x="193" y="8"/>
                      </a:cubicBezTo>
                      <a:cubicBezTo>
                        <a:pt x="164" y="16"/>
                        <a:pt x="184" y="87"/>
                        <a:pt x="169" y="116"/>
                      </a:cubicBezTo>
                      <a:cubicBezTo>
                        <a:pt x="154" y="145"/>
                        <a:pt x="106" y="165"/>
                        <a:pt x="103" y="182"/>
                      </a:cubicBezTo>
                      <a:cubicBezTo>
                        <a:pt x="100" y="199"/>
                        <a:pt x="153" y="204"/>
                        <a:pt x="151" y="218"/>
                      </a:cubicBezTo>
                      <a:cubicBezTo>
                        <a:pt x="149" y="232"/>
                        <a:pt x="92" y="246"/>
                        <a:pt x="91" y="266"/>
                      </a:cubicBezTo>
                      <a:cubicBezTo>
                        <a:pt x="90" y="286"/>
                        <a:pt x="150" y="308"/>
                        <a:pt x="145" y="338"/>
                      </a:cubicBezTo>
                      <a:cubicBezTo>
                        <a:pt x="140" y="368"/>
                        <a:pt x="82" y="414"/>
                        <a:pt x="61" y="446"/>
                      </a:cubicBezTo>
                      <a:cubicBezTo>
                        <a:pt x="40" y="478"/>
                        <a:pt x="11" y="500"/>
                        <a:pt x="19" y="530"/>
                      </a:cubicBezTo>
                      <a:cubicBezTo>
                        <a:pt x="27" y="560"/>
                        <a:pt x="97" y="587"/>
                        <a:pt x="109" y="626"/>
                      </a:cubicBezTo>
                      <a:cubicBezTo>
                        <a:pt x="121" y="665"/>
                        <a:pt x="106" y="729"/>
                        <a:pt x="91" y="764"/>
                      </a:cubicBezTo>
                      <a:cubicBezTo>
                        <a:pt x="76" y="799"/>
                        <a:pt x="0" y="816"/>
                        <a:pt x="19" y="836"/>
                      </a:cubicBezTo>
                      <a:cubicBezTo>
                        <a:pt x="38" y="856"/>
                        <a:pt x="151" y="865"/>
                        <a:pt x="205" y="884"/>
                      </a:cubicBezTo>
                      <a:cubicBezTo>
                        <a:pt x="259" y="903"/>
                        <a:pt x="323" y="1003"/>
                        <a:pt x="343" y="950"/>
                      </a:cubicBezTo>
                      <a:cubicBezTo>
                        <a:pt x="363" y="897"/>
                        <a:pt x="297" y="665"/>
                        <a:pt x="325" y="566"/>
                      </a:cubicBezTo>
                      <a:cubicBezTo>
                        <a:pt x="353" y="467"/>
                        <a:pt x="477" y="423"/>
                        <a:pt x="511" y="356"/>
                      </a:cubicBezTo>
                      <a:cubicBezTo>
                        <a:pt x="545" y="289"/>
                        <a:pt x="557" y="210"/>
                        <a:pt x="529" y="164"/>
                      </a:cubicBezTo>
                      <a:cubicBezTo>
                        <a:pt x="501" y="118"/>
                        <a:pt x="399" y="94"/>
                        <a:pt x="343" y="6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db1d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97400" y="6225480"/>
                  <a:ext cx="403560" cy="446760"/>
                </a:xfrm>
                <a:custGeom>
                  <a:avLst/>
                  <a:gdLst/>
                  <a:ahLst/>
                  <a:rect l="l" t="t" r="r" b="b"/>
                  <a:pathLst>
                    <a:path w="1355" h="1535">
                      <a:moveTo>
                        <a:pt x="712" y="76"/>
                      </a:moveTo>
                      <a:cubicBezTo>
                        <a:pt x="619" y="0"/>
                        <a:pt x="436" y="153"/>
                        <a:pt x="328" y="196"/>
                      </a:cubicBezTo>
                      <a:cubicBezTo>
                        <a:pt x="220" y="239"/>
                        <a:pt x="118" y="267"/>
                        <a:pt x="64" y="334"/>
                      </a:cubicBezTo>
                      <a:cubicBezTo>
                        <a:pt x="10" y="401"/>
                        <a:pt x="8" y="528"/>
                        <a:pt x="4" y="598"/>
                      </a:cubicBezTo>
                      <a:cubicBezTo>
                        <a:pt x="0" y="668"/>
                        <a:pt x="17" y="735"/>
                        <a:pt x="40" y="754"/>
                      </a:cubicBezTo>
                      <a:cubicBezTo>
                        <a:pt x="63" y="773"/>
                        <a:pt x="115" y="715"/>
                        <a:pt x="142" y="712"/>
                      </a:cubicBezTo>
                      <a:cubicBezTo>
                        <a:pt x="169" y="709"/>
                        <a:pt x="194" y="715"/>
                        <a:pt x="202" y="736"/>
                      </a:cubicBezTo>
                      <a:cubicBezTo>
                        <a:pt x="210" y="757"/>
                        <a:pt x="184" y="819"/>
                        <a:pt x="190" y="838"/>
                      </a:cubicBezTo>
                      <a:cubicBezTo>
                        <a:pt x="196" y="857"/>
                        <a:pt x="235" y="831"/>
                        <a:pt x="238" y="850"/>
                      </a:cubicBezTo>
                      <a:cubicBezTo>
                        <a:pt x="241" y="869"/>
                        <a:pt x="206" y="928"/>
                        <a:pt x="208" y="952"/>
                      </a:cubicBezTo>
                      <a:cubicBezTo>
                        <a:pt x="210" y="976"/>
                        <a:pt x="250" y="973"/>
                        <a:pt x="250" y="994"/>
                      </a:cubicBezTo>
                      <a:cubicBezTo>
                        <a:pt x="250" y="1015"/>
                        <a:pt x="208" y="1057"/>
                        <a:pt x="208" y="1078"/>
                      </a:cubicBezTo>
                      <a:cubicBezTo>
                        <a:pt x="208" y="1099"/>
                        <a:pt x="245" y="1101"/>
                        <a:pt x="250" y="1120"/>
                      </a:cubicBezTo>
                      <a:cubicBezTo>
                        <a:pt x="255" y="1139"/>
                        <a:pt x="228" y="1175"/>
                        <a:pt x="238" y="1192"/>
                      </a:cubicBezTo>
                      <a:cubicBezTo>
                        <a:pt x="248" y="1209"/>
                        <a:pt x="295" y="1203"/>
                        <a:pt x="310" y="1222"/>
                      </a:cubicBezTo>
                      <a:cubicBezTo>
                        <a:pt x="325" y="1241"/>
                        <a:pt x="312" y="1303"/>
                        <a:pt x="328" y="1306"/>
                      </a:cubicBezTo>
                      <a:cubicBezTo>
                        <a:pt x="344" y="1309"/>
                        <a:pt x="393" y="1228"/>
                        <a:pt x="406" y="1240"/>
                      </a:cubicBezTo>
                      <a:cubicBezTo>
                        <a:pt x="419" y="1252"/>
                        <a:pt x="397" y="1349"/>
                        <a:pt x="406" y="1378"/>
                      </a:cubicBezTo>
                      <a:cubicBezTo>
                        <a:pt x="415" y="1407"/>
                        <a:pt x="445" y="1423"/>
                        <a:pt x="460" y="1414"/>
                      </a:cubicBezTo>
                      <a:cubicBezTo>
                        <a:pt x="475" y="1405"/>
                        <a:pt x="486" y="1322"/>
                        <a:pt x="496" y="1324"/>
                      </a:cubicBezTo>
                      <a:cubicBezTo>
                        <a:pt x="506" y="1326"/>
                        <a:pt x="505" y="1407"/>
                        <a:pt x="520" y="1426"/>
                      </a:cubicBezTo>
                      <a:cubicBezTo>
                        <a:pt x="535" y="1445"/>
                        <a:pt x="569" y="1447"/>
                        <a:pt x="586" y="1438"/>
                      </a:cubicBezTo>
                      <a:cubicBezTo>
                        <a:pt x="603" y="1429"/>
                        <a:pt x="616" y="1362"/>
                        <a:pt x="622" y="1372"/>
                      </a:cubicBezTo>
                      <a:cubicBezTo>
                        <a:pt x="628" y="1382"/>
                        <a:pt x="608" y="1476"/>
                        <a:pt x="622" y="1498"/>
                      </a:cubicBezTo>
                      <a:cubicBezTo>
                        <a:pt x="636" y="1520"/>
                        <a:pt x="688" y="1511"/>
                        <a:pt x="706" y="1504"/>
                      </a:cubicBezTo>
                      <a:cubicBezTo>
                        <a:pt x="724" y="1497"/>
                        <a:pt x="721" y="1454"/>
                        <a:pt x="730" y="1456"/>
                      </a:cubicBezTo>
                      <a:cubicBezTo>
                        <a:pt x="739" y="1458"/>
                        <a:pt x="739" y="1509"/>
                        <a:pt x="760" y="1516"/>
                      </a:cubicBezTo>
                      <a:cubicBezTo>
                        <a:pt x="781" y="1523"/>
                        <a:pt x="837" y="1513"/>
                        <a:pt x="856" y="1498"/>
                      </a:cubicBezTo>
                      <a:cubicBezTo>
                        <a:pt x="875" y="1483"/>
                        <a:pt x="866" y="1423"/>
                        <a:pt x="874" y="1426"/>
                      </a:cubicBezTo>
                      <a:cubicBezTo>
                        <a:pt x="882" y="1429"/>
                        <a:pt x="883" y="1499"/>
                        <a:pt x="904" y="1516"/>
                      </a:cubicBezTo>
                      <a:cubicBezTo>
                        <a:pt x="925" y="1533"/>
                        <a:pt x="976" y="1535"/>
                        <a:pt x="1000" y="1528"/>
                      </a:cubicBezTo>
                      <a:cubicBezTo>
                        <a:pt x="1024" y="1521"/>
                        <a:pt x="1038" y="1489"/>
                        <a:pt x="1048" y="1474"/>
                      </a:cubicBezTo>
                      <a:cubicBezTo>
                        <a:pt x="1058" y="1459"/>
                        <a:pt x="1050" y="1433"/>
                        <a:pt x="1060" y="1438"/>
                      </a:cubicBezTo>
                      <a:cubicBezTo>
                        <a:pt x="1070" y="1443"/>
                        <a:pt x="1088" y="1500"/>
                        <a:pt x="1108" y="1504"/>
                      </a:cubicBezTo>
                      <a:cubicBezTo>
                        <a:pt x="1128" y="1508"/>
                        <a:pt x="1161" y="1471"/>
                        <a:pt x="1180" y="1462"/>
                      </a:cubicBezTo>
                      <a:cubicBezTo>
                        <a:pt x="1199" y="1453"/>
                        <a:pt x="1213" y="1466"/>
                        <a:pt x="1222" y="1450"/>
                      </a:cubicBezTo>
                      <a:cubicBezTo>
                        <a:pt x="1231" y="1434"/>
                        <a:pt x="1223" y="1378"/>
                        <a:pt x="1234" y="1366"/>
                      </a:cubicBezTo>
                      <a:cubicBezTo>
                        <a:pt x="1245" y="1354"/>
                        <a:pt x="1270" y="1395"/>
                        <a:pt x="1288" y="1378"/>
                      </a:cubicBezTo>
                      <a:cubicBezTo>
                        <a:pt x="1306" y="1361"/>
                        <a:pt x="1355" y="1327"/>
                        <a:pt x="1342" y="1264"/>
                      </a:cubicBezTo>
                      <a:cubicBezTo>
                        <a:pt x="1329" y="1201"/>
                        <a:pt x="1286" y="1102"/>
                        <a:pt x="1210" y="1000"/>
                      </a:cubicBezTo>
                      <a:cubicBezTo>
                        <a:pt x="1134" y="898"/>
                        <a:pt x="969" y="807"/>
                        <a:pt x="886" y="652"/>
                      </a:cubicBezTo>
                      <a:cubicBezTo>
                        <a:pt x="803" y="497"/>
                        <a:pt x="805" y="152"/>
                        <a:pt x="712" y="7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341560" y="6393960"/>
                  <a:ext cx="470880" cy="285840"/>
                </a:xfrm>
                <a:custGeom>
                  <a:avLst/>
                  <a:gdLst/>
                  <a:ahLst/>
                  <a:rect l="l" t="t" r="r" b="b"/>
                  <a:pathLst>
                    <a:path w="1581" h="982">
                      <a:moveTo>
                        <a:pt x="0" y="499"/>
                      </a:moveTo>
                      <a:cubicBezTo>
                        <a:pt x="33" y="548"/>
                        <a:pt x="67" y="597"/>
                        <a:pt x="96" y="637"/>
                      </a:cubicBezTo>
                      <a:cubicBezTo>
                        <a:pt x="125" y="677"/>
                        <a:pt x="150" y="717"/>
                        <a:pt x="174" y="739"/>
                      </a:cubicBezTo>
                      <a:cubicBezTo>
                        <a:pt x="198" y="761"/>
                        <a:pt x="228" y="753"/>
                        <a:pt x="240" y="769"/>
                      </a:cubicBezTo>
                      <a:cubicBezTo>
                        <a:pt x="252" y="785"/>
                        <a:pt x="225" y="809"/>
                        <a:pt x="246" y="835"/>
                      </a:cubicBezTo>
                      <a:cubicBezTo>
                        <a:pt x="267" y="861"/>
                        <a:pt x="333" y="914"/>
                        <a:pt x="366" y="925"/>
                      </a:cubicBezTo>
                      <a:cubicBezTo>
                        <a:pt x="399" y="936"/>
                        <a:pt x="426" y="893"/>
                        <a:pt x="444" y="901"/>
                      </a:cubicBezTo>
                      <a:cubicBezTo>
                        <a:pt x="462" y="909"/>
                        <a:pt x="449" y="964"/>
                        <a:pt x="474" y="973"/>
                      </a:cubicBezTo>
                      <a:cubicBezTo>
                        <a:pt x="499" y="982"/>
                        <a:pt x="569" y="965"/>
                        <a:pt x="594" y="955"/>
                      </a:cubicBezTo>
                      <a:cubicBezTo>
                        <a:pt x="619" y="945"/>
                        <a:pt x="606" y="919"/>
                        <a:pt x="624" y="913"/>
                      </a:cubicBezTo>
                      <a:cubicBezTo>
                        <a:pt x="642" y="907"/>
                        <a:pt x="674" y="923"/>
                        <a:pt x="702" y="919"/>
                      </a:cubicBezTo>
                      <a:cubicBezTo>
                        <a:pt x="730" y="915"/>
                        <a:pt x="778" y="908"/>
                        <a:pt x="792" y="889"/>
                      </a:cubicBezTo>
                      <a:cubicBezTo>
                        <a:pt x="806" y="870"/>
                        <a:pt x="774" y="813"/>
                        <a:pt x="786" y="805"/>
                      </a:cubicBezTo>
                      <a:cubicBezTo>
                        <a:pt x="798" y="797"/>
                        <a:pt x="839" y="847"/>
                        <a:pt x="864" y="841"/>
                      </a:cubicBezTo>
                      <a:cubicBezTo>
                        <a:pt x="889" y="835"/>
                        <a:pt x="910" y="781"/>
                        <a:pt x="936" y="769"/>
                      </a:cubicBezTo>
                      <a:cubicBezTo>
                        <a:pt x="962" y="757"/>
                        <a:pt x="997" y="783"/>
                        <a:pt x="1020" y="769"/>
                      </a:cubicBezTo>
                      <a:cubicBezTo>
                        <a:pt x="1043" y="755"/>
                        <a:pt x="1070" y="711"/>
                        <a:pt x="1074" y="685"/>
                      </a:cubicBezTo>
                      <a:cubicBezTo>
                        <a:pt x="1078" y="659"/>
                        <a:pt x="1031" y="614"/>
                        <a:pt x="1044" y="613"/>
                      </a:cubicBezTo>
                      <a:cubicBezTo>
                        <a:pt x="1057" y="612"/>
                        <a:pt x="1127" y="681"/>
                        <a:pt x="1152" y="679"/>
                      </a:cubicBezTo>
                      <a:cubicBezTo>
                        <a:pt x="1177" y="677"/>
                        <a:pt x="1178" y="618"/>
                        <a:pt x="1194" y="601"/>
                      </a:cubicBezTo>
                      <a:cubicBezTo>
                        <a:pt x="1210" y="584"/>
                        <a:pt x="1239" y="590"/>
                        <a:pt x="1248" y="577"/>
                      </a:cubicBezTo>
                      <a:cubicBezTo>
                        <a:pt x="1257" y="564"/>
                        <a:pt x="1235" y="530"/>
                        <a:pt x="1248" y="523"/>
                      </a:cubicBezTo>
                      <a:cubicBezTo>
                        <a:pt x="1261" y="516"/>
                        <a:pt x="1314" y="546"/>
                        <a:pt x="1326" y="535"/>
                      </a:cubicBezTo>
                      <a:cubicBezTo>
                        <a:pt x="1338" y="524"/>
                        <a:pt x="1307" y="478"/>
                        <a:pt x="1320" y="457"/>
                      </a:cubicBezTo>
                      <a:cubicBezTo>
                        <a:pt x="1333" y="436"/>
                        <a:pt x="1391" y="430"/>
                        <a:pt x="1404" y="409"/>
                      </a:cubicBezTo>
                      <a:cubicBezTo>
                        <a:pt x="1417" y="388"/>
                        <a:pt x="1387" y="358"/>
                        <a:pt x="1398" y="331"/>
                      </a:cubicBezTo>
                      <a:cubicBezTo>
                        <a:pt x="1409" y="304"/>
                        <a:pt x="1441" y="271"/>
                        <a:pt x="1470" y="247"/>
                      </a:cubicBezTo>
                      <a:cubicBezTo>
                        <a:pt x="1499" y="223"/>
                        <a:pt x="1563" y="203"/>
                        <a:pt x="1572" y="187"/>
                      </a:cubicBezTo>
                      <a:cubicBezTo>
                        <a:pt x="1581" y="171"/>
                        <a:pt x="1556" y="160"/>
                        <a:pt x="1524" y="151"/>
                      </a:cubicBezTo>
                      <a:cubicBezTo>
                        <a:pt x="1492" y="142"/>
                        <a:pt x="1418" y="156"/>
                        <a:pt x="1380" y="133"/>
                      </a:cubicBezTo>
                      <a:cubicBezTo>
                        <a:pt x="1342" y="110"/>
                        <a:pt x="1372" y="26"/>
                        <a:pt x="1296" y="13"/>
                      </a:cubicBezTo>
                      <a:cubicBezTo>
                        <a:pt x="1220" y="0"/>
                        <a:pt x="1064" y="50"/>
                        <a:pt x="924" y="55"/>
                      </a:cubicBezTo>
                      <a:cubicBezTo>
                        <a:pt x="784" y="60"/>
                        <a:pt x="620" y="51"/>
                        <a:pt x="456" y="43"/>
                      </a:cubicBezTo>
                      <a:lnTo>
                        <a:pt x="0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db1d0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098560" y="5781240"/>
                  <a:ext cx="201960" cy="252720"/>
                </a:xfrm>
                <a:custGeom>
                  <a:avLst/>
                  <a:gdLst/>
                  <a:ahLst/>
                  <a:rect l="l" t="t" r="r" b="b"/>
                  <a:pathLst>
                    <a:path w="679" h="869">
                      <a:moveTo>
                        <a:pt x="613" y="40"/>
                      </a:moveTo>
                      <a:cubicBezTo>
                        <a:pt x="585" y="0"/>
                        <a:pt x="535" y="34"/>
                        <a:pt x="509" y="40"/>
                      </a:cubicBezTo>
                      <a:cubicBezTo>
                        <a:pt x="483" y="46"/>
                        <a:pt x="480" y="77"/>
                        <a:pt x="457" y="76"/>
                      </a:cubicBezTo>
                      <a:cubicBezTo>
                        <a:pt x="434" y="75"/>
                        <a:pt x="394" y="36"/>
                        <a:pt x="369" y="36"/>
                      </a:cubicBezTo>
                      <a:cubicBezTo>
                        <a:pt x="344" y="36"/>
                        <a:pt x="326" y="66"/>
                        <a:pt x="305" y="76"/>
                      </a:cubicBezTo>
                      <a:cubicBezTo>
                        <a:pt x="284" y="86"/>
                        <a:pt x="275" y="97"/>
                        <a:pt x="245" y="96"/>
                      </a:cubicBezTo>
                      <a:cubicBezTo>
                        <a:pt x="215" y="95"/>
                        <a:pt x="158" y="67"/>
                        <a:pt x="125" y="72"/>
                      </a:cubicBezTo>
                      <a:cubicBezTo>
                        <a:pt x="92" y="77"/>
                        <a:pt x="52" y="101"/>
                        <a:pt x="45" y="124"/>
                      </a:cubicBezTo>
                      <a:cubicBezTo>
                        <a:pt x="38" y="147"/>
                        <a:pt x="86" y="193"/>
                        <a:pt x="81" y="208"/>
                      </a:cubicBezTo>
                      <a:cubicBezTo>
                        <a:pt x="76" y="223"/>
                        <a:pt x="21" y="206"/>
                        <a:pt x="13" y="216"/>
                      </a:cubicBezTo>
                      <a:cubicBezTo>
                        <a:pt x="5" y="226"/>
                        <a:pt x="35" y="253"/>
                        <a:pt x="33" y="268"/>
                      </a:cubicBezTo>
                      <a:cubicBezTo>
                        <a:pt x="31" y="283"/>
                        <a:pt x="0" y="291"/>
                        <a:pt x="1" y="308"/>
                      </a:cubicBezTo>
                      <a:cubicBezTo>
                        <a:pt x="2" y="325"/>
                        <a:pt x="38" y="351"/>
                        <a:pt x="41" y="372"/>
                      </a:cubicBezTo>
                      <a:cubicBezTo>
                        <a:pt x="44" y="393"/>
                        <a:pt x="17" y="413"/>
                        <a:pt x="17" y="432"/>
                      </a:cubicBezTo>
                      <a:cubicBezTo>
                        <a:pt x="17" y="451"/>
                        <a:pt x="38" y="474"/>
                        <a:pt x="41" y="488"/>
                      </a:cubicBezTo>
                      <a:cubicBezTo>
                        <a:pt x="44" y="502"/>
                        <a:pt x="32" y="505"/>
                        <a:pt x="37" y="516"/>
                      </a:cubicBezTo>
                      <a:cubicBezTo>
                        <a:pt x="42" y="527"/>
                        <a:pt x="71" y="538"/>
                        <a:pt x="69" y="552"/>
                      </a:cubicBezTo>
                      <a:cubicBezTo>
                        <a:pt x="67" y="566"/>
                        <a:pt x="20" y="584"/>
                        <a:pt x="25" y="600"/>
                      </a:cubicBezTo>
                      <a:cubicBezTo>
                        <a:pt x="30" y="616"/>
                        <a:pt x="88" y="634"/>
                        <a:pt x="97" y="648"/>
                      </a:cubicBezTo>
                      <a:cubicBezTo>
                        <a:pt x="106" y="662"/>
                        <a:pt x="80" y="669"/>
                        <a:pt x="81" y="684"/>
                      </a:cubicBezTo>
                      <a:cubicBezTo>
                        <a:pt x="82" y="699"/>
                        <a:pt x="104" y="721"/>
                        <a:pt x="105" y="736"/>
                      </a:cubicBezTo>
                      <a:cubicBezTo>
                        <a:pt x="106" y="751"/>
                        <a:pt x="86" y="759"/>
                        <a:pt x="89" y="772"/>
                      </a:cubicBezTo>
                      <a:cubicBezTo>
                        <a:pt x="92" y="785"/>
                        <a:pt x="116" y="803"/>
                        <a:pt x="125" y="816"/>
                      </a:cubicBezTo>
                      <a:cubicBezTo>
                        <a:pt x="134" y="829"/>
                        <a:pt x="123" y="844"/>
                        <a:pt x="145" y="852"/>
                      </a:cubicBezTo>
                      <a:cubicBezTo>
                        <a:pt x="167" y="860"/>
                        <a:pt x="230" y="869"/>
                        <a:pt x="257" y="864"/>
                      </a:cubicBezTo>
                      <a:cubicBezTo>
                        <a:pt x="284" y="859"/>
                        <a:pt x="278" y="839"/>
                        <a:pt x="305" y="820"/>
                      </a:cubicBezTo>
                      <a:cubicBezTo>
                        <a:pt x="332" y="801"/>
                        <a:pt x="364" y="798"/>
                        <a:pt x="417" y="748"/>
                      </a:cubicBezTo>
                      <a:cubicBezTo>
                        <a:pt x="470" y="698"/>
                        <a:pt x="582" y="598"/>
                        <a:pt x="625" y="520"/>
                      </a:cubicBezTo>
                      <a:cubicBezTo>
                        <a:pt x="668" y="442"/>
                        <a:pt x="679" y="359"/>
                        <a:pt x="677" y="280"/>
                      </a:cubicBezTo>
                      <a:cubicBezTo>
                        <a:pt x="675" y="201"/>
                        <a:pt x="641" y="80"/>
                        <a:pt x="613" y="4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62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275320" y="5738040"/>
                  <a:ext cx="236520" cy="212400"/>
                </a:xfrm>
                <a:custGeom>
                  <a:avLst/>
                  <a:gdLst/>
                  <a:ahLst/>
                  <a:rect l="l" t="t" r="r" b="b"/>
                  <a:pathLst>
                    <a:path w="794" h="730">
                      <a:moveTo>
                        <a:pt x="71" y="449"/>
                      </a:moveTo>
                      <a:cubicBezTo>
                        <a:pt x="43" y="416"/>
                        <a:pt x="41" y="366"/>
                        <a:pt x="31" y="321"/>
                      </a:cubicBezTo>
                      <a:cubicBezTo>
                        <a:pt x="21" y="276"/>
                        <a:pt x="0" y="206"/>
                        <a:pt x="11" y="181"/>
                      </a:cubicBezTo>
                      <a:cubicBezTo>
                        <a:pt x="22" y="156"/>
                        <a:pt x="70" y="185"/>
                        <a:pt x="99" y="169"/>
                      </a:cubicBezTo>
                      <a:cubicBezTo>
                        <a:pt x="128" y="153"/>
                        <a:pt x="151" y="111"/>
                        <a:pt x="183" y="85"/>
                      </a:cubicBezTo>
                      <a:cubicBezTo>
                        <a:pt x="215" y="59"/>
                        <a:pt x="257" y="26"/>
                        <a:pt x="291" y="13"/>
                      </a:cubicBezTo>
                      <a:cubicBezTo>
                        <a:pt x="325" y="0"/>
                        <a:pt x="370" y="4"/>
                        <a:pt x="387" y="9"/>
                      </a:cubicBezTo>
                      <a:cubicBezTo>
                        <a:pt x="404" y="14"/>
                        <a:pt x="381" y="42"/>
                        <a:pt x="395" y="45"/>
                      </a:cubicBezTo>
                      <a:cubicBezTo>
                        <a:pt x="409" y="48"/>
                        <a:pt x="455" y="22"/>
                        <a:pt x="471" y="25"/>
                      </a:cubicBezTo>
                      <a:cubicBezTo>
                        <a:pt x="487" y="28"/>
                        <a:pt x="474" y="61"/>
                        <a:pt x="491" y="65"/>
                      </a:cubicBezTo>
                      <a:cubicBezTo>
                        <a:pt x="508" y="69"/>
                        <a:pt x="556" y="46"/>
                        <a:pt x="571" y="49"/>
                      </a:cubicBezTo>
                      <a:cubicBezTo>
                        <a:pt x="586" y="52"/>
                        <a:pt x="571" y="76"/>
                        <a:pt x="583" y="85"/>
                      </a:cubicBezTo>
                      <a:cubicBezTo>
                        <a:pt x="595" y="94"/>
                        <a:pt x="634" y="92"/>
                        <a:pt x="643" y="101"/>
                      </a:cubicBezTo>
                      <a:cubicBezTo>
                        <a:pt x="652" y="110"/>
                        <a:pt x="632" y="131"/>
                        <a:pt x="639" y="141"/>
                      </a:cubicBezTo>
                      <a:cubicBezTo>
                        <a:pt x="646" y="151"/>
                        <a:pt x="678" y="151"/>
                        <a:pt x="683" y="161"/>
                      </a:cubicBezTo>
                      <a:cubicBezTo>
                        <a:pt x="688" y="171"/>
                        <a:pt x="651" y="192"/>
                        <a:pt x="667" y="201"/>
                      </a:cubicBezTo>
                      <a:cubicBezTo>
                        <a:pt x="683" y="210"/>
                        <a:pt x="764" y="202"/>
                        <a:pt x="779" y="217"/>
                      </a:cubicBezTo>
                      <a:cubicBezTo>
                        <a:pt x="794" y="232"/>
                        <a:pt x="758" y="272"/>
                        <a:pt x="759" y="289"/>
                      </a:cubicBezTo>
                      <a:cubicBezTo>
                        <a:pt x="760" y="306"/>
                        <a:pt x="791" y="304"/>
                        <a:pt x="787" y="321"/>
                      </a:cubicBezTo>
                      <a:cubicBezTo>
                        <a:pt x="783" y="338"/>
                        <a:pt x="738" y="370"/>
                        <a:pt x="735" y="389"/>
                      </a:cubicBezTo>
                      <a:cubicBezTo>
                        <a:pt x="732" y="408"/>
                        <a:pt x="774" y="407"/>
                        <a:pt x="771" y="437"/>
                      </a:cubicBezTo>
                      <a:cubicBezTo>
                        <a:pt x="768" y="467"/>
                        <a:pt x="727" y="531"/>
                        <a:pt x="715" y="569"/>
                      </a:cubicBezTo>
                      <a:cubicBezTo>
                        <a:pt x="703" y="607"/>
                        <a:pt x="714" y="645"/>
                        <a:pt x="699" y="669"/>
                      </a:cubicBezTo>
                      <a:cubicBezTo>
                        <a:pt x="684" y="693"/>
                        <a:pt x="663" y="730"/>
                        <a:pt x="627" y="713"/>
                      </a:cubicBezTo>
                      <a:cubicBezTo>
                        <a:pt x="591" y="696"/>
                        <a:pt x="554" y="601"/>
                        <a:pt x="483" y="569"/>
                      </a:cubicBezTo>
                      <a:cubicBezTo>
                        <a:pt x="412" y="537"/>
                        <a:pt x="268" y="542"/>
                        <a:pt x="199" y="521"/>
                      </a:cubicBezTo>
                      <a:cubicBezTo>
                        <a:pt x="130" y="500"/>
                        <a:pt x="99" y="482"/>
                        <a:pt x="71" y="44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c7c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470080" y="5814720"/>
                  <a:ext cx="308880" cy="402120"/>
                </a:xfrm>
                <a:custGeom>
                  <a:avLst/>
                  <a:gdLst/>
                  <a:ahLst/>
                  <a:rect l="l" t="t" r="r" b="b"/>
                  <a:pathLst>
                    <a:path w="1038" h="1382">
                      <a:moveTo>
                        <a:pt x="21" y="469"/>
                      </a:moveTo>
                      <a:cubicBezTo>
                        <a:pt x="0" y="406"/>
                        <a:pt x="52" y="366"/>
                        <a:pt x="61" y="321"/>
                      </a:cubicBezTo>
                      <a:cubicBezTo>
                        <a:pt x="70" y="276"/>
                        <a:pt x="62" y="222"/>
                        <a:pt x="73" y="197"/>
                      </a:cubicBezTo>
                      <a:cubicBezTo>
                        <a:pt x="84" y="172"/>
                        <a:pt x="116" y="181"/>
                        <a:pt x="125" y="169"/>
                      </a:cubicBezTo>
                      <a:cubicBezTo>
                        <a:pt x="134" y="157"/>
                        <a:pt x="118" y="132"/>
                        <a:pt x="129" y="125"/>
                      </a:cubicBezTo>
                      <a:cubicBezTo>
                        <a:pt x="140" y="118"/>
                        <a:pt x="178" y="139"/>
                        <a:pt x="193" y="125"/>
                      </a:cubicBezTo>
                      <a:cubicBezTo>
                        <a:pt x="208" y="111"/>
                        <a:pt x="206" y="62"/>
                        <a:pt x="221" y="41"/>
                      </a:cubicBezTo>
                      <a:cubicBezTo>
                        <a:pt x="236" y="20"/>
                        <a:pt x="260" y="2"/>
                        <a:pt x="281" y="1"/>
                      </a:cubicBezTo>
                      <a:cubicBezTo>
                        <a:pt x="302" y="0"/>
                        <a:pt x="326" y="7"/>
                        <a:pt x="349" y="33"/>
                      </a:cubicBezTo>
                      <a:cubicBezTo>
                        <a:pt x="372" y="59"/>
                        <a:pt x="385" y="85"/>
                        <a:pt x="421" y="157"/>
                      </a:cubicBezTo>
                      <a:cubicBezTo>
                        <a:pt x="457" y="229"/>
                        <a:pt x="515" y="380"/>
                        <a:pt x="565" y="465"/>
                      </a:cubicBezTo>
                      <a:cubicBezTo>
                        <a:pt x="615" y="550"/>
                        <a:pt x="674" y="626"/>
                        <a:pt x="721" y="669"/>
                      </a:cubicBezTo>
                      <a:cubicBezTo>
                        <a:pt x="768" y="712"/>
                        <a:pt x="814" y="701"/>
                        <a:pt x="849" y="721"/>
                      </a:cubicBezTo>
                      <a:cubicBezTo>
                        <a:pt x="884" y="741"/>
                        <a:pt x="915" y="771"/>
                        <a:pt x="929" y="789"/>
                      </a:cubicBezTo>
                      <a:cubicBezTo>
                        <a:pt x="943" y="807"/>
                        <a:pt x="924" y="821"/>
                        <a:pt x="933" y="829"/>
                      </a:cubicBezTo>
                      <a:cubicBezTo>
                        <a:pt x="942" y="837"/>
                        <a:pt x="977" y="828"/>
                        <a:pt x="981" y="837"/>
                      </a:cubicBezTo>
                      <a:cubicBezTo>
                        <a:pt x="985" y="846"/>
                        <a:pt x="955" y="869"/>
                        <a:pt x="957" y="885"/>
                      </a:cubicBezTo>
                      <a:cubicBezTo>
                        <a:pt x="959" y="901"/>
                        <a:pt x="991" y="916"/>
                        <a:pt x="993" y="933"/>
                      </a:cubicBezTo>
                      <a:cubicBezTo>
                        <a:pt x="995" y="950"/>
                        <a:pt x="972" y="968"/>
                        <a:pt x="969" y="985"/>
                      </a:cubicBezTo>
                      <a:cubicBezTo>
                        <a:pt x="966" y="1002"/>
                        <a:pt x="965" y="1015"/>
                        <a:pt x="973" y="1033"/>
                      </a:cubicBezTo>
                      <a:cubicBezTo>
                        <a:pt x="981" y="1051"/>
                        <a:pt x="1011" y="1075"/>
                        <a:pt x="1017" y="1093"/>
                      </a:cubicBezTo>
                      <a:cubicBezTo>
                        <a:pt x="1023" y="1111"/>
                        <a:pt x="1006" y="1126"/>
                        <a:pt x="1009" y="1141"/>
                      </a:cubicBezTo>
                      <a:cubicBezTo>
                        <a:pt x="1012" y="1156"/>
                        <a:pt x="1038" y="1163"/>
                        <a:pt x="1037" y="1185"/>
                      </a:cubicBezTo>
                      <a:cubicBezTo>
                        <a:pt x="1036" y="1207"/>
                        <a:pt x="1019" y="1246"/>
                        <a:pt x="1005" y="1273"/>
                      </a:cubicBezTo>
                      <a:cubicBezTo>
                        <a:pt x="991" y="1300"/>
                        <a:pt x="980" y="1328"/>
                        <a:pt x="953" y="1345"/>
                      </a:cubicBezTo>
                      <a:cubicBezTo>
                        <a:pt x="926" y="1362"/>
                        <a:pt x="905" y="1382"/>
                        <a:pt x="845" y="1373"/>
                      </a:cubicBezTo>
                      <a:cubicBezTo>
                        <a:pt x="785" y="1364"/>
                        <a:pt x="676" y="1324"/>
                        <a:pt x="593" y="1293"/>
                      </a:cubicBezTo>
                      <a:cubicBezTo>
                        <a:pt x="510" y="1262"/>
                        <a:pt x="412" y="1284"/>
                        <a:pt x="345" y="1185"/>
                      </a:cubicBezTo>
                      <a:cubicBezTo>
                        <a:pt x="278" y="1086"/>
                        <a:pt x="243" y="820"/>
                        <a:pt x="189" y="701"/>
                      </a:cubicBezTo>
                      <a:cubicBezTo>
                        <a:pt x="135" y="582"/>
                        <a:pt x="42" y="532"/>
                        <a:pt x="21" y="4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7cb0"/>
                    </a:gs>
                    <a:gs pos="100000">
                      <a:srgbClr val="fb418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530200" y="6279840"/>
                  <a:ext cx="304920" cy="171000"/>
                </a:xfrm>
                <a:custGeom>
                  <a:avLst/>
                  <a:gdLst/>
                  <a:ahLst/>
                  <a:rect l="l" t="t" r="r" b="b"/>
                  <a:pathLst>
                    <a:path w="1024" h="588">
                      <a:moveTo>
                        <a:pt x="43" y="323"/>
                      </a:moveTo>
                      <a:cubicBezTo>
                        <a:pt x="20" y="327"/>
                        <a:pt x="0" y="366"/>
                        <a:pt x="3" y="391"/>
                      </a:cubicBezTo>
                      <a:cubicBezTo>
                        <a:pt x="6" y="416"/>
                        <a:pt x="41" y="448"/>
                        <a:pt x="63" y="475"/>
                      </a:cubicBezTo>
                      <a:cubicBezTo>
                        <a:pt x="85" y="502"/>
                        <a:pt x="106" y="542"/>
                        <a:pt x="135" y="555"/>
                      </a:cubicBezTo>
                      <a:cubicBezTo>
                        <a:pt x="164" y="568"/>
                        <a:pt x="212" y="562"/>
                        <a:pt x="239" y="555"/>
                      </a:cubicBezTo>
                      <a:cubicBezTo>
                        <a:pt x="266" y="548"/>
                        <a:pt x="280" y="517"/>
                        <a:pt x="299" y="511"/>
                      </a:cubicBezTo>
                      <a:cubicBezTo>
                        <a:pt x="318" y="505"/>
                        <a:pt x="335" y="518"/>
                        <a:pt x="351" y="519"/>
                      </a:cubicBezTo>
                      <a:cubicBezTo>
                        <a:pt x="367" y="520"/>
                        <a:pt x="378" y="509"/>
                        <a:pt x="395" y="515"/>
                      </a:cubicBezTo>
                      <a:cubicBezTo>
                        <a:pt x="412" y="521"/>
                        <a:pt x="430" y="543"/>
                        <a:pt x="451" y="555"/>
                      </a:cubicBezTo>
                      <a:cubicBezTo>
                        <a:pt x="472" y="567"/>
                        <a:pt x="484" y="588"/>
                        <a:pt x="519" y="587"/>
                      </a:cubicBezTo>
                      <a:cubicBezTo>
                        <a:pt x="554" y="586"/>
                        <a:pt x="630" y="568"/>
                        <a:pt x="663" y="551"/>
                      </a:cubicBezTo>
                      <a:cubicBezTo>
                        <a:pt x="696" y="534"/>
                        <a:pt x="704" y="511"/>
                        <a:pt x="715" y="483"/>
                      </a:cubicBezTo>
                      <a:cubicBezTo>
                        <a:pt x="726" y="455"/>
                        <a:pt x="704" y="392"/>
                        <a:pt x="731" y="383"/>
                      </a:cubicBezTo>
                      <a:cubicBezTo>
                        <a:pt x="758" y="374"/>
                        <a:pt x="846" y="439"/>
                        <a:pt x="879" y="431"/>
                      </a:cubicBezTo>
                      <a:cubicBezTo>
                        <a:pt x="912" y="423"/>
                        <a:pt x="910" y="353"/>
                        <a:pt x="931" y="335"/>
                      </a:cubicBezTo>
                      <a:cubicBezTo>
                        <a:pt x="952" y="317"/>
                        <a:pt x="1003" y="344"/>
                        <a:pt x="1007" y="323"/>
                      </a:cubicBezTo>
                      <a:cubicBezTo>
                        <a:pt x="1011" y="302"/>
                        <a:pt x="952" y="240"/>
                        <a:pt x="955" y="211"/>
                      </a:cubicBezTo>
                      <a:cubicBezTo>
                        <a:pt x="958" y="182"/>
                        <a:pt x="1022" y="179"/>
                        <a:pt x="1023" y="147"/>
                      </a:cubicBezTo>
                      <a:cubicBezTo>
                        <a:pt x="1024" y="115"/>
                        <a:pt x="981" y="38"/>
                        <a:pt x="959" y="19"/>
                      </a:cubicBezTo>
                      <a:cubicBezTo>
                        <a:pt x="937" y="0"/>
                        <a:pt x="926" y="5"/>
                        <a:pt x="891" y="31"/>
                      </a:cubicBezTo>
                      <a:cubicBezTo>
                        <a:pt x="856" y="57"/>
                        <a:pt x="798" y="126"/>
                        <a:pt x="747" y="175"/>
                      </a:cubicBezTo>
                      <a:cubicBezTo>
                        <a:pt x="696" y="224"/>
                        <a:pt x="638" y="284"/>
                        <a:pt x="587" y="327"/>
                      </a:cubicBezTo>
                      <a:cubicBezTo>
                        <a:pt x="536" y="370"/>
                        <a:pt x="488" y="417"/>
                        <a:pt x="439" y="435"/>
                      </a:cubicBezTo>
                      <a:cubicBezTo>
                        <a:pt x="390" y="453"/>
                        <a:pt x="340" y="446"/>
                        <a:pt x="291" y="435"/>
                      </a:cubicBezTo>
                      <a:cubicBezTo>
                        <a:pt x="242" y="424"/>
                        <a:pt x="184" y="385"/>
                        <a:pt x="143" y="367"/>
                      </a:cubicBezTo>
                      <a:cubicBezTo>
                        <a:pt x="102" y="349"/>
                        <a:pt x="66" y="319"/>
                        <a:pt x="43" y="323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464320" y="6198480"/>
                  <a:ext cx="356040" cy="217080"/>
                </a:xfrm>
                <a:custGeom>
                  <a:avLst/>
                  <a:gdLst/>
                  <a:ahLst/>
                  <a:rect l="l" t="t" r="r" b="b"/>
                  <a:pathLst>
                    <a:path w="1196" h="746">
                      <a:moveTo>
                        <a:pt x="993" y="15"/>
                      </a:moveTo>
                      <a:cubicBezTo>
                        <a:pt x="1020" y="11"/>
                        <a:pt x="1040" y="27"/>
                        <a:pt x="1065" y="31"/>
                      </a:cubicBezTo>
                      <a:cubicBezTo>
                        <a:pt x="1090" y="35"/>
                        <a:pt x="1125" y="24"/>
                        <a:pt x="1141" y="39"/>
                      </a:cubicBezTo>
                      <a:cubicBezTo>
                        <a:pt x="1157" y="54"/>
                        <a:pt x="1152" y="98"/>
                        <a:pt x="1161" y="119"/>
                      </a:cubicBezTo>
                      <a:cubicBezTo>
                        <a:pt x="1170" y="140"/>
                        <a:pt x="1196" y="153"/>
                        <a:pt x="1193" y="167"/>
                      </a:cubicBezTo>
                      <a:cubicBezTo>
                        <a:pt x="1190" y="181"/>
                        <a:pt x="1144" y="192"/>
                        <a:pt x="1141" y="203"/>
                      </a:cubicBezTo>
                      <a:cubicBezTo>
                        <a:pt x="1138" y="214"/>
                        <a:pt x="1178" y="220"/>
                        <a:pt x="1177" y="231"/>
                      </a:cubicBezTo>
                      <a:cubicBezTo>
                        <a:pt x="1176" y="242"/>
                        <a:pt x="1138" y="254"/>
                        <a:pt x="1133" y="267"/>
                      </a:cubicBezTo>
                      <a:cubicBezTo>
                        <a:pt x="1128" y="280"/>
                        <a:pt x="1155" y="295"/>
                        <a:pt x="1149" y="307"/>
                      </a:cubicBezTo>
                      <a:cubicBezTo>
                        <a:pt x="1143" y="319"/>
                        <a:pt x="1103" y="328"/>
                        <a:pt x="1097" y="339"/>
                      </a:cubicBezTo>
                      <a:cubicBezTo>
                        <a:pt x="1091" y="350"/>
                        <a:pt x="1116" y="356"/>
                        <a:pt x="1113" y="371"/>
                      </a:cubicBezTo>
                      <a:cubicBezTo>
                        <a:pt x="1110" y="386"/>
                        <a:pt x="1094" y="423"/>
                        <a:pt x="1077" y="431"/>
                      </a:cubicBezTo>
                      <a:cubicBezTo>
                        <a:pt x="1060" y="439"/>
                        <a:pt x="1030" y="412"/>
                        <a:pt x="1013" y="419"/>
                      </a:cubicBezTo>
                      <a:cubicBezTo>
                        <a:pt x="996" y="426"/>
                        <a:pt x="987" y="463"/>
                        <a:pt x="973" y="471"/>
                      </a:cubicBezTo>
                      <a:cubicBezTo>
                        <a:pt x="959" y="479"/>
                        <a:pt x="939" y="458"/>
                        <a:pt x="929" y="467"/>
                      </a:cubicBezTo>
                      <a:cubicBezTo>
                        <a:pt x="919" y="476"/>
                        <a:pt x="922" y="509"/>
                        <a:pt x="913" y="523"/>
                      </a:cubicBezTo>
                      <a:cubicBezTo>
                        <a:pt x="904" y="537"/>
                        <a:pt x="876" y="534"/>
                        <a:pt x="873" y="551"/>
                      </a:cubicBezTo>
                      <a:cubicBezTo>
                        <a:pt x="870" y="568"/>
                        <a:pt x="904" y="610"/>
                        <a:pt x="893" y="623"/>
                      </a:cubicBezTo>
                      <a:cubicBezTo>
                        <a:pt x="882" y="636"/>
                        <a:pt x="824" y="623"/>
                        <a:pt x="809" y="631"/>
                      </a:cubicBezTo>
                      <a:cubicBezTo>
                        <a:pt x="794" y="639"/>
                        <a:pt x="810" y="663"/>
                        <a:pt x="801" y="671"/>
                      </a:cubicBezTo>
                      <a:cubicBezTo>
                        <a:pt x="792" y="679"/>
                        <a:pt x="769" y="670"/>
                        <a:pt x="757" y="679"/>
                      </a:cubicBezTo>
                      <a:cubicBezTo>
                        <a:pt x="745" y="688"/>
                        <a:pt x="742" y="717"/>
                        <a:pt x="729" y="723"/>
                      </a:cubicBezTo>
                      <a:cubicBezTo>
                        <a:pt x="716" y="729"/>
                        <a:pt x="689" y="712"/>
                        <a:pt x="677" y="715"/>
                      </a:cubicBezTo>
                      <a:cubicBezTo>
                        <a:pt x="665" y="718"/>
                        <a:pt x="673" y="740"/>
                        <a:pt x="657" y="743"/>
                      </a:cubicBezTo>
                      <a:cubicBezTo>
                        <a:pt x="641" y="746"/>
                        <a:pt x="607" y="734"/>
                        <a:pt x="581" y="731"/>
                      </a:cubicBezTo>
                      <a:cubicBezTo>
                        <a:pt x="555" y="728"/>
                        <a:pt x="537" y="746"/>
                        <a:pt x="501" y="727"/>
                      </a:cubicBezTo>
                      <a:cubicBezTo>
                        <a:pt x="465" y="708"/>
                        <a:pt x="410" y="638"/>
                        <a:pt x="365" y="615"/>
                      </a:cubicBezTo>
                      <a:cubicBezTo>
                        <a:pt x="320" y="592"/>
                        <a:pt x="267" y="603"/>
                        <a:pt x="233" y="591"/>
                      </a:cubicBezTo>
                      <a:cubicBezTo>
                        <a:pt x="199" y="579"/>
                        <a:pt x="175" y="568"/>
                        <a:pt x="161" y="543"/>
                      </a:cubicBezTo>
                      <a:cubicBezTo>
                        <a:pt x="147" y="518"/>
                        <a:pt x="170" y="470"/>
                        <a:pt x="149" y="443"/>
                      </a:cubicBezTo>
                      <a:cubicBezTo>
                        <a:pt x="128" y="416"/>
                        <a:pt x="56" y="407"/>
                        <a:pt x="37" y="383"/>
                      </a:cubicBezTo>
                      <a:cubicBezTo>
                        <a:pt x="18" y="359"/>
                        <a:pt x="0" y="310"/>
                        <a:pt x="33" y="299"/>
                      </a:cubicBezTo>
                      <a:cubicBezTo>
                        <a:pt x="66" y="288"/>
                        <a:pt x="171" y="356"/>
                        <a:pt x="233" y="315"/>
                      </a:cubicBezTo>
                      <a:cubicBezTo>
                        <a:pt x="295" y="274"/>
                        <a:pt x="355" y="102"/>
                        <a:pt x="405" y="51"/>
                      </a:cubicBezTo>
                      <a:cubicBezTo>
                        <a:pt x="455" y="0"/>
                        <a:pt x="474" y="13"/>
                        <a:pt x="533" y="7"/>
                      </a:cubicBezTo>
                      <a:cubicBezTo>
                        <a:pt x="592" y="1"/>
                        <a:pt x="696" y="7"/>
                        <a:pt x="757" y="15"/>
                      </a:cubicBezTo>
                      <a:cubicBezTo>
                        <a:pt x="818" y="23"/>
                        <a:pt x="862" y="55"/>
                        <a:pt x="901" y="55"/>
                      </a:cubicBezTo>
                      <a:cubicBezTo>
                        <a:pt x="940" y="55"/>
                        <a:pt x="966" y="19"/>
                        <a:pt x="993" y="1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db1d0"/>
                    </a:gs>
                    <a:gs pos="100000">
                      <a:srgbClr val="fc62a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587080" y="6152760"/>
                  <a:ext cx="183600" cy="71640"/>
                </a:xfrm>
                <a:custGeom>
                  <a:avLst/>
                  <a:gdLst/>
                  <a:ahLst/>
                  <a:rect l="l" t="t" r="r" b="b"/>
                  <a:pathLst>
                    <a:path w="617" h="247">
                      <a:moveTo>
                        <a:pt x="37" y="32"/>
                      </a:moveTo>
                      <a:cubicBezTo>
                        <a:pt x="51" y="0"/>
                        <a:pt x="61" y="17"/>
                        <a:pt x="89" y="28"/>
                      </a:cubicBezTo>
                      <a:cubicBezTo>
                        <a:pt x="117" y="39"/>
                        <a:pt x="174" y="85"/>
                        <a:pt x="205" y="100"/>
                      </a:cubicBezTo>
                      <a:cubicBezTo>
                        <a:pt x="236" y="115"/>
                        <a:pt x="259" y="108"/>
                        <a:pt x="273" y="116"/>
                      </a:cubicBezTo>
                      <a:cubicBezTo>
                        <a:pt x="287" y="124"/>
                        <a:pt x="278" y="145"/>
                        <a:pt x="289" y="148"/>
                      </a:cubicBezTo>
                      <a:cubicBezTo>
                        <a:pt x="300" y="151"/>
                        <a:pt x="324" y="133"/>
                        <a:pt x="341" y="136"/>
                      </a:cubicBezTo>
                      <a:cubicBezTo>
                        <a:pt x="358" y="139"/>
                        <a:pt x="366" y="159"/>
                        <a:pt x="389" y="168"/>
                      </a:cubicBezTo>
                      <a:cubicBezTo>
                        <a:pt x="412" y="177"/>
                        <a:pt x="452" y="185"/>
                        <a:pt x="477" y="188"/>
                      </a:cubicBezTo>
                      <a:cubicBezTo>
                        <a:pt x="502" y="191"/>
                        <a:pt x="515" y="199"/>
                        <a:pt x="537" y="188"/>
                      </a:cubicBezTo>
                      <a:cubicBezTo>
                        <a:pt x="559" y="177"/>
                        <a:pt x="601" y="123"/>
                        <a:pt x="609" y="120"/>
                      </a:cubicBezTo>
                      <a:cubicBezTo>
                        <a:pt x="617" y="117"/>
                        <a:pt x="601" y="148"/>
                        <a:pt x="585" y="168"/>
                      </a:cubicBezTo>
                      <a:cubicBezTo>
                        <a:pt x="569" y="188"/>
                        <a:pt x="543" y="234"/>
                        <a:pt x="513" y="240"/>
                      </a:cubicBezTo>
                      <a:cubicBezTo>
                        <a:pt x="483" y="246"/>
                        <a:pt x="437" y="211"/>
                        <a:pt x="405" y="204"/>
                      </a:cubicBezTo>
                      <a:cubicBezTo>
                        <a:pt x="373" y="197"/>
                        <a:pt x="356" y="201"/>
                        <a:pt x="321" y="200"/>
                      </a:cubicBezTo>
                      <a:cubicBezTo>
                        <a:pt x="286" y="199"/>
                        <a:pt x="234" y="194"/>
                        <a:pt x="193" y="196"/>
                      </a:cubicBezTo>
                      <a:cubicBezTo>
                        <a:pt x="152" y="198"/>
                        <a:pt x="104" y="208"/>
                        <a:pt x="73" y="212"/>
                      </a:cubicBezTo>
                      <a:cubicBezTo>
                        <a:pt x="42" y="216"/>
                        <a:pt x="10" y="247"/>
                        <a:pt x="5" y="220"/>
                      </a:cubicBezTo>
                      <a:cubicBezTo>
                        <a:pt x="0" y="193"/>
                        <a:pt x="23" y="64"/>
                        <a:pt x="37" y="3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d6e6"/>
                    </a:gs>
                    <a:gs pos="100000">
                      <a:srgbClr val="fb418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431920" y="6307200"/>
                  <a:ext cx="262800" cy="210600"/>
                </a:xfrm>
                <a:custGeom>
                  <a:avLst/>
                  <a:gdLst/>
                  <a:ahLst/>
                  <a:rect l="l" t="t" r="r" b="b"/>
                  <a:pathLst>
                    <a:path w="883" h="724">
                      <a:moveTo>
                        <a:pt x="129" y="2"/>
                      </a:moveTo>
                      <a:cubicBezTo>
                        <a:pt x="98" y="0"/>
                        <a:pt x="82" y="43"/>
                        <a:pt x="61" y="54"/>
                      </a:cubicBezTo>
                      <a:cubicBezTo>
                        <a:pt x="40" y="65"/>
                        <a:pt x="0" y="63"/>
                        <a:pt x="1" y="70"/>
                      </a:cubicBezTo>
                      <a:cubicBezTo>
                        <a:pt x="2" y="77"/>
                        <a:pt x="55" y="86"/>
                        <a:pt x="69" y="94"/>
                      </a:cubicBezTo>
                      <a:cubicBezTo>
                        <a:pt x="83" y="102"/>
                        <a:pt x="84" y="107"/>
                        <a:pt x="85" y="118"/>
                      </a:cubicBezTo>
                      <a:cubicBezTo>
                        <a:pt x="86" y="129"/>
                        <a:pt x="70" y="153"/>
                        <a:pt x="73" y="162"/>
                      </a:cubicBezTo>
                      <a:cubicBezTo>
                        <a:pt x="76" y="171"/>
                        <a:pt x="100" y="157"/>
                        <a:pt x="105" y="174"/>
                      </a:cubicBezTo>
                      <a:cubicBezTo>
                        <a:pt x="110" y="191"/>
                        <a:pt x="95" y="247"/>
                        <a:pt x="101" y="266"/>
                      </a:cubicBezTo>
                      <a:cubicBezTo>
                        <a:pt x="107" y="285"/>
                        <a:pt x="136" y="275"/>
                        <a:pt x="141" y="290"/>
                      </a:cubicBezTo>
                      <a:cubicBezTo>
                        <a:pt x="146" y="305"/>
                        <a:pt x="122" y="341"/>
                        <a:pt x="129" y="358"/>
                      </a:cubicBezTo>
                      <a:cubicBezTo>
                        <a:pt x="136" y="375"/>
                        <a:pt x="174" y="377"/>
                        <a:pt x="185" y="390"/>
                      </a:cubicBezTo>
                      <a:cubicBezTo>
                        <a:pt x="196" y="403"/>
                        <a:pt x="182" y="423"/>
                        <a:pt x="193" y="434"/>
                      </a:cubicBezTo>
                      <a:cubicBezTo>
                        <a:pt x="204" y="445"/>
                        <a:pt x="232" y="447"/>
                        <a:pt x="249" y="458"/>
                      </a:cubicBezTo>
                      <a:cubicBezTo>
                        <a:pt x="266" y="469"/>
                        <a:pt x="278" y="493"/>
                        <a:pt x="293" y="498"/>
                      </a:cubicBezTo>
                      <a:cubicBezTo>
                        <a:pt x="308" y="503"/>
                        <a:pt x="320" y="479"/>
                        <a:pt x="337" y="486"/>
                      </a:cubicBezTo>
                      <a:cubicBezTo>
                        <a:pt x="354" y="493"/>
                        <a:pt x="378" y="533"/>
                        <a:pt x="393" y="538"/>
                      </a:cubicBezTo>
                      <a:cubicBezTo>
                        <a:pt x="408" y="543"/>
                        <a:pt x="415" y="517"/>
                        <a:pt x="429" y="518"/>
                      </a:cubicBezTo>
                      <a:cubicBezTo>
                        <a:pt x="443" y="519"/>
                        <a:pt x="464" y="545"/>
                        <a:pt x="477" y="546"/>
                      </a:cubicBezTo>
                      <a:cubicBezTo>
                        <a:pt x="490" y="547"/>
                        <a:pt x="492" y="520"/>
                        <a:pt x="505" y="522"/>
                      </a:cubicBezTo>
                      <a:cubicBezTo>
                        <a:pt x="518" y="524"/>
                        <a:pt x="537" y="540"/>
                        <a:pt x="553" y="558"/>
                      </a:cubicBezTo>
                      <a:cubicBezTo>
                        <a:pt x="569" y="576"/>
                        <a:pt x="578" y="607"/>
                        <a:pt x="601" y="630"/>
                      </a:cubicBezTo>
                      <a:cubicBezTo>
                        <a:pt x="624" y="653"/>
                        <a:pt x="668" y="684"/>
                        <a:pt x="693" y="698"/>
                      </a:cubicBezTo>
                      <a:cubicBezTo>
                        <a:pt x="718" y="712"/>
                        <a:pt x="729" y="710"/>
                        <a:pt x="753" y="714"/>
                      </a:cubicBezTo>
                      <a:cubicBezTo>
                        <a:pt x="777" y="718"/>
                        <a:pt x="816" y="724"/>
                        <a:pt x="837" y="722"/>
                      </a:cubicBezTo>
                      <a:cubicBezTo>
                        <a:pt x="858" y="720"/>
                        <a:pt x="883" y="708"/>
                        <a:pt x="877" y="702"/>
                      </a:cubicBezTo>
                      <a:cubicBezTo>
                        <a:pt x="871" y="696"/>
                        <a:pt x="826" y="692"/>
                        <a:pt x="801" y="686"/>
                      </a:cubicBezTo>
                      <a:cubicBezTo>
                        <a:pt x="776" y="680"/>
                        <a:pt x="750" y="674"/>
                        <a:pt x="729" y="666"/>
                      </a:cubicBezTo>
                      <a:cubicBezTo>
                        <a:pt x="708" y="658"/>
                        <a:pt x="689" y="646"/>
                        <a:pt x="677" y="638"/>
                      </a:cubicBezTo>
                      <a:cubicBezTo>
                        <a:pt x="665" y="630"/>
                        <a:pt x="656" y="637"/>
                        <a:pt x="653" y="618"/>
                      </a:cubicBezTo>
                      <a:cubicBezTo>
                        <a:pt x="650" y="599"/>
                        <a:pt x="671" y="545"/>
                        <a:pt x="657" y="526"/>
                      </a:cubicBezTo>
                      <a:cubicBezTo>
                        <a:pt x="643" y="507"/>
                        <a:pt x="588" y="515"/>
                        <a:pt x="569" y="506"/>
                      </a:cubicBezTo>
                      <a:cubicBezTo>
                        <a:pt x="550" y="497"/>
                        <a:pt x="559" y="479"/>
                        <a:pt x="545" y="474"/>
                      </a:cubicBezTo>
                      <a:cubicBezTo>
                        <a:pt x="531" y="469"/>
                        <a:pt x="504" y="481"/>
                        <a:pt x="485" y="474"/>
                      </a:cubicBezTo>
                      <a:cubicBezTo>
                        <a:pt x="466" y="467"/>
                        <a:pt x="449" y="440"/>
                        <a:pt x="433" y="430"/>
                      </a:cubicBezTo>
                      <a:cubicBezTo>
                        <a:pt x="417" y="420"/>
                        <a:pt x="395" y="433"/>
                        <a:pt x="389" y="414"/>
                      </a:cubicBezTo>
                      <a:cubicBezTo>
                        <a:pt x="383" y="395"/>
                        <a:pt x="395" y="345"/>
                        <a:pt x="397" y="314"/>
                      </a:cubicBezTo>
                      <a:cubicBezTo>
                        <a:pt x="399" y="283"/>
                        <a:pt x="418" y="249"/>
                        <a:pt x="401" y="230"/>
                      </a:cubicBezTo>
                      <a:cubicBezTo>
                        <a:pt x="384" y="211"/>
                        <a:pt x="316" y="221"/>
                        <a:pt x="293" y="202"/>
                      </a:cubicBezTo>
                      <a:cubicBezTo>
                        <a:pt x="270" y="183"/>
                        <a:pt x="273" y="141"/>
                        <a:pt x="265" y="118"/>
                      </a:cubicBezTo>
                      <a:cubicBezTo>
                        <a:pt x="257" y="95"/>
                        <a:pt x="268" y="85"/>
                        <a:pt x="245" y="66"/>
                      </a:cubicBezTo>
                      <a:cubicBezTo>
                        <a:pt x="222" y="47"/>
                        <a:pt x="160" y="4"/>
                        <a:pt x="129" y="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168760" y="6231600"/>
                  <a:ext cx="314280" cy="314640"/>
                </a:xfrm>
                <a:custGeom>
                  <a:avLst/>
                  <a:gdLst/>
                  <a:ahLst/>
                  <a:rect l="l" t="t" r="r" b="b"/>
                  <a:pathLst>
                    <a:path w="1055" h="1082">
                      <a:moveTo>
                        <a:pt x="249" y="5"/>
                      </a:moveTo>
                      <a:cubicBezTo>
                        <a:pt x="194" y="0"/>
                        <a:pt x="205" y="84"/>
                        <a:pt x="181" y="129"/>
                      </a:cubicBezTo>
                      <a:cubicBezTo>
                        <a:pt x="157" y="174"/>
                        <a:pt x="117" y="222"/>
                        <a:pt x="105" y="273"/>
                      </a:cubicBezTo>
                      <a:cubicBezTo>
                        <a:pt x="93" y="324"/>
                        <a:pt x="112" y="396"/>
                        <a:pt x="109" y="433"/>
                      </a:cubicBezTo>
                      <a:cubicBezTo>
                        <a:pt x="106" y="470"/>
                        <a:pt x="104" y="479"/>
                        <a:pt x="89" y="497"/>
                      </a:cubicBezTo>
                      <a:cubicBezTo>
                        <a:pt x="74" y="515"/>
                        <a:pt x="24" y="527"/>
                        <a:pt x="17" y="541"/>
                      </a:cubicBezTo>
                      <a:cubicBezTo>
                        <a:pt x="10" y="555"/>
                        <a:pt x="47" y="564"/>
                        <a:pt x="45" y="581"/>
                      </a:cubicBezTo>
                      <a:cubicBezTo>
                        <a:pt x="43" y="598"/>
                        <a:pt x="6" y="628"/>
                        <a:pt x="5" y="641"/>
                      </a:cubicBezTo>
                      <a:cubicBezTo>
                        <a:pt x="4" y="654"/>
                        <a:pt x="41" y="648"/>
                        <a:pt x="41" y="661"/>
                      </a:cubicBezTo>
                      <a:cubicBezTo>
                        <a:pt x="41" y="674"/>
                        <a:pt x="0" y="704"/>
                        <a:pt x="5" y="721"/>
                      </a:cubicBezTo>
                      <a:cubicBezTo>
                        <a:pt x="10" y="738"/>
                        <a:pt x="66" y="746"/>
                        <a:pt x="69" y="765"/>
                      </a:cubicBezTo>
                      <a:cubicBezTo>
                        <a:pt x="72" y="784"/>
                        <a:pt x="24" y="820"/>
                        <a:pt x="21" y="837"/>
                      </a:cubicBezTo>
                      <a:cubicBezTo>
                        <a:pt x="18" y="854"/>
                        <a:pt x="46" y="854"/>
                        <a:pt x="49" y="865"/>
                      </a:cubicBezTo>
                      <a:cubicBezTo>
                        <a:pt x="52" y="876"/>
                        <a:pt x="37" y="894"/>
                        <a:pt x="41" y="901"/>
                      </a:cubicBezTo>
                      <a:cubicBezTo>
                        <a:pt x="45" y="908"/>
                        <a:pt x="70" y="894"/>
                        <a:pt x="73" y="905"/>
                      </a:cubicBezTo>
                      <a:cubicBezTo>
                        <a:pt x="76" y="916"/>
                        <a:pt x="47" y="950"/>
                        <a:pt x="57" y="965"/>
                      </a:cubicBezTo>
                      <a:cubicBezTo>
                        <a:pt x="67" y="980"/>
                        <a:pt x="114" y="984"/>
                        <a:pt x="133" y="997"/>
                      </a:cubicBezTo>
                      <a:cubicBezTo>
                        <a:pt x="152" y="1010"/>
                        <a:pt x="160" y="1029"/>
                        <a:pt x="169" y="1041"/>
                      </a:cubicBezTo>
                      <a:cubicBezTo>
                        <a:pt x="178" y="1053"/>
                        <a:pt x="180" y="1072"/>
                        <a:pt x="185" y="1069"/>
                      </a:cubicBezTo>
                      <a:cubicBezTo>
                        <a:pt x="190" y="1066"/>
                        <a:pt x="188" y="1034"/>
                        <a:pt x="201" y="1025"/>
                      </a:cubicBezTo>
                      <a:cubicBezTo>
                        <a:pt x="214" y="1016"/>
                        <a:pt x="246" y="1024"/>
                        <a:pt x="261" y="1013"/>
                      </a:cubicBezTo>
                      <a:cubicBezTo>
                        <a:pt x="276" y="1002"/>
                        <a:pt x="275" y="964"/>
                        <a:pt x="293" y="957"/>
                      </a:cubicBezTo>
                      <a:cubicBezTo>
                        <a:pt x="311" y="950"/>
                        <a:pt x="342" y="971"/>
                        <a:pt x="369" y="973"/>
                      </a:cubicBezTo>
                      <a:cubicBezTo>
                        <a:pt x="396" y="975"/>
                        <a:pt x="433" y="958"/>
                        <a:pt x="453" y="969"/>
                      </a:cubicBezTo>
                      <a:cubicBezTo>
                        <a:pt x="473" y="980"/>
                        <a:pt x="464" y="1028"/>
                        <a:pt x="489" y="1041"/>
                      </a:cubicBezTo>
                      <a:cubicBezTo>
                        <a:pt x="514" y="1054"/>
                        <a:pt x="576" y="1038"/>
                        <a:pt x="605" y="1045"/>
                      </a:cubicBezTo>
                      <a:cubicBezTo>
                        <a:pt x="634" y="1052"/>
                        <a:pt x="637" y="1080"/>
                        <a:pt x="665" y="1081"/>
                      </a:cubicBezTo>
                      <a:cubicBezTo>
                        <a:pt x="693" y="1082"/>
                        <a:pt x="742" y="1067"/>
                        <a:pt x="773" y="1049"/>
                      </a:cubicBezTo>
                      <a:cubicBezTo>
                        <a:pt x="804" y="1031"/>
                        <a:pt x="822" y="993"/>
                        <a:pt x="849" y="973"/>
                      </a:cubicBezTo>
                      <a:cubicBezTo>
                        <a:pt x="876" y="953"/>
                        <a:pt x="913" y="942"/>
                        <a:pt x="933" y="929"/>
                      </a:cubicBezTo>
                      <a:cubicBezTo>
                        <a:pt x="953" y="916"/>
                        <a:pt x="953" y="924"/>
                        <a:pt x="969" y="893"/>
                      </a:cubicBezTo>
                      <a:cubicBezTo>
                        <a:pt x="985" y="862"/>
                        <a:pt x="1016" y="786"/>
                        <a:pt x="1029" y="745"/>
                      </a:cubicBezTo>
                      <a:cubicBezTo>
                        <a:pt x="1042" y="704"/>
                        <a:pt x="1055" y="715"/>
                        <a:pt x="1049" y="649"/>
                      </a:cubicBezTo>
                      <a:cubicBezTo>
                        <a:pt x="1043" y="583"/>
                        <a:pt x="1002" y="426"/>
                        <a:pt x="993" y="349"/>
                      </a:cubicBezTo>
                      <a:cubicBezTo>
                        <a:pt x="984" y="272"/>
                        <a:pt x="1025" y="223"/>
                        <a:pt x="993" y="185"/>
                      </a:cubicBezTo>
                      <a:cubicBezTo>
                        <a:pt x="961" y="147"/>
                        <a:pt x="881" y="126"/>
                        <a:pt x="801" y="121"/>
                      </a:cubicBezTo>
                      <a:cubicBezTo>
                        <a:pt x="721" y="116"/>
                        <a:pt x="606" y="174"/>
                        <a:pt x="513" y="157"/>
                      </a:cubicBezTo>
                      <a:cubicBezTo>
                        <a:pt x="420" y="140"/>
                        <a:pt x="304" y="10"/>
                        <a:pt x="249" y="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079840" y="6020280"/>
                  <a:ext cx="191160" cy="192600"/>
                </a:xfrm>
                <a:custGeom>
                  <a:avLst/>
                  <a:gdLst/>
                  <a:ahLst/>
                  <a:rect l="l" t="t" r="r" b="b"/>
                  <a:pathLst>
                    <a:path w="642" h="662">
                      <a:moveTo>
                        <a:pt x="55" y="559"/>
                      </a:moveTo>
                      <a:cubicBezTo>
                        <a:pt x="26" y="532"/>
                        <a:pt x="24" y="518"/>
                        <a:pt x="15" y="483"/>
                      </a:cubicBezTo>
                      <a:cubicBezTo>
                        <a:pt x="6" y="448"/>
                        <a:pt x="0" y="388"/>
                        <a:pt x="3" y="351"/>
                      </a:cubicBezTo>
                      <a:cubicBezTo>
                        <a:pt x="6" y="314"/>
                        <a:pt x="18" y="281"/>
                        <a:pt x="35" y="259"/>
                      </a:cubicBezTo>
                      <a:cubicBezTo>
                        <a:pt x="52" y="237"/>
                        <a:pt x="79" y="230"/>
                        <a:pt x="107" y="219"/>
                      </a:cubicBezTo>
                      <a:cubicBezTo>
                        <a:pt x="135" y="208"/>
                        <a:pt x="165" y="206"/>
                        <a:pt x="203" y="195"/>
                      </a:cubicBezTo>
                      <a:cubicBezTo>
                        <a:pt x="241" y="184"/>
                        <a:pt x="304" y="180"/>
                        <a:pt x="335" y="151"/>
                      </a:cubicBezTo>
                      <a:cubicBezTo>
                        <a:pt x="366" y="122"/>
                        <a:pt x="370" y="46"/>
                        <a:pt x="391" y="23"/>
                      </a:cubicBezTo>
                      <a:cubicBezTo>
                        <a:pt x="412" y="0"/>
                        <a:pt x="427" y="7"/>
                        <a:pt x="459" y="11"/>
                      </a:cubicBezTo>
                      <a:cubicBezTo>
                        <a:pt x="491" y="15"/>
                        <a:pt x="553" y="20"/>
                        <a:pt x="583" y="47"/>
                      </a:cubicBezTo>
                      <a:cubicBezTo>
                        <a:pt x="613" y="74"/>
                        <a:pt x="642" y="130"/>
                        <a:pt x="639" y="171"/>
                      </a:cubicBezTo>
                      <a:cubicBezTo>
                        <a:pt x="636" y="212"/>
                        <a:pt x="612" y="262"/>
                        <a:pt x="563" y="291"/>
                      </a:cubicBezTo>
                      <a:cubicBezTo>
                        <a:pt x="514" y="320"/>
                        <a:pt x="354" y="295"/>
                        <a:pt x="347" y="343"/>
                      </a:cubicBezTo>
                      <a:cubicBezTo>
                        <a:pt x="340" y="391"/>
                        <a:pt x="496" y="529"/>
                        <a:pt x="523" y="579"/>
                      </a:cubicBezTo>
                      <a:cubicBezTo>
                        <a:pt x="550" y="629"/>
                        <a:pt x="562" y="632"/>
                        <a:pt x="507" y="643"/>
                      </a:cubicBezTo>
                      <a:cubicBezTo>
                        <a:pt x="452" y="654"/>
                        <a:pt x="268" y="662"/>
                        <a:pt x="191" y="647"/>
                      </a:cubicBezTo>
                      <a:cubicBezTo>
                        <a:pt x="114" y="632"/>
                        <a:pt x="84" y="586"/>
                        <a:pt x="55" y="55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db1d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263080" y="6296040"/>
                  <a:ext cx="234000" cy="140040"/>
                </a:xfrm>
                <a:custGeom>
                  <a:avLst/>
                  <a:gdLst/>
                  <a:ahLst/>
                  <a:rect l="l" t="t" r="r" b="b"/>
                  <a:pathLst>
                    <a:path w="786" h="482">
                      <a:moveTo>
                        <a:pt x="8" y="64"/>
                      </a:moveTo>
                      <a:cubicBezTo>
                        <a:pt x="0" y="60"/>
                        <a:pt x="12" y="116"/>
                        <a:pt x="32" y="148"/>
                      </a:cubicBezTo>
                      <a:cubicBezTo>
                        <a:pt x="52" y="180"/>
                        <a:pt x="105" y="232"/>
                        <a:pt x="128" y="256"/>
                      </a:cubicBezTo>
                      <a:cubicBezTo>
                        <a:pt x="151" y="280"/>
                        <a:pt x="149" y="280"/>
                        <a:pt x="172" y="292"/>
                      </a:cubicBezTo>
                      <a:cubicBezTo>
                        <a:pt x="195" y="304"/>
                        <a:pt x="225" y="309"/>
                        <a:pt x="268" y="328"/>
                      </a:cubicBezTo>
                      <a:cubicBezTo>
                        <a:pt x="311" y="347"/>
                        <a:pt x="393" y="385"/>
                        <a:pt x="432" y="404"/>
                      </a:cubicBezTo>
                      <a:cubicBezTo>
                        <a:pt x="471" y="423"/>
                        <a:pt x="473" y="437"/>
                        <a:pt x="504" y="440"/>
                      </a:cubicBezTo>
                      <a:cubicBezTo>
                        <a:pt x="535" y="443"/>
                        <a:pt x="583" y="425"/>
                        <a:pt x="616" y="424"/>
                      </a:cubicBezTo>
                      <a:cubicBezTo>
                        <a:pt x="649" y="423"/>
                        <a:pt x="676" y="429"/>
                        <a:pt x="704" y="436"/>
                      </a:cubicBezTo>
                      <a:cubicBezTo>
                        <a:pt x="732" y="443"/>
                        <a:pt x="782" y="482"/>
                        <a:pt x="784" y="468"/>
                      </a:cubicBezTo>
                      <a:cubicBezTo>
                        <a:pt x="786" y="454"/>
                        <a:pt x="729" y="380"/>
                        <a:pt x="716" y="352"/>
                      </a:cubicBezTo>
                      <a:cubicBezTo>
                        <a:pt x="703" y="324"/>
                        <a:pt x="720" y="295"/>
                        <a:pt x="708" y="300"/>
                      </a:cubicBezTo>
                      <a:cubicBezTo>
                        <a:pt x="696" y="305"/>
                        <a:pt x="669" y="363"/>
                        <a:pt x="644" y="380"/>
                      </a:cubicBezTo>
                      <a:cubicBezTo>
                        <a:pt x="619" y="397"/>
                        <a:pt x="583" y="401"/>
                        <a:pt x="560" y="404"/>
                      </a:cubicBezTo>
                      <a:cubicBezTo>
                        <a:pt x="537" y="407"/>
                        <a:pt x="525" y="409"/>
                        <a:pt x="504" y="400"/>
                      </a:cubicBezTo>
                      <a:cubicBezTo>
                        <a:pt x="483" y="391"/>
                        <a:pt x="459" y="359"/>
                        <a:pt x="436" y="352"/>
                      </a:cubicBezTo>
                      <a:cubicBezTo>
                        <a:pt x="413" y="345"/>
                        <a:pt x="387" y="363"/>
                        <a:pt x="368" y="356"/>
                      </a:cubicBezTo>
                      <a:cubicBezTo>
                        <a:pt x="349" y="349"/>
                        <a:pt x="321" y="319"/>
                        <a:pt x="320" y="308"/>
                      </a:cubicBezTo>
                      <a:cubicBezTo>
                        <a:pt x="319" y="297"/>
                        <a:pt x="347" y="301"/>
                        <a:pt x="364" y="292"/>
                      </a:cubicBezTo>
                      <a:cubicBezTo>
                        <a:pt x="381" y="283"/>
                        <a:pt x="406" y="278"/>
                        <a:pt x="424" y="256"/>
                      </a:cubicBezTo>
                      <a:cubicBezTo>
                        <a:pt x="442" y="234"/>
                        <a:pt x="472" y="197"/>
                        <a:pt x="472" y="156"/>
                      </a:cubicBezTo>
                      <a:cubicBezTo>
                        <a:pt x="472" y="115"/>
                        <a:pt x="443" y="16"/>
                        <a:pt x="424" y="8"/>
                      </a:cubicBezTo>
                      <a:cubicBezTo>
                        <a:pt x="405" y="0"/>
                        <a:pt x="372" y="79"/>
                        <a:pt x="356" y="108"/>
                      </a:cubicBezTo>
                      <a:cubicBezTo>
                        <a:pt x="340" y="137"/>
                        <a:pt x="333" y="158"/>
                        <a:pt x="328" y="184"/>
                      </a:cubicBezTo>
                      <a:cubicBezTo>
                        <a:pt x="323" y="210"/>
                        <a:pt x="339" y="248"/>
                        <a:pt x="328" y="264"/>
                      </a:cubicBezTo>
                      <a:cubicBezTo>
                        <a:pt x="317" y="280"/>
                        <a:pt x="285" y="281"/>
                        <a:pt x="260" y="280"/>
                      </a:cubicBezTo>
                      <a:cubicBezTo>
                        <a:pt x="235" y="279"/>
                        <a:pt x="206" y="278"/>
                        <a:pt x="176" y="260"/>
                      </a:cubicBezTo>
                      <a:cubicBezTo>
                        <a:pt x="146" y="242"/>
                        <a:pt x="107" y="204"/>
                        <a:pt x="80" y="172"/>
                      </a:cubicBezTo>
                      <a:cubicBezTo>
                        <a:pt x="53" y="140"/>
                        <a:pt x="16" y="68"/>
                        <a:pt x="8" y="64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108640" y="6131520"/>
                  <a:ext cx="110520" cy="60480"/>
                </a:xfrm>
                <a:custGeom>
                  <a:avLst/>
                  <a:gdLst/>
                  <a:ahLst/>
                  <a:rect l="l" t="t" r="r" b="b"/>
                  <a:pathLst>
                    <a:path w="371" h="208">
                      <a:moveTo>
                        <a:pt x="198" y="1"/>
                      </a:moveTo>
                      <a:cubicBezTo>
                        <a:pt x="167" y="0"/>
                        <a:pt x="126" y="26"/>
                        <a:pt x="106" y="41"/>
                      </a:cubicBezTo>
                      <a:cubicBezTo>
                        <a:pt x="86" y="56"/>
                        <a:pt x="87" y="76"/>
                        <a:pt x="78" y="89"/>
                      </a:cubicBezTo>
                      <a:cubicBezTo>
                        <a:pt x="69" y="102"/>
                        <a:pt x="61" y="112"/>
                        <a:pt x="50" y="117"/>
                      </a:cubicBezTo>
                      <a:cubicBezTo>
                        <a:pt x="39" y="122"/>
                        <a:pt x="0" y="111"/>
                        <a:pt x="10" y="117"/>
                      </a:cubicBezTo>
                      <a:cubicBezTo>
                        <a:pt x="20" y="123"/>
                        <a:pt x="85" y="149"/>
                        <a:pt x="110" y="153"/>
                      </a:cubicBezTo>
                      <a:cubicBezTo>
                        <a:pt x="135" y="157"/>
                        <a:pt x="163" y="134"/>
                        <a:pt x="162" y="141"/>
                      </a:cubicBezTo>
                      <a:cubicBezTo>
                        <a:pt x="161" y="148"/>
                        <a:pt x="96" y="183"/>
                        <a:pt x="102" y="193"/>
                      </a:cubicBezTo>
                      <a:cubicBezTo>
                        <a:pt x="108" y="203"/>
                        <a:pt x="167" y="202"/>
                        <a:pt x="198" y="201"/>
                      </a:cubicBezTo>
                      <a:cubicBezTo>
                        <a:pt x="229" y="200"/>
                        <a:pt x="257" y="192"/>
                        <a:pt x="286" y="189"/>
                      </a:cubicBezTo>
                      <a:cubicBezTo>
                        <a:pt x="315" y="186"/>
                        <a:pt x="369" y="208"/>
                        <a:pt x="370" y="185"/>
                      </a:cubicBezTo>
                      <a:cubicBezTo>
                        <a:pt x="371" y="162"/>
                        <a:pt x="324" y="78"/>
                        <a:pt x="294" y="49"/>
                      </a:cubicBezTo>
                      <a:cubicBezTo>
                        <a:pt x="264" y="20"/>
                        <a:pt x="229" y="2"/>
                        <a:pt x="19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db1d0"/>
                    </a:gs>
                    <a:gs pos="100000">
                      <a:srgbClr val="fc62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209440" y="5861520"/>
                  <a:ext cx="164160" cy="9720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8" y="24"/>
                      </a:moveTo>
                      <a:cubicBezTo>
                        <a:pt x="16" y="48"/>
                        <a:pt x="97" y="130"/>
                        <a:pt x="136" y="180"/>
                      </a:cubicBezTo>
                      <a:cubicBezTo>
                        <a:pt x="175" y="230"/>
                        <a:pt x="191" y="313"/>
                        <a:pt x="240" y="324"/>
                      </a:cubicBezTo>
                      <a:cubicBezTo>
                        <a:pt x="289" y="335"/>
                        <a:pt x="385" y="265"/>
                        <a:pt x="432" y="244"/>
                      </a:cubicBezTo>
                      <a:cubicBezTo>
                        <a:pt x="479" y="223"/>
                        <a:pt x="551" y="229"/>
                        <a:pt x="520" y="196"/>
                      </a:cubicBezTo>
                      <a:cubicBezTo>
                        <a:pt x="489" y="163"/>
                        <a:pt x="316" y="75"/>
                        <a:pt x="244" y="48"/>
                      </a:cubicBezTo>
                      <a:cubicBezTo>
                        <a:pt x="172" y="21"/>
                        <a:pt x="126" y="38"/>
                        <a:pt x="88" y="36"/>
                      </a:cubicBezTo>
                      <a:cubicBezTo>
                        <a:pt x="50" y="34"/>
                        <a:pt x="0" y="0"/>
                        <a:pt x="8" y="24"/>
                      </a:cubicBezTo>
                      <a:close/>
                    </a:path>
                  </a:pathLst>
                </a:custGeom>
                <a:solidFill>
                  <a:srgbClr val="fc62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260560" y="6007320"/>
                  <a:ext cx="227160" cy="338040"/>
                </a:xfrm>
                <a:custGeom>
                  <a:avLst/>
                  <a:gdLst/>
                  <a:ahLst/>
                  <a:rect l="l" t="t" r="r" b="b"/>
                  <a:pathLst>
                    <a:path w="763" h="1162">
                      <a:moveTo>
                        <a:pt x="384" y="1055"/>
                      </a:moveTo>
                      <a:cubicBezTo>
                        <a:pt x="361" y="1093"/>
                        <a:pt x="345" y="1125"/>
                        <a:pt x="324" y="1139"/>
                      </a:cubicBezTo>
                      <a:cubicBezTo>
                        <a:pt x="303" y="1153"/>
                        <a:pt x="280" y="1162"/>
                        <a:pt x="260" y="1139"/>
                      </a:cubicBezTo>
                      <a:cubicBezTo>
                        <a:pt x="240" y="1116"/>
                        <a:pt x="223" y="1070"/>
                        <a:pt x="204" y="1003"/>
                      </a:cubicBezTo>
                      <a:cubicBezTo>
                        <a:pt x="185" y="936"/>
                        <a:pt x="173" y="814"/>
                        <a:pt x="148" y="739"/>
                      </a:cubicBezTo>
                      <a:cubicBezTo>
                        <a:pt x="123" y="664"/>
                        <a:pt x="71" y="630"/>
                        <a:pt x="52" y="555"/>
                      </a:cubicBezTo>
                      <a:cubicBezTo>
                        <a:pt x="33" y="480"/>
                        <a:pt x="41" y="357"/>
                        <a:pt x="32" y="287"/>
                      </a:cubicBezTo>
                      <a:cubicBezTo>
                        <a:pt x="23" y="217"/>
                        <a:pt x="0" y="174"/>
                        <a:pt x="0" y="135"/>
                      </a:cubicBezTo>
                      <a:cubicBezTo>
                        <a:pt x="0" y="96"/>
                        <a:pt x="2" y="70"/>
                        <a:pt x="32" y="51"/>
                      </a:cubicBezTo>
                      <a:cubicBezTo>
                        <a:pt x="62" y="32"/>
                        <a:pt x="132" y="0"/>
                        <a:pt x="180" y="19"/>
                      </a:cubicBezTo>
                      <a:cubicBezTo>
                        <a:pt x="228" y="38"/>
                        <a:pt x="281" y="73"/>
                        <a:pt x="320" y="163"/>
                      </a:cubicBezTo>
                      <a:cubicBezTo>
                        <a:pt x="359" y="253"/>
                        <a:pt x="349" y="456"/>
                        <a:pt x="416" y="559"/>
                      </a:cubicBezTo>
                      <a:cubicBezTo>
                        <a:pt x="483" y="662"/>
                        <a:pt x="685" y="728"/>
                        <a:pt x="724" y="783"/>
                      </a:cubicBezTo>
                      <a:cubicBezTo>
                        <a:pt x="763" y="838"/>
                        <a:pt x="696" y="870"/>
                        <a:pt x="652" y="891"/>
                      </a:cubicBezTo>
                      <a:cubicBezTo>
                        <a:pt x="608" y="912"/>
                        <a:pt x="505" y="885"/>
                        <a:pt x="460" y="911"/>
                      </a:cubicBezTo>
                      <a:cubicBezTo>
                        <a:pt x="415" y="937"/>
                        <a:pt x="407" y="1017"/>
                        <a:pt x="384" y="105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5336d"/>
                    </a:gs>
                    <a:gs pos="50000">
                      <a:srgbClr val="fb418c"/>
                    </a:gs>
                    <a:gs pos="100000">
                      <a:srgbClr val="c533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181000" y="6116760"/>
                  <a:ext cx="175680" cy="236160"/>
                </a:xfrm>
                <a:custGeom>
                  <a:avLst/>
                  <a:gdLst/>
                  <a:ahLst/>
                  <a:rect l="l" t="t" r="r" b="b"/>
                  <a:pathLst>
                    <a:path w="590" h="812">
                      <a:moveTo>
                        <a:pt x="587" y="795"/>
                      </a:moveTo>
                      <a:cubicBezTo>
                        <a:pt x="584" y="800"/>
                        <a:pt x="565" y="812"/>
                        <a:pt x="539" y="803"/>
                      </a:cubicBezTo>
                      <a:cubicBezTo>
                        <a:pt x="513" y="794"/>
                        <a:pt x="462" y="762"/>
                        <a:pt x="431" y="743"/>
                      </a:cubicBezTo>
                      <a:cubicBezTo>
                        <a:pt x="400" y="724"/>
                        <a:pt x="376" y="718"/>
                        <a:pt x="351" y="691"/>
                      </a:cubicBezTo>
                      <a:cubicBezTo>
                        <a:pt x="326" y="664"/>
                        <a:pt x="294" y="608"/>
                        <a:pt x="279" y="579"/>
                      </a:cubicBezTo>
                      <a:cubicBezTo>
                        <a:pt x="264" y="550"/>
                        <a:pt x="266" y="540"/>
                        <a:pt x="263" y="519"/>
                      </a:cubicBezTo>
                      <a:cubicBezTo>
                        <a:pt x="260" y="498"/>
                        <a:pt x="264" y="486"/>
                        <a:pt x="259" y="455"/>
                      </a:cubicBezTo>
                      <a:cubicBezTo>
                        <a:pt x="254" y="424"/>
                        <a:pt x="245" y="363"/>
                        <a:pt x="235" y="335"/>
                      </a:cubicBezTo>
                      <a:cubicBezTo>
                        <a:pt x="225" y="307"/>
                        <a:pt x="218" y="304"/>
                        <a:pt x="199" y="287"/>
                      </a:cubicBezTo>
                      <a:cubicBezTo>
                        <a:pt x="180" y="270"/>
                        <a:pt x="147" y="255"/>
                        <a:pt x="123" y="235"/>
                      </a:cubicBezTo>
                      <a:cubicBezTo>
                        <a:pt x="99" y="215"/>
                        <a:pt x="69" y="186"/>
                        <a:pt x="55" y="167"/>
                      </a:cubicBezTo>
                      <a:cubicBezTo>
                        <a:pt x="41" y="148"/>
                        <a:pt x="46" y="142"/>
                        <a:pt x="39" y="123"/>
                      </a:cubicBezTo>
                      <a:cubicBezTo>
                        <a:pt x="32" y="104"/>
                        <a:pt x="0" y="70"/>
                        <a:pt x="11" y="55"/>
                      </a:cubicBezTo>
                      <a:cubicBezTo>
                        <a:pt x="22" y="40"/>
                        <a:pt x="69" y="40"/>
                        <a:pt x="103" y="31"/>
                      </a:cubicBezTo>
                      <a:cubicBezTo>
                        <a:pt x="137" y="22"/>
                        <a:pt x="176" y="0"/>
                        <a:pt x="215" y="3"/>
                      </a:cubicBezTo>
                      <a:cubicBezTo>
                        <a:pt x="254" y="6"/>
                        <a:pt x="310" y="25"/>
                        <a:pt x="335" y="47"/>
                      </a:cubicBezTo>
                      <a:cubicBezTo>
                        <a:pt x="360" y="69"/>
                        <a:pt x="361" y="104"/>
                        <a:pt x="367" y="135"/>
                      </a:cubicBezTo>
                      <a:cubicBezTo>
                        <a:pt x="373" y="166"/>
                        <a:pt x="360" y="197"/>
                        <a:pt x="371" y="235"/>
                      </a:cubicBezTo>
                      <a:cubicBezTo>
                        <a:pt x="382" y="273"/>
                        <a:pt x="414" y="312"/>
                        <a:pt x="431" y="363"/>
                      </a:cubicBezTo>
                      <a:cubicBezTo>
                        <a:pt x="448" y="414"/>
                        <a:pt x="467" y="493"/>
                        <a:pt x="475" y="539"/>
                      </a:cubicBezTo>
                      <a:cubicBezTo>
                        <a:pt x="483" y="585"/>
                        <a:pt x="472" y="609"/>
                        <a:pt x="479" y="639"/>
                      </a:cubicBezTo>
                      <a:cubicBezTo>
                        <a:pt x="486" y="669"/>
                        <a:pt x="502" y="697"/>
                        <a:pt x="515" y="719"/>
                      </a:cubicBezTo>
                      <a:cubicBezTo>
                        <a:pt x="528" y="741"/>
                        <a:pt x="544" y="758"/>
                        <a:pt x="555" y="771"/>
                      </a:cubicBezTo>
                      <a:cubicBezTo>
                        <a:pt x="566" y="784"/>
                        <a:pt x="590" y="790"/>
                        <a:pt x="587" y="79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c7cb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397360" y="5905800"/>
                  <a:ext cx="174960" cy="126000"/>
                </a:xfrm>
                <a:custGeom>
                  <a:avLst/>
                  <a:gdLst/>
                  <a:ahLst/>
                  <a:rect l="l" t="t" r="r" b="b"/>
                  <a:pathLst>
                    <a:path w="588" h="434">
                      <a:moveTo>
                        <a:pt x="9" y="65"/>
                      </a:moveTo>
                      <a:cubicBezTo>
                        <a:pt x="0" y="44"/>
                        <a:pt x="33" y="48"/>
                        <a:pt x="53" y="37"/>
                      </a:cubicBezTo>
                      <a:cubicBezTo>
                        <a:pt x="73" y="26"/>
                        <a:pt x="104" y="2"/>
                        <a:pt x="129" y="1"/>
                      </a:cubicBezTo>
                      <a:cubicBezTo>
                        <a:pt x="154" y="0"/>
                        <a:pt x="180" y="17"/>
                        <a:pt x="201" y="33"/>
                      </a:cubicBezTo>
                      <a:cubicBezTo>
                        <a:pt x="222" y="49"/>
                        <a:pt x="234" y="74"/>
                        <a:pt x="253" y="97"/>
                      </a:cubicBezTo>
                      <a:cubicBezTo>
                        <a:pt x="272" y="120"/>
                        <a:pt x="280" y="151"/>
                        <a:pt x="313" y="173"/>
                      </a:cubicBezTo>
                      <a:cubicBezTo>
                        <a:pt x="346" y="195"/>
                        <a:pt x="420" y="204"/>
                        <a:pt x="449" y="229"/>
                      </a:cubicBezTo>
                      <a:cubicBezTo>
                        <a:pt x="478" y="254"/>
                        <a:pt x="472" y="297"/>
                        <a:pt x="489" y="321"/>
                      </a:cubicBezTo>
                      <a:cubicBezTo>
                        <a:pt x="506" y="345"/>
                        <a:pt x="544" y="356"/>
                        <a:pt x="553" y="373"/>
                      </a:cubicBezTo>
                      <a:cubicBezTo>
                        <a:pt x="562" y="390"/>
                        <a:pt x="588" y="434"/>
                        <a:pt x="545" y="421"/>
                      </a:cubicBezTo>
                      <a:cubicBezTo>
                        <a:pt x="502" y="408"/>
                        <a:pt x="370" y="340"/>
                        <a:pt x="297" y="297"/>
                      </a:cubicBezTo>
                      <a:cubicBezTo>
                        <a:pt x="224" y="254"/>
                        <a:pt x="152" y="204"/>
                        <a:pt x="105" y="165"/>
                      </a:cubicBezTo>
                      <a:cubicBezTo>
                        <a:pt x="58" y="126"/>
                        <a:pt x="18" y="86"/>
                        <a:pt x="9" y="65"/>
                      </a:cubicBezTo>
                      <a:close/>
                    </a:path>
                  </a:pathLst>
                </a:custGeom>
                <a:solidFill>
                  <a:srgbClr val="fb4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205120" y="5917320"/>
                  <a:ext cx="263160" cy="129600"/>
                </a:xfrm>
                <a:custGeom>
                  <a:avLst/>
                  <a:gdLst/>
                  <a:ahLst/>
                  <a:rect l="l" t="t" r="r" b="b"/>
                  <a:pathLst>
                    <a:path w="884" h="446">
                      <a:moveTo>
                        <a:pt x="195" y="445"/>
                      </a:moveTo>
                      <a:cubicBezTo>
                        <a:pt x="210" y="444"/>
                        <a:pt x="212" y="400"/>
                        <a:pt x="227" y="385"/>
                      </a:cubicBezTo>
                      <a:cubicBezTo>
                        <a:pt x="242" y="370"/>
                        <a:pt x="258" y="362"/>
                        <a:pt x="283" y="353"/>
                      </a:cubicBezTo>
                      <a:cubicBezTo>
                        <a:pt x="308" y="344"/>
                        <a:pt x="342" y="344"/>
                        <a:pt x="375" y="333"/>
                      </a:cubicBezTo>
                      <a:cubicBezTo>
                        <a:pt x="408" y="322"/>
                        <a:pt x="441" y="286"/>
                        <a:pt x="483" y="285"/>
                      </a:cubicBezTo>
                      <a:cubicBezTo>
                        <a:pt x="525" y="284"/>
                        <a:pt x="566" y="334"/>
                        <a:pt x="627" y="329"/>
                      </a:cubicBezTo>
                      <a:cubicBezTo>
                        <a:pt x="688" y="324"/>
                        <a:pt x="818" y="275"/>
                        <a:pt x="851" y="253"/>
                      </a:cubicBezTo>
                      <a:cubicBezTo>
                        <a:pt x="884" y="231"/>
                        <a:pt x="843" y="222"/>
                        <a:pt x="823" y="197"/>
                      </a:cubicBezTo>
                      <a:cubicBezTo>
                        <a:pt x="803" y="172"/>
                        <a:pt x="765" y="129"/>
                        <a:pt x="731" y="101"/>
                      </a:cubicBezTo>
                      <a:cubicBezTo>
                        <a:pt x="697" y="73"/>
                        <a:pt x="660" y="43"/>
                        <a:pt x="619" y="29"/>
                      </a:cubicBezTo>
                      <a:cubicBezTo>
                        <a:pt x="578" y="15"/>
                        <a:pt x="519" y="21"/>
                        <a:pt x="487" y="17"/>
                      </a:cubicBezTo>
                      <a:cubicBezTo>
                        <a:pt x="455" y="13"/>
                        <a:pt x="450" y="0"/>
                        <a:pt x="427" y="5"/>
                      </a:cubicBezTo>
                      <a:cubicBezTo>
                        <a:pt x="404" y="10"/>
                        <a:pt x="378" y="38"/>
                        <a:pt x="351" y="45"/>
                      </a:cubicBezTo>
                      <a:cubicBezTo>
                        <a:pt x="324" y="52"/>
                        <a:pt x="291" y="35"/>
                        <a:pt x="263" y="49"/>
                      </a:cubicBezTo>
                      <a:cubicBezTo>
                        <a:pt x="235" y="63"/>
                        <a:pt x="210" y="102"/>
                        <a:pt x="183" y="129"/>
                      </a:cubicBezTo>
                      <a:cubicBezTo>
                        <a:pt x="156" y="156"/>
                        <a:pt x="126" y="180"/>
                        <a:pt x="99" y="209"/>
                      </a:cubicBezTo>
                      <a:cubicBezTo>
                        <a:pt x="72" y="238"/>
                        <a:pt x="36" y="276"/>
                        <a:pt x="23" y="301"/>
                      </a:cubicBezTo>
                      <a:cubicBezTo>
                        <a:pt x="10" y="326"/>
                        <a:pt x="0" y="342"/>
                        <a:pt x="19" y="357"/>
                      </a:cubicBezTo>
                      <a:cubicBezTo>
                        <a:pt x="38" y="372"/>
                        <a:pt x="111" y="374"/>
                        <a:pt x="139" y="389"/>
                      </a:cubicBezTo>
                      <a:cubicBezTo>
                        <a:pt x="167" y="404"/>
                        <a:pt x="180" y="446"/>
                        <a:pt x="195" y="4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7cb0"/>
                    </a:gs>
                    <a:gs pos="100000">
                      <a:srgbClr val="fb4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200800" y="5910480"/>
                  <a:ext cx="16272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823">
                      <a:moveTo>
                        <a:pt x="537" y="28"/>
                      </a:moveTo>
                      <a:cubicBezTo>
                        <a:pt x="527" y="20"/>
                        <a:pt x="465" y="0"/>
                        <a:pt x="437" y="4"/>
                      </a:cubicBezTo>
                      <a:cubicBezTo>
                        <a:pt x="409" y="8"/>
                        <a:pt x="397" y="41"/>
                        <a:pt x="369" y="52"/>
                      </a:cubicBezTo>
                      <a:cubicBezTo>
                        <a:pt x="341" y="63"/>
                        <a:pt x="304" y="49"/>
                        <a:pt x="269" y="68"/>
                      </a:cubicBezTo>
                      <a:cubicBezTo>
                        <a:pt x="234" y="87"/>
                        <a:pt x="192" y="138"/>
                        <a:pt x="157" y="168"/>
                      </a:cubicBezTo>
                      <a:cubicBezTo>
                        <a:pt x="122" y="198"/>
                        <a:pt x="83" y="221"/>
                        <a:pt x="61" y="248"/>
                      </a:cubicBezTo>
                      <a:cubicBezTo>
                        <a:pt x="39" y="275"/>
                        <a:pt x="32" y="304"/>
                        <a:pt x="25" y="328"/>
                      </a:cubicBezTo>
                      <a:cubicBezTo>
                        <a:pt x="18" y="352"/>
                        <a:pt x="0" y="378"/>
                        <a:pt x="17" y="392"/>
                      </a:cubicBezTo>
                      <a:cubicBezTo>
                        <a:pt x="34" y="406"/>
                        <a:pt x="96" y="393"/>
                        <a:pt x="125" y="412"/>
                      </a:cubicBezTo>
                      <a:cubicBezTo>
                        <a:pt x="154" y="431"/>
                        <a:pt x="171" y="467"/>
                        <a:pt x="193" y="504"/>
                      </a:cubicBezTo>
                      <a:cubicBezTo>
                        <a:pt x="215" y="541"/>
                        <a:pt x="247" y="597"/>
                        <a:pt x="257" y="636"/>
                      </a:cubicBezTo>
                      <a:cubicBezTo>
                        <a:pt x="267" y="675"/>
                        <a:pt x="262" y="711"/>
                        <a:pt x="253" y="740"/>
                      </a:cubicBezTo>
                      <a:cubicBezTo>
                        <a:pt x="244" y="769"/>
                        <a:pt x="203" y="801"/>
                        <a:pt x="201" y="812"/>
                      </a:cubicBezTo>
                      <a:cubicBezTo>
                        <a:pt x="199" y="823"/>
                        <a:pt x="224" y="815"/>
                        <a:pt x="241" y="808"/>
                      </a:cubicBezTo>
                      <a:cubicBezTo>
                        <a:pt x="258" y="801"/>
                        <a:pt x="294" y="785"/>
                        <a:pt x="301" y="768"/>
                      </a:cubicBezTo>
                      <a:cubicBezTo>
                        <a:pt x="308" y="751"/>
                        <a:pt x="284" y="726"/>
                        <a:pt x="285" y="704"/>
                      </a:cubicBezTo>
                      <a:cubicBezTo>
                        <a:pt x="286" y="682"/>
                        <a:pt x="313" y="661"/>
                        <a:pt x="305" y="636"/>
                      </a:cubicBezTo>
                      <a:cubicBezTo>
                        <a:pt x="297" y="611"/>
                        <a:pt x="250" y="583"/>
                        <a:pt x="237" y="556"/>
                      </a:cubicBezTo>
                      <a:cubicBezTo>
                        <a:pt x="224" y="529"/>
                        <a:pt x="239" y="498"/>
                        <a:pt x="229" y="476"/>
                      </a:cubicBezTo>
                      <a:cubicBezTo>
                        <a:pt x="219" y="454"/>
                        <a:pt x="188" y="439"/>
                        <a:pt x="177" y="424"/>
                      </a:cubicBezTo>
                      <a:cubicBezTo>
                        <a:pt x="166" y="409"/>
                        <a:pt x="180" y="397"/>
                        <a:pt x="161" y="388"/>
                      </a:cubicBezTo>
                      <a:cubicBezTo>
                        <a:pt x="142" y="379"/>
                        <a:pt x="84" y="377"/>
                        <a:pt x="65" y="372"/>
                      </a:cubicBezTo>
                      <a:cubicBezTo>
                        <a:pt x="46" y="367"/>
                        <a:pt x="44" y="369"/>
                        <a:pt x="45" y="356"/>
                      </a:cubicBezTo>
                      <a:cubicBezTo>
                        <a:pt x="46" y="343"/>
                        <a:pt x="56" y="311"/>
                        <a:pt x="69" y="296"/>
                      </a:cubicBezTo>
                      <a:cubicBezTo>
                        <a:pt x="82" y="281"/>
                        <a:pt x="108" y="276"/>
                        <a:pt x="125" y="268"/>
                      </a:cubicBezTo>
                      <a:cubicBezTo>
                        <a:pt x="142" y="260"/>
                        <a:pt x="163" y="259"/>
                        <a:pt x="169" y="248"/>
                      </a:cubicBezTo>
                      <a:cubicBezTo>
                        <a:pt x="175" y="237"/>
                        <a:pt x="154" y="216"/>
                        <a:pt x="161" y="200"/>
                      </a:cubicBezTo>
                      <a:cubicBezTo>
                        <a:pt x="168" y="184"/>
                        <a:pt x="198" y="169"/>
                        <a:pt x="213" y="152"/>
                      </a:cubicBezTo>
                      <a:cubicBezTo>
                        <a:pt x="228" y="135"/>
                        <a:pt x="234" y="112"/>
                        <a:pt x="249" y="100"/>
                      </a:cubicBezTo>
                      <a:cubicBezTo>
                        <a:pt x="264" y="88"/>
                        <a:pt x="282" y="83"/>
                        <a:pt x="305" y="80"/>
                      </a:cubicBezTo>
                      <a:cubicBezTo>
                        <a:pt x="328" y="77"/>
                        <a:pt x="362" y="91"/>
                        <a:pt x="385" y="84"/>
                      </a:cubicBezTo>
                      <a:cubicBezTo>
                        <a:pt x="408" y="77"/>
                        <a:pt x="422" y="41"/>
                        <a:pt x="441" y="36"/>
                      </a:cubicBezTo>
                      <a:cubicBezTo>
                        <a:pt x="460" y="31"/>
                        <a:pt x="482" y="53"/>
                        <a:pt x="497" y="52"/>
                      </a:cubicBezTo>
                      <a:cubicBezTo>
                        <a:pt x="512" y="51"/>
                        <a:pt x="547" y="36"/>
                        <a:pt x="537" y="28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335440" y="6149520"/>
                  <a:ext cx="138600" cy="92160"/>
                </a:xfrm>
                <a:custGeom>
                  <a:avLst/>
                  <a:gdLst/>
                  <a:ahLst/>
                  <a:rect l="l" t="t" r="r" b="b"/>
                  <a:pathLst>
                    <a:path w="466" h="317">
                      <a:moveTo>
                        <a:pt x="21" y="23"/>
                      </a:moveTo>
                      <a:cubicBezTo>
                        <a:pt x="0" y="36"/>
                        <a:pt x="20" y="75"/>
                        <a:pt x="25" y="91"/>
                      </a:cubicBezTo>
                      <a:cubicBezTo>
                        <a:pt x="30" y="107"/>
                        <a:pt x="50" y="109"/>
                        <a:pt x="49" y="119"/>
                      </a:cubicBezTo>
                      <a:cubicBezTo>
                        <a:pt x="48" y="129"/>
                        <a:pt x="16" y="146"/>
                        <a:pt x="21" y="151"/>
                      </a:cubicBezTo>
                      <a:cubicBezTo>
                        <a:pt x="26" y="156"/>
                        <a:pt x="60" y="152"/>
                        <a:pt x="77" y="151"/>
                      </a:cubicBezTo>
                      <a:cubicBezTo>
                        <a:pt x="94" y="150"/>
                        <a:pt x="119" y="138"/>
                        <a:pt x="121" y="147"/>
                      </a:cubicBezTo>
                      <a:cubicBezTo>
                        <a:pt x="123" y="156"/>
                        <a:pt x="86" y="192"/>
                        <a:pt x="89" y="203"/>
                      </a:cubicBezTo>
                      <a:cubicBezTo>
                        <a:pt x="92" y="214"/>
                        <a:pt x="128" y="212"/>
                        <a:pt x="141" y="215"/>
                      </a:cubicBezTo>
                      <a:cubicBezTo>
                        <a:pt x="154" y="218"/>
                        <a:pt x="164" y="216"/>
                        <a:pt x="169" y="223"/>
                      </a:cubicBezTo>
                      <a:cubicBezTo>
                        <a:pt x="174" y="230"/>
                        <a:pt x="159" y="246"/>
                        <a:pt x="173" y="259"/>
                      </a:cubicBezTo>
                      <a:cubicBezTo>
                        <a:pt x="187" y="272"/>
                        <a:pt x="228" y="290"/>
                        <a:pt x="253" y="299"/>
                      </a:cubicBezTo>
                      <a:cubicBezTo>
                        <a:pt x="278" y="308"/>
                        <a:pt x="302" y="314"/>
                        <a:pt x="325" y="315"/>
                      </a:cubicBezTo>
                      <a:cubicBezTo>
                        <a:pt x="348" y="316"/>
                        <a:pt x="366" y="310"/>
                        <a:pt x="389" y="307"/>
                      </a:cubicBezTo>
                      <a:cubicBezTo>
                        <a:pt x="412" y="304"/>
                        <a:pt x="466" y="317"/>
                        <a:pt x="461" y="295"/>
                      </a:cubicBezTo>
                      <a:cubicBezTo>
                        <a:pt x="456" y="273"/>
                        <a:pt x="394" y="210"/>
                        <a:pt x="361" y="175"/>
                      </a:cubicBezTo>
                      <a:cubicBezTo>
                        <a:pt x="328" y="140"/>
                        <a:pt x="296" y="114"/>
                        <a:pt x="261" y="87"/>
                      </a:cubicBezTo>
                      <a:cubicBezTo>
                        <a:pt x="226" y="60"/>
                        <a:pt x="192" y="22"/>
                        <a:pt x="153" y="11"/>
                      </a:cubicBezTo>
                      <a:cubicBezTo>
                        <a:pt x="114" y="0"/>
                        <a:pt x="42" y="10"/>
                        <a:pt x="21" y="23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299800" y="6058080"/>
                  <a:ext cx="99720" cy="11160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149" y="13"/>
                      </a:moveTo>
                      <a:cubicBezTo>
                        <a:pt x="124" y="26"/>
                        <a:pt x="78" y="64"/>
                        <a:pt x="53" y="93"/>
                      </a:cubicBezTo>
                      <a:cubicBezTo>
                        <a:pt x="28" y="122"/>
                        <a:pt x="2" y="169"/>
                        <a:pt x="1" y="185"/>
                      </a:cubicBezTo>
                      <a:cubicBezTo>
                        <a:pt x="0" y="201"/>
                        <a:pt x="28" y="192"/>
                        <a:pt x="49" y="189"/>
                      </a:cubicBezTo>
                      <a:cubicBezTo>
                        <a:pt x="70" y="186"/>
                        <a:pt x="123" y="156"/>
                        <a:pt x="125" y="165"/>
                      </a:cubicBezTo>
                      <a:cubicBezTo>
                        <a:pt x="127" y="174"/>
                        <a:pt x="64" y="222"/>
                        <a:pt x="61" y="241"/>
                      </a:cubicBezTo>
                      <a:cubicBezTo>
                        <a:pt x="58" y="260"/>
                        <a:pt x="102" y="260"/>
                        <a:pt x="105" y="277"/>
                      </a:cubicBezTo>
                      <a:cubicBezTo>
                        <a:pt x="108" y="294"/>
                        <a:pt x="72" y="329"/>
                        <a:pt x="81" y="341"/>
                      </a:cubicBezTo>
                      <a:cubicBezTo>
                        <a:pt x="90" y="353"/>
                        <a:pt x="140" y="342"/>
                        <a:pt x="157" y="349"/>
                      </a:cubicBezTo>
                      <a:cubicBezTo>
                        <a:pt x="174" y="356"/>
                        <a:pt x="166" y="384"/>
                        <a:pt x="185" y="381"/>
                      </a:cubicBezTo>
                      <a:cubicBezTo>
                        <a:pt x="204" y="378"/>
                        <a:pt x="245" y="358"/>
                        <a:pt x="269" y="333"/>
                      </a:cubicBezTo>
                      <a:cubicBezTo>
                        <a:pt x="293" y="308"/>
                        <a:pt x="322" y="268"/>
                        <a:pt x="329" y="233"/>
                      </a:cubicBezTo>
                      <a:cubicBezTo>
                        <a:pt x="336" y="198"/>
                        <a:pt x="323" y="150"/>
                        <a:pt x="309" y="125"/>
                      </a:cubicBezTo>
                      <a:cubicBezTo>
                        <a:pt x="295" y="100"/>
                        <a:pt x="263" y="100"/>
                        <a:pt x="245" y="81"/>
                      </a:cubicBezTo>
                      <a:cubicBezTo>
                        <a:pt x="227" y="62"/>
                        <a:pt x="216" y="24"/>
                        <a:pt x="201" y="13"/>
                      </a:cubicBezTo>
                      <a:cubicBezTo>
                        <a:pt x="186" y="2"/>
                        <a:pt x="174" y="0"/>
                        <a:pt x="149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284680" y="5976000"/>
                  <a:ext cx="109080" cy="54360"/>
                </a:xfrm>
                <a:custGeom>
                  <a:avLst/>
                  <a:gdLst/>
                  <a:ahLst/>
                  <a:rect l="l" t="t" r="r" b="b"/>
                  <a:pathLst>
                    <a:path w="367" h="187">
                      <a:moveTo>
                        <a:pt x="15" y="143"/>
                      </a:moveTo>
                      <a:cubicBezTo>
                        <a:pt x="0" y="133"/>
                        <a:pt x="30" y="112"/>
                        <a:pt x="55" y="99"/>
                      </a:cubicBezTo>
                      <a:cubicBezTo>
                        <a:pt x="80" y="86"/>
                        <a:pt x="132" y="83"/>
                        <a:pt x="163" y="67"/>
                      </a:cubicBezTo>
                      <a:cubicBezTo>
                        <a:pt x="194" y="51"/>
                        <a:pt x="218" y="6"/>
                        <a:pt x="239" y="3"/>
                      </a:cubicBezTo>
                      <a:cubicBezTo>
                        <a:pt x="260" y="0"/>
                        <a:pt x="270" y="31"/>
                        <a:pt x="291" y="47"/>
                      </a:cubicBezTo>
                      <a:cubicBezTo>
                        <a:pt x="312" y="63"/>
                        <a:pt x="367" y="77"/>
                        <a:pt x="367" y="99"/>
                      </a:cubicBezTo>
                      <a:cubicBezTo>
                        <a:pt x="367" y="121"/>
                        <a:pt x="318" y="171"/>
                        <a:pt x="291" y="179"/>
                      </a:cubicBezTo>
                      <a:cubicBezTo>
                        <a:pt x="264" y="187"/>
                        <a:pt x="228" y="150"/>
                        <a:pt x="203" y="147"/>
                      </a:cubicBezTo>
                      <a:cubicBezTo>
                        <a:pt x="178" y="144"/>
                        <a:pt x="173" y="160"/>
                        <a:pt x="143" y="159"/>
                      </a:cubicBezTo>
                      <a:cubicBezTo>
                        <a:pt x="113" y="158"/>
                        <a:pt x="30" y="153"/>
                        <a:pt x="15" y="143"/>
                      </a:cubicBezTo>
                      <a:close/>
                    </a:path>
                  </a:pathLst>
                </a:custGeom>
                <a:solidFill>
                  <a:srgbClr val="fc62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263800" y="6006240"/>
                  <a:ext cx="138240" cy="96120"/>
                </a:xfrm>
                <a:custGeom>
                  <a:avLst/>
                  <a:gdLst/>
                  <a:ahLst/>
                  <a:rect l="l" t="t" r="r" b="b"/>
                  <a:pathLst>
                    <a:path w="465" h="331">
                      <a:moveTo>
                        <a:pt x="413" y="331"/>
                      </a:moveTo>
                      <a:cubicBezTo>
                        <a:pt x="404" y="331"/>
                        <a:pt x="411" y="289"/>
                        <a:pt x="401" y="287"/>
                      </a:cubicBezTo>
                      <a:cubicBezTo>
                        <a:pt x="391" y="285"/>
                        <a:pt x="366" y="323"/>
                        <a:pt x="353" y="319"/>
                      </a:cubicBezTo>
                      <a:cubicBezTo>
                        <a:pt x="340" y="315"/>
                        <a:pt x="326" y="281"/>
                        <a:pt x="321" y="263"/>
                      </a:cubicBezTo>
                      <a:cubicBezTo>
                        <a:pt x="316" y="245"/>
                        <a:pt x="328" y="217"/>
                        <a:pt x="321" y="211"/>
                      </a:cubicBezTo>
                      <a:cubicBezTo>
                        <a:pt x="314" y="205"/>
                        <a:pt x="288" y="232"/>
                        <a:pt x="277" y="227"/>
                      </a:cubicBezTo>
                      <a:cubicBezTo>
                        <a:pt x="266" y="222"/>
                        <a:pt x="258" y="202"/>
                        <a:pt x="257" y="183"/>
                      </a:cubicBezTo>
                      <a:cubicBezTo>
                        <a:pt x="256" y="164"/>
                        <a:pt x="277" y="127"/>
                        <a:pt x="269" y="115"/>
                      </a:cubicBezTo>
                      <a:cubicBezTo>
                        <a:pt x="261" y="103"/>
                        <a:pt x="223" y="117"/>
                        <a:pt x="209" y="111"/>
                      </a:cubicBezTo>
                      <a:cubicBezTo>
                        <a:pt x="195" y="105"/>
                        <a:pt x="192" y="90"/>
                        <a:pt x="185" y="79"/>
                      </a:cubicBezTo>
                      <a:cubicBezTo>
                        <a:pt x="178" y="68"/>
                        <a:pt x="174" y="48"/>
                        <a:pt x="165" y="47"/>
                      </a:cubicBezTo>
                      <a:cubicBezTo>
                        <a:pt x="156" y="46"/>
                        <a:pt x="141" y="74"/>
                        <a:pt x="129" y="75"/>
                      </a:cubicBezTo>
                      <a:cubicBezTo>
                        <a:pt x="117" y="76"/>
                        <a:pt x="108" y="49"/>
                        <a:pt x="93" y="51"/>
                      </a:cubicBezTo>
                      <a:cubicBezTo>
                        <a:pt x="78" y="53"/>
                        <a:pt x="52" y="73"/>
                        <a:pt x="37" y="87"/>
                      </a:cubicBezTo>
                      <a:cubicBezTo>
                        <a:pt x="22" y="101"/>
                        <a:pt x="2" y="138"/>
                        <a:pt x="1" y="135"/>
                      </a:cubicBezTo>
                      <a:cubicBezTo>
                        <a:pt x="0" y="132"/>
                        <a:pt x="16" y="84"/>
                        <a:pt x="29" y="67"/>
                      </a:cubicBezTo>
                      <a:cubicBezTo>
                        <a:pt x="42" y="50"/>
                        <a:pt x="61" y="45"/>
                        <a:pt x="81" y="35"/>
                      </a:cubicBezTo>
                      <a:cubicBezTo>
                        <a:pt x="101" y="25"/>
                        <a:pt x="128" y="9"/>
                        <a:pt x="149" y="7"/>
                      </a:cubicBezTo>
                      <a:cubicBezTo>
                        <a:pt x="170" y="5"/>
                        <a:pt x="190" y="18"/>
                        <a:pt x="205" y="23"/>
                      </a:cubicBezTo>
                      <a:cubicBezTo>
                        <a:pt x="220" y="28"/>
                        <a:pt x="226" y="42"/>
                        <a:pt x="237" y="39"/>
                      </a:cubicBezTo>
                      <a:cubicBezTo>
                        <a:pt x="248" y="36"/>
                        <a:pt x="258" y="6"/>
                        <a:pt x="269" y="3"/>
                      </a:cubicBezTo>
                      <a:cubicBezTo>
                        <a:pt x="280" y="0"/>
                        <a:pt x="289" y="15"/>
                        <a:pt x="305" y="23"/>
                      </a:cubicBezTo>
                      <a:cubicBezTo>
                        <a:pt x="321" y="31"/>
                        <a:pt x="352" y="29"/>
                        <a:pt x="365" y="51"/>
                      </a:cubicBezTo>
                      <a:cubicBezTo>
                        <a:pt x="378" y="73"/>
                        <a:pt x="366" y="129"/>
                        <a:pt x="381" y="155"/>
                      </a:cubicBezTo>
                      <a:cubicBezTo>
                        <a:pt x="396" y="181"/>
                        <a:pt x="441" y="185"/>
                        <a:pt x="453" y="207"/>
                      </a:cubicBezTo>
                      <a:cubicBezTo>
                        <a:pt x="465" y="229"/>
                        <a:pt x="458" y="266"/>
                        <a:pt x="453" y="287"/>
                      </a:cubicBezTo>
                      <a:cubicBezTo>
                        <a:pt x="448" y="308"/>
                        <a:pt x="422" y="331"/>
                        <a:pt x="413" y="331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368920" y="6083280"/>
                  <a:ext cx="70560" cy="115560"/>
                </a:xfrm>
                <a:custGeom>
                  <a:avLst/>
                  <a:gdLst/>
                  <a:ahLst/>
                  <a:rect l="l" t="t" r="r" b="b"/>
                  <a:pathLst>
                    <a:path w="237" h="398">
                      <a:moveTo>
                        <a:pt x="93" y="19"/>
                      </a:moveTo>
                      <a:cubicBezTo>
                        <a:pt x="79" y="26"/>
                        <a:pt x="64" y="54"/>
                        <a:pt x="57" y="67"/>
                      </a:cubicBezTo>
                      <a:cubicBezTo>
                        <a:pt x="50" y="80"/>
                        <a:pt x="48" y="90"/>
                        <a:pt x="49" y="99"/>
                      </a:cubicBezTo>
                      <a:cubicBezTo>
                        <a:pt x="50" y="108"/>
                        <a:pt x="64" y="110"/>
                        <a:pt x="65" y="119"/>
                      </a:cubicBezTo>
                      <a:cubicBezTo>
                        <a:pt x="66" y="128"/>
                        <a:pt x="52" y="146"/>
                        <a:pt x="53" y="155"/>
                      </a:cubicBezTo>
                      <a:cubicBezTo>
                        <a:pt x="54" y="164"/>
                        <a:pt x="74" y="163"/>
                        <a:pt x="69" y="175"/>
                      </a:cubicBezTo>
                      <a:cubicBezTo>
                        <a:pt x="64" y="187"/>
                        <a:pt x="32" y="212"/>
                        <a:pt x="21" y="227"/>
                      </a:cubicBezTo>
                      <a:cubicBezTo>
                        <a:pt x="10" y="242"/>
                        <a:pt x="0" y="250"/>
                        <a:pt x="5" y="263"/>
                      </a:cubicBezTo>
                      <a:cubicBezTo>
                        <a:pt x="10" y="276"/>
                        <a:pt x="34" y="296"/>
                        <a:pt x="49" y="303"/>
                      </a:cubicBezTo>
                      <a:cubicBezTo>
                        <a:pt x="64" y="310"/>
                        <a:pt x="91" y="301"/>
                        <a:pt x="97" y="307"/>
                      </a:cubicBezTo>
                      <a:cubicBezTo>
                        <a:pt x="103" y="313"/>
                        <a:pt x="84" y="330"/>
                        <a:pt x="85" y="339"/>
                      </a:cubicBezTo>
                      <a:cubicBezTo>
                        <a:pt x="86" y="348"/>
                        <a:pt x="90" y="357"/>
                        <a:pt x="105" y="363"/>
                      </a:cubicBezTo>
                      <a:cubicBezTo>
                        <a:pt x="120" y="369"/>
                        <a:pt x="163" y="398"/>
                        <a:pt x="177" y="375"/>
                      </a:cubicBezTo>
                      <a:cubicBezTo>
                        <a:pt x="191" y="352"/>
                        <a:pt x="180" y="258"/>
                        <a:pt x="189" y="223"/>
                      </a:cubicBezTo>
                      <a:cubicBezTo>
                        <a:pt x="198" y="188"/>
                        <a:pt x="237" y="200"/>
                        <a:pt x="229" y="167"/>
                      </a:cubicBezTo>
                      <a:cubicBezTo>
                        <a:pt x="221" y="134"/>
                        <a:pt x="164" y="46"/>
                        <a:pt x="141" y="23"/>
                      </a:cubicBezTo>
                      <a:cubicBezTo>
                        <a:pt x="118" y="0"/>
                        <a:pt x="107" y="12"/>
                        <a:pt x="93" y="1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405640" y="6129720"/>
                  <a:ext cx="89640" cy="111600"/>
                </a:xfrm>
                <a:custGeom>
                  <a:avLst/>
                  <a:gdLst/>
                  <a:ahLst/>
                  <a:rect l="l" t="t" r="r" b="b"/>
                  <a:pathLst>
                    <a:path w="301" h="384">
                      <a:moveTo>
                        <a:pt x="98" y="11"/>
                      </a:moveTo>
                      <a:cubicBezTo>
                        <a:pt x="79" y="0"/>
                        <a:pt x="45" y="4"/>
                        <a:pt x="34" y="15"/>
                      </a:cubicBezTo>
                      <a:cubicBezTo>
                        <a:pt x="23" y="26"/>
                        <a:pt x="35" y="58"/>
                        <a:pt x="30" y="75"/>
                      </a:cubicBezTo>
                      <a:cubicBezTo>
                        <a:pt x="25" y="92"/>
                        <a:pt x="0" y="103"/>
                        <a:pt x="2" y="115"/>
                      </a:cubicBezTo>
                      <a:cubicBezTo>
                        <a:pt x="4" y="127"/>
                        <a:pt x="38" y="132"/>
                        <a:pt x="42" y="147"/>
                      </a:cubicBezTo>
                      <a:cubicBezTo>
                        <a:pt x="46" y="162"/>
                        <a:pt x="24" y="187"/>
                        <a:pt x="26" y="203"/>
                      </a:cubicBezTo>
                      <a:cubicBezTo>
                        <a:pt x="28" y="219"/>
                        <a:pt x="49" y="231"/>
                        <a:pt x="54" y="243"/>
                      </a:cubicBezTo>
                      <a:cubicBezTo>
                        <a:pt x="59" y="255"/>
                        <a:pt x="46" y="271"/>
                        <a:pt x="54" y="275"/>
                      </a:cubicBezTo>
                      <a:cubicBezTo>
                        <a:pt x="62" y="279"/>
                        <a:pt x="89" y="258"/>
                        <a:pt x="102" y="267"/>
                      </a:cubicBezTo>
                      <a:cubicBezTo>
                        <a:pt x="115" y="276"/>
                        <a:pt x="117" y="311"/>
                        <a:pt x="130" y="327"/>
                      </a:cubicBezTo>
                      <a:cubicBezTo>
                        <a:pt x="143" y="343"/>
                        <a:pt x="157" y="355"/>
                        <a:pt x="178" y="363"/>
                      </a:cubicBezTo>
                      <a:cubicBezTo>
                        <a:pt x="199" y="371"/>
                        <a:pt x="234" y="384"/>
                        <a:pt x="254" y="375"/>
                      </a:cubicBezTo>
                      <a:cubicBezTo>
                        <a:pt x="274" y="366"/>
                        <a:pt x="301" y="344"/>
                        <a:pt x="298" y="311"/>
                      </a:cubicBezTo>
                      <a:cubicBezTo>
                        <a:pt x="295" y="278"/>
                        <a:pt x="263" y="217"/>
                        <a:pt x="238" y="179"/>
                      </a:cubicBezTo>
                      <a:cubicBezTo>
                        <a:pt x="213" y="141"/>
                        <a:pt x="173" y="112"/>
                        <a:pt x="150" y="83"/>
                      </a:cubicBezTo>
                      <a:cubicBezTo>
                        <a:pt x="127" y="54"/>
                        <a:pt x="117" y="22"/>
                        <a:pt x="98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358120" y="5984640"/>
                  <a:ext cx="158040" cy="200160"/>
                </a:xfrm>
                <a:custGeom>
                  <a:avLst/>
                  <a:gdLst/>
                  <a:ahLst/>
                  <a:rect l="l" t="t" r="r" b="b"/>
                  <a:pathLst>
                    <a:path w="531" h="688">
                      <a:moveTo>
                        <a:pt x="353" y="18"/>
                      </a:moveTo>
                      <a:cubicBezTo>
                        <a:pt x="312" y="0"/>
                        <a:pt x="296" y="0"/>
                        <a:pt x="257" y="6"/>
                      </a:cubicBezTo>
                      <a:cubicBezTo>
                        <a:pt x="218" y="12"/>
                        <a:pt x="158" y="46"/>
                        <a:pt x="121" y="54"/>
                      </a:cubicBezTo>
                      <a:cubicBezTo>
                        <a:pt x="84" y="62"/>
                        <a:pt x="52" y="46"/>
                        <a:pt x="37" y="54"/>
                      </a:cubicBezTo>
                      <a:cubicBezTo>
                        <a:pt x="22" y="62"/>
                        <a:pt x="35" y="87"/>
                        <a:pt x="29" y="102"/>
                      </a:cubicBezTo>
                      <a:cubicBezTo>
                        <a:pt x="23" y="117"/>
                        <a:pt x="0" y="133"/>
                        <a:pt x="1" y="142"/>
                      </a:cubicBezTo>
                      <a:cubicBezTo>
                        <a:pt x="2" y="151"/>
                        <a:pt x="32" y="145"/>
                        <a:pt x="33" y="154"/>
                      </a:cubicBezTo>
                      <a:cubicBezTo>
                        <a:pt x="34" y="163"/>
                        <a:pt x="4" y="187"/>
                        <a:pt x="5" y="198"/>
                      </a:cubicBezTo>
                      <a:cubicBezTo>
                        <a:pt x="6" y="209"/>
                        <a:pt x="34" y="210"/>
                        <a:pt x="37" y="222"/>
                      </a:cubicBezTo>
                      <a:cubicBezTo>
                        <a:pt x="40" y="234"/>
                        <a:pt x="16" y="257"/>
                        <a:pt x="21" y="270"/>
                      </a:cubicBezTo>
                      <a:cubicBezTo>
                        <a:pt x="26" y="283"/>
                        <a:pt x="59" y="289"/>
                        <a:pt x="69" y="298"/>
                      </a:cubicBezTo>
                      <a:cubicBezTo>
                        <a:pt x="79" y="307"/>
                        <a:pt x="72" y="318"/>
                        <a:pt x="81" y="322"/>
                      </a:cubicBezTo>
                      <a:cubicBezTo>
                        <a:pt x="90" y="326"/>
                        <a:pt x="118" y="315"/>
                        <a:pt x="125" y="322"/>
                      </a:cubicBezTo>
                      <a:cubicBezTo>
                        <a:pt x="132" y="329"/>
                        <a:pt x="110" y="352"/>
                        <a:pt x="121" y="366"/>
                      </a:cubicBezTo>
                      <a:cubicBezTo>
                        <a:pt x="132" y="380"/>
                        <a:pt x="170" y="381"/>
                        <a:pt x="189" y="406"/>
                      </a:cubicBezTo>
                      <a:cubicBezTo>
                        <a:pt x="208" y="431"/>
                        <a:pt x="224" y="485"/>
                        <a:pt x="237" y="518"/>
                      </a:cubicBezTo>
                      <a:cubicBezTo>
                        <a:pt x="250" y="551"/>
                        <a:pt x="241" y="579"/>
                        <a:pt x="269" y="606"/>
                      </a:cubicBezTo>
                      <a:cubicBezTo>
                        <a:pt x="297" y="633"/>
                        <a:pt x="370" y="688"/>
                        <a:pt x="405" y="678"/>
                      </a:cubicBezTo>
                      <a:cubicBezTo>
                        <a:pt x="440" y="668"/>
                        <a:pt x="467" y="615"/>
                        <a:pt x="477" y="546"/>
                      </a:cubicBezTo>
                      <a:cubicBezTo>
                        <a:pt x="487" y="477"/>
                        <a:pt x="462" y="321"/>
                        <a:pt x="465" y="262"/>
                      </a:cubicBezTo>
                      <a:cubicBezTo>
                        <a:pt x="468" y="203"/>
                        <a:pt x="490" y="219"/>
                        <a:pt x="497" y="194"/>
                      </a:cubicBezTo>
                      <a:cubicBezTo>
                        <a:pt x="504" y="169"/>
                        <a:pt x="531" y="143"/>
                        <a:pt x="505" y="114"/>
                      </a:cubicBezTo>
                      <a:cubicBezTo>
                        <a:pt x="479" y="85"/>
                        <a:pt x="394" y="36"/>
                        <a:pt x="353" y="1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453520" y="6020640"/>
                  <a:ext cx="137880" cy="261360"/>
                </a:xfrm>
                <a:custGeom>
                  <a:avLst/>
                  <a:gdLst/>
                  <a:ahLst/>
                  <a:rect l="l" t="t" r="r" b="b"/>
                  <a:pathLst>
                    <a:path w="464" h="899">
                      <a:moveTo>
                        <a:pt x="25" y="862"/>
                      </a:moveTo>
                      <a:cubicBezTo>
                        <a:pt x="5" y="849"/>
                        <a:pt x="18" y="827"/>
                        <a:pt x="21" y="814"/>
                      </a:cubicBezTo>
                      <a:cubicBezTo>
                        <a:pt x="24" y="801"/>
                        <a:pt x="42" y="796"/>
                        <a:pt x="45" y="786"/>
                      </a:cubicBezTo>
                      <a:cubicBezTo>
                        <a:pt x="48" y="776"/>
                        <a:pt x="31" y="764"/>
                        <a:pt x="37" y="754"/>
                      </a:cubicBezTo>
                      <a:cubicBezTo>
                        <a:pt x="43" y="744"/>
                        <a:pt x="67" y="736"/>
                        <a:pt x="81" y="726"/>
                      </a:cubicBezTo>
                      <a:cubicBezTo>
                        <a:pt x="95" y="716"/>
                        <a:pt x="122" y="707"/>
                        <a:pt x="121" y="694"/>
                      </a:cubicBezTo>
                      <a:cubicBezTo>
                        <a:pt x="120" y="681"/>
                        <a:pt x="82" y="660"/>
                        <a:pt x="73" y="646"/>
                      </a:cubicBezTo>
                      <a:cubicBezTo>
                        <a:pt x="64" y="632"/>
                        <a:pt x="65" y="620"/>
                        <a:pt x="65" y="610"/>
                      </a:cubicBezTo>
                      <a:cubicBezTo>
                        <a:pt x="65" y="600"/>
                        <a:pt x="79" y="594"/>
                        <a:pt x="73" y="586"/>
                      </a:cubicBezTo>
                      <a:cubicBezTo>
                        <a:pt x="67" y="578"/>
                        <a:pt x="31" y="575"/>
                        <a:pt x="29" y="562"/>
                      </a:cubicBezTo>
                      <a:cubicBezTo>
                        <a:pt x="27" y="549"/>
                        <a:pt x="51" y="521"/>
                        <a:pt x="61" y="506"/>
                      </a:cubicBezTo>
                      <a:cubicBezTo>
                        <a:pt x="71" y="491"/>
                        <a:pt x="86" y="485"/>
                        <a:pt x="89" y="474"/>
                      </a:cubicBezTo>
                      <a:cubicBezTo>
                        <a:pt x="92" y="463"/>
                        <a:pt x="83" y="452"/>
                        <a:pt x="81" y="442"/>
                      </a:cubicBezTo>
                      <a:cubicBezTo>
                        <a:pt x="79" y="432"/>
                        <a:pt x="76" y="423"/>
                        <a:pt x="77" y="414"/>
                      </a:cubicBezTo>
                      <a:cubicBezTo>
                        <a:pt x="78" y="405"/>
                        <a:pt x="92" y="393"/>
                        <a:pt x="89" y="386"/>
                      </a:cubicBezTo>
                      <a:cubicBezTo>
                        <a:pt x="86" y="379"/>
                        <a:pt x="64" y="382"/>
                        <a:pt x="57" y="374"/>
                      </a:cubicBezTo>
                      <a:cubicBezTo>
                        <a:pt x="50" y="366"/>
                        <a:pt x="43" y="351"/>
                        <a:pt x="45" y="338"/>
                      </a:cubicBezTo>
                      <a:cubicBezTo>
                        <a:pt x="47" y="325"/>
                        <a:pt x="73" y="311"/>
                        <a:pt x="69" y="298"/>
                      </a:cubicBezTo>
                      <a:cubicBezTo>
                        <a:pt x="65" y="285"/>
                        <a:pt x="22" y="272"/>
                        <a:pt x="21" y="262"/>
                      </a:cubicBezTo>
                      <a:cubicBezTo>
                        <a:pt x="20" y="252"/>
                        <a:pt x="54" y="246"/>
                        <a:pt x="65" y="238"/>
                      </a:cubicBezTo>
                      <a:cubicBezTo>
                        <a:pt x="76" y="230"/>
                        <a:pt x="84" y="224"/>
                        <a:pt x="85" y="214"/>
                      </a:cubicBezTo>
                      <a:cubicBezTo>
                        <a:pt x="86" y="204"/>
                        <a:pt x="70" y="191"/>
                        <a:pt x="73" y="178"/>
                      </a:cubicBezTo>
                      <a:cubicBezTo>
                        <a:pt x="76" y="165"/>
                        <a:pt x="106" y="146"/>
                        <a:pt x="105" y="138"/>
                      </a:cubicBezTo>
                      <a:cubicBezTo>
                        <a:pt x="104" y="130"/>
                        <a:pt x="68" y="138"/>
                        <a:pt x="65" y="130"/>
                      </a:cubicBezTo>
                      <a:cubicBezTo>
                        <a:pt x="62" y="122"/>
                        <a:pt x="91" y="97"/>
                        <a:pt x="89" y="90"/>
                      </a:cubicBezTo>
                      <a:cubicBezTo>
                        <a:pt x="87" y="83"/>
                        <a:pt x="60" y="97"/>
                        <a:pt x="53" y="90"/>
                      </a:cubicBezTo>
                      <a:cubicBezTo>
                        <a:pt x="46" y="83"/>
                        <a:pt x="57" y="51"/>
                        <a:pt x="49" y="46"/>
                      </a:cubicBezTo>
                      <a:cubicBezTo>
                        <a:pt x="41" y="41"/>
                        <a:pt x="10" y="66"/>
                        <a:pt x="5" y="62"/>
                      </a:cubicBezTo>
                      <a:cubicBezTo>
                        <a:pt x="0" y="58"/>
                        <a:pt x="10" y="32"/>
                        <a:pt x="17" y="22"/>
                      </a:cubicBezTo>
                      <a:cubicBezTo>
                        <a:pt x="24" y="12"/>
                        <a:pt x="36" y="2"/>
                        <a:pt x="49" y="2"/>
                      </a:cubicBezTo>
                      <a:cubicBezTo>
                        <a:pt x="62" y="2"/>
                        <a:pt x="79" y="20"/>
                        <a:pt x="97" y="22"/>
                      </a:cubicBezTo>
                      <a:cubicBezTo>
                        <a:pt x="115" y="24"/>
                        <a:pt x="139" y="17"/>
                        <a:pt x="157" y="14"/>
                      </a:cubicBezTo>
                      <a:cubicBezTo>
                        <a:pt x="175" y="11"/>
                        <a:pt x="184" y="0"/>
                        <a:pt x="205" y="6"/>
                      </a:cubicBezTo>
                      <a:cubicBezTo>
                        <a:pt x="226" y="12"/>
                        <a:pt x="255" y="33"/>
                        <a:pt x="281" y="50"/>
                      </a:cubicBezTo>
                      <a:cubicBezTo>
                        <a:pt x="307" y="67"/>
                        <a:pt x="346" y="75"/>
                        <a:pt x="361" y="110"/>
                      </a:cubicBezTo>
                      <a:cubicBezTo>
                        <a:pt x="376" y="145"/>
                        <a:pt x="362" y="227"/>
                        <a:pt x="373" y="258"/>
                      </a:cubicBezTo>
                      <a:cubicBezTo>
                        <a:pt x="384" y="289"/>
                        <a:pt x="416" y="277"/>
                        <a:pt x="429" y="298"/>
                      </a:cubicBezTo>
                      <a:cubicBezTo>
                        <a:pt x="442" y="319"/>
                        <a:pt x="444" y="344"/>
                        <a:pt x="449" y="382"/>
                      </a:cubicBezTo>
                      <a:cubicBezTo>
                        <a:pt x="454" y="420"/>
                        <a:pt x="464" y="461"/>
                        <a:pt x="457" y="526"/>
                      </a:cubicBezTo>
                      <a:cubicBezTo>
                        <a:pt x="450" y="591"/>
                        <a:pt x="433" y="711"/>
                        <a:pt x="405" y="770"/>
                      </a:cubicBezTo>
                      <a:cubicBezTo>
                        <a:pt x="377" y="829"/>
                        <a:pt x="333" y="857"/>
                        <a:pt x="289" y="878"/>
                      </a:cubicBezTo>
                      <a:cubicBezTo>
                        <a:pt x="245" y="899"/>
                        <a:pt x="185" y="897"/>
                        <a:pt x="141" y="894"/>
                      </a:cubicBezTo>
                      <a:cubicBezTo>
                        <a:pt x="97" y="891"/>
                        <a:pt x="45" y="875"/>
                        <a:pt x="25" y="86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445600" y="5901480"/>
                  <a:ext cx="135720" cy="140760"/>
                </a:xfrm>
                <a:custGeom>
                  <a:avLst/>
                  <a:gdLst/>
                  <a:ahLst/>
                  <a:rect l="l" t="t" r="r" b="b"/>
                  <a:pathLst>
                    <a:path w="456" h="484">
                      <a:moveTo>
                        <a:pt x="31" y="3"/>
                      </a:moveTo>
                      <a:cubicBezTo>
                        <a:pt x="42" y="0"/>
                        <a:pt x="66" y="14"/>
                        <a:pt x="75" y="27"/>
                      </a:cubicBezTo>
                      <a:cubicBezTo>
                        <a:pt x="84" y="40"/>
                        <a:pt x="74" y="59"/>
                        <a:pt x="83" y="79"/>
                      </a:cubicBezTo>
                      <a:cubicBezTo>
                        <a:pt x="92" y="99"/>
                        <a:pt x="109" y="128"/>
                        <a:pt x="131" y="147"/>
                      </a:cubicBezTo>
                      <a:cubicBezTo>
                        <a:pt x="153" y="166"/>
                        <a:pt x="185" y="178"/>
                        <a:pt x="215" y="195"/>
                      </a:cubicBezTo>
                      <a:cubicBezTo>
                        <a:pt x="245" y="212"/>
                        <a:pt x="281" y="226"/>
                        <a:pt x="311" y="251"/>
                      </a:cubicBezTo>
                      <a:cubicBezTo>
                        <a:pt x="341" y="276"/>
                        <a:pt x="371" y="310"/>
                        <a:pt x="395" y="347"/>
                      </a:cubicBezTo>
                      <a:cubicBezTo>
                        <a:pt x="419" y="384"/>
                        <a:pt x="456" y="458"/>
                        <a:pt x="455" y="471"/>
                      </a:cubicBezTo>
                      <a:cubicBezTo>
                        <a:pt x="454" y="484"/>
                        <a:pt x="402" y="441"/>
                        <a:pt x="387" y="423"/>
                      </a:cubicBezTo>
                      <a:cubicBezTo>
                        <a:pt x="372" y="405"/>
                        <a:pt x="378" y="378"/>
                        <a:pt x="363" y="363"/>
                      </a:cubicBezTo>
                      <a:cubicBezTo>
                        <a:pt x="348" y="348"/>
                        <a:pt x="319" y="352"/>
                        <a:pt x="299" y="331"/>
                      </a:cubicBezTo>
                      <a:cubicBezTo>
                        <a:pt x="279" y="310"/>
                        <a:pt x="269" y="257"/>
                        <a:pt x="243" y="235"/>
                      </a:cubicBezTo>
                      <a:cubicBezTo>
                        <a:pt x="217" y="213"/>
                        <a:pt x="172" y="222"/>
                        <a:pt x="143" y="199"/>
                      </a:cubicBezTo>
                      <a:cubicBezTo>
                        <a:pt x="114" y="176"/>
                        <a:pt x="94" y="120"/>
                        <a:pt x="71" y="95"/>
                      </a:cubicBezTo>
                      <a:cubicBezTo>
                        <a:pt x="48" y="70"/>
                        <a:pt x="14" y="61"/>
                        <a:pt x="7" y="47"/>
                      </a:cubicBezTo>
                      <a:cubicBezTo>
                        <a:pt x="0" y="33"/>
                        <a:pt x="20" y="6"/>
                        <a:pt x="31" y="3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361000" y="6157080"/>
                  <a:ext cx="249480" cy="178200"/>
                </a:xfrm>
                <a:custGeom>
                  <a:avLst/>
                  <a:gdLst/>
                  <a:ahLst/>
                  <a:rect l="l" t="t" r="r" b="b"/>
                  <a:pathLst>
                    <a:path w="838" h="613">
                      <a:moveTo>
                        <a:pt x="19" y="609"/>
                      </a:moveTo>
                      <a:cubicBezTo>
                        <a:pt x="11" y="605"/>
                        <a:pt x="0" y="566"/>
                        <a:pt x="3" y="553"/>
                      </a:cubicBezTo>
                      <a:cubicBezTo>
                        <a:pt x="6" y="540"/>
                        <a:pt x="32" y="540"/>
                        <a:pt x="35" y="529"/>
                      </a:cubicBezTo>
                      <a:cubicBezTo>
                        <a:pt x="38" y="518"/>
                        <a:pt x="22" y="500"/>
                        <a:pt x="23" y="489"/>
                      </a:cubicBezTo>
                      <a:cubicBezTo>
                        <a:pt x="24" y="478"/>
                        <a:pt x="38" y="473"/>
                        <a:pt x="43" y="465"/>
                      </a:cubicBezTo>
                      <a:cubicBezTo>
                        <a:pt x="48" y="457"/>
                        <a:pt x="54" y="450"/>
                        <a:pt x="55" y="441"/>
                      </a:cubicBezTo>
                      <a:cubicBezTo>
                        <a:pt x="56" y="432"/>
                        <a:pt x="45" y="420"/>
                        <a:pt x="51" y="409"/>
                      </a:cubicBezTo>
                      <a:cubicBezTo>
                        <a:pt x="57" y="398"/>
                        <a:pt x="77" y="385"/>
                        <a:pt x="91" y="377"/>
                      </a:cubicBezTo>
                      <a:cubicBezTo>
                        <a:pt x="105" y="369"/>
                        <a:pt x="119" y="370"/>
                        <a:pt x="135" y="361"/>
                      </a:cubicBezTo>
                      <a:cubicBezTo>
                        <a:pt x="151" y="352"/>
                        <a:pt x="170" y="329"/>
                        <a:pt x="187" y="321"/>
                      </a:cubicBezTo>
                      <a:cubicBezTo>
                        <a:pt x="204" y="313"/>
                        <a:pt x="224" y="312"/>
                        <a:pt x="235" y="313"/>
                      </a:cubicBezTo>
                      <a:cubicBezTo>
                        <a:pt x="246" y="314"/>
                        <a:pt x="246" y="329"/>
                        <a:pt x="255" y="329"/>
                      </a:cubicBezTo>
                      <a:cubicBezTo>
                        <a:pt x="264" y="329"/>
                        <a:pt x="274" y="308"/>
                        <a:pt x="287" y="313"/>
                      </a:cubicBezTo>
                      <a:cubicBezTo>
                        <a:pt x="300" y="318"/>
                        <a:pt x="317" y="356"/>
                        <a:pt x="331" y="361"/>
                      </a:cubicBezTo>
                      <a:cubicBezTo>
                        <a:pt x="345" y="366"/>
                        <a:pt x="360" y="346"/>
                        <a:pt x="371" y="341"/>
                      </a:cubicBezTo>
                      <a:cubicBezTo>
                        <a:pt x="382" y="336"/>
                        <a:pt x="386" y="332"/>
                        <a:pt x="399" y="333"/>
                      </a:cubicBezTo>
                      <a:cubicBezTo>
                        <a:pt x="412" y="334"/>
                        <a:pt x="438" y="335"/>
                        <a:pt x="451" y="345"/>
                      </a:cubicBezTo>
                      <a:cubicBezTo>
                        <a:pt x="464" y="355"/>
                        <a:pt x="463" y="388"/>
                        <a:pt x="475" y="393"/>
                      </a:cubicBezTo>
                      <a:cubicBezTo>
                        <a:pt x="487" y="398"/>
                        <a:pt x="507" y="379"/>
                        <a:pt x="523" y="373"/>
                      </a:cubicBezTo>
                      <a:cubicBezTo>
                        <a:pt x="539" y="367"/>
                        <a:pt x="559" y="364"/>
                        <a:pt x="571" y="357"/>
                      </a:cubicBezTo>
                      <a:cubicBezTo>
                        <a:pt x="583" y="350"/>
                        <a:pt x="583" y="333"/>
                        <a:pt x="595" y="329"/>
                      </a:cubicBezTo>
                      <a:cubicBezTo>
                        <a:pt x="607" y="325"/>
                        <a:pt x="634" y="353"/>
                        <a:pt x="643" y="333"/>
                      </a:cubicBezTo>
                      <a:cubicBezTo>
                        <a:pt x="652" y="313"/>
                        <a:pt x="650" y="239"/>
                        <a:pt x="651" y="209"/>
                      </a:cubicBezTo>
                      <a:cubicBezTo>
                        <a:pt x="652" y="179"/>
                        <a:pt x="659" y="169"/>
                        <a:pt x="651" y="153"/>
                      </a:cubicBezTo>
                      <a:cubicBezTo>
                        <a:pt x="643" y="137"/>
                        <a:pt x="615" y="125"/>
                        <a:pt x="603" y="113"/>
                      </a:cubicBezTo>
                      <a:cubicBezTo>
                        <a:pt x="591" y="101"/>
                        <a:pt x="581" y="91"/>
                        <a:pt x="579" y="81"/>
                      </a:cubicBezTo>
                      <a:cubicBezTo>
                        <a:pt x="577" y="71"/>
                        <a:pt x="580" y="60"/>
                        <a:pt x="591" y="53"/>
                      </a:cubicBezTo>
                      <a:cubicBezTo>
                        <a:pt x="602" y="46"/>
                        <a:pt x="634" y="36"/>
                        <a:pt x="647" y="37"/>
                      </a:cubicBezTo>
                      <a:cubicBezTo>
                        <a:pt x="660" y="38"/>
                        <a:pt x="664" y="50"/>
                        <a:pt x="671" y="57"/>
                      </a:cubicBezTo>
                      <a:cubicBezTo>
                        <a:pt x="678" y="64"/>
                        <a:pt x="689" y="82"/>
                        <a:pt x="691" y="81"/>
                      </a:cubicBezTo>
                      <a:cubicBezTo>
                        <a:pt x="693" y="80"/>
                        <a:pt x="684" y="58"/>
                        <a:pt x="683" y="49"/>
                      </a:cubicBezTo>
                      <a:cubicBezTo>
                        <a:pt x="682" y="40"/>
                        <a:pt x="678" y="31"/>
                        <a:pt x="687" y="25"/>
                      </a:cubicBezTo>
                      <a:cubicBezTo>
                        <a:pt x="696" y="19"/>
                        <a:pt x="722" y="17"/>
                        <a:pt x="739" y="13"/>
                      </a:cubicBezTo>
                      <a:cubicBezTo>
                        <a:pt x="756" y="9"/>
                        <a:pt x="772" y="0"/>
                        <a:pt x="787" y="1"/>
                      </a:cubicBezTo>
                      <a:cubicBezTo>
                        <a:pt x="802" y="2"/>
                        <a:pt x="824" y="4"/>
                        <a:pt x="831" y="17"/>
                      </a:cubicBezTo>
                      <a:cubicBezTo>
                        <a:pt x="838" y="30"/>
                        <a:pt x="834" y="58"/>
                        <a:pt x="831" y="81"/>
                      </a:cubicBezTo>
                      <a:cubicBezTo>
                        <a:pt x="828" y="104"/>
                        <a:pt x="823" y="128"/>
                        <a:pt x="815" y="157"/>
                      </a:cubicBezTo>
                      <a:cubicBezTo>
                        <a:pt x="807" y="186"/>
                        <a:pt x="793" y="225"/>
                        <a:pt x="783" y="257"/>
                      </a:cubicBezTo>
                      <a:cubicBezTo>
                        <a:pt x="773" y="289"/>
                        <a:pt x="772" y="320"/>
                        <a:pt x="755" y="349"/>
                      </a:cubicBezTo>
                      <a:cubicBezTo>
                        <a:pt x="738" y="378"/>
                        <a:pt x="708" y="407"/>
                        <a:pt x="683" y="429"/>
                      </a:cubicBezTo>
                      <a:cubicBezTo>
                        <a:pt x="658" y="451"/>
                        <a:pt x="642" y="472"/>
                        <a:pt x="607" y="481"/>
                      </a:cubicBezTo>
                      <a:cubicBezTo>
                        <a:pt x="572" y="490"/>
                        <a:pt x="522" y="490"/>
                        <a:pt x="475" y="485"/>
                      </a:cubicBezTo>
                      <a:cubicBezTo>
                        <a:pt x="428" y="480"/>
                        <a:pt x="369" y="462"/>
                        <a:pt x="327" y="453"/>
                      </a:cubicBezTo>
                      <a:cubicBezTo>
                        <a:pt x="285" y="444"/>
                        <a:pt x="252" y="435"/>
                        <a:pt x="223" y="429"/>
                      </a:cubicBezTo>
                      <a:cubicBezTo>
                        <a:pt x="194" y="423"/>
                        <a:pt x="175" y="406"/>
                        <a:pt x="155" y="417"/>
                      </a:cubicBezTo>
                      <a:cubicBezTo>
                        <a:pt x="135" y="428"/>
                        <a:pt x="120" y="470"/>
                        <a:pt x="103" y="497"/>
                      </a:cubicBezTo>
                      <a:cubicBezTo>
                        <a:pt x="86" y="524"/>
                        <a:pt x="65" y="559"/>
                        <a:pt x="51" y="577"/>
                      </a:cubicBezTo>
                      <a:cubicBezTo>
                        <a:pt x="37" y="595"/>
                        <a:pt x="27" y="613"/>
                        <a:pt x="19" y="60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7cb0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384040" y="5915880"/>
                  <a:ext cx="224640" cy="216000"/>
                </a:xfrm>
                <a:custGeom>
                  <a:avLst/>
                  <a:gdLst/>
                  <a:ahLst/>
                  <a:rect l="l" t="t" r="r" b="b"/>
                  <a:pathLst>
                    <a:path w="755" h="743">
                      <a:moveTo>
                        <a:pt x="14" y="30"/>
                      </a:moveTo>
                      <a:cubicBezTo>
                        <a:pt x="19" y="19"/>
                        <a:pt x="29" y="0"/>
                        <a:pt x="42" y="2"/>
                      </a:cubicBezTo>
                      <a:cubicBezTo>
                        <a:pt x="55" y="4"/>
                        <a:pt x="72" y="23"/>
                        <a:pt x="90" y="42"/>
                      </a:cubicBezTo>
                      <a:cubicBezTo>
                        <a:pt x="108" y="61"/>
                        <a:pt x="129" y="94"/>
                        <a:pt x="150" y="114"/>
                      </a:cubicBezTo>
                      <a:cubicBezTo>
                        <a:pt x="171" y="134"/>
                        <a:pt x="193" y="147"/>
                        <a:pt x="218" y="162"/>
                      </a:cubicBezTo>
                      <a:cubicBezTo>
                        <a:pt x="243" y="177"/>
                        <a:pt x="275" y="191"/>
                        <a:pt x="302" y="206"/>
                      </a:cubicBezTo>
                      <a:cubicBezTo>
                        <a:pt x="329" y="221"/>
                        <a:pt x="351" y="238"/>
                        <a:pt x="382" y="254"/>
                      </a:cubicBezTo>
                      <a:cubicBezTo>
                        <a:pt x="413" y="270"/>
                        <a:pt x="453" y="283"/>
                        <a:pt x="490" y="302"/>
                      </a:cubicBezTo>
                      <a:cubicBezTo>
                        <a:pt x="527" y="321"/>
                        <a:pt x="574" y="352"/>
                        <a:pt x="602" y="370"/>
                      </a:cubicBezTo>
                      <a:cubicBezTo>
                        <a:pt x="630" y="388"/>
                        <a:pt x="640" y="389"/>
                        <a:pt x="658" y="410"/>
                      </a:cubicBezTo>
                      <a:cubicBezTo>
                        <a:pt x="676" y="431"/>
                        <a:pt x="695" y="464"/>
                        <a:pt x="710" y="498"/>
                      </a:cubicBezTo>
                      <a:cubicBezTo>
                        <a:pt x="725" y="532"/>
                        <a:pt x="755" y="583"/>
                        <a:pt x="750" y="614"/>
                      </a:cubicBezTo>
                      <a:cubicBezTo>
                        <a:pt x="745" y="645"/>
                        <a:pt x="698" y="661"/>
                        <a:pt x="678" y="682"/>
                      </a:cubicBezTo>
                      <a:cubicBezTo>
                        <a:pt x="658" y="703"/>
                        <a:pt x="639" y="743"/>
                        <a:pt x="630" y="742"/>
                      </a:cubicBezTo>
                      <a:cubicBezTo>
                        <a:pt x="621" y="741"/>
                        <a:pt x="631" y="691"/>
                        <a:pt x="622" y="678"/>
                      </a:cubicBezTo>
                      <a:cubicBezTo>
                        <a:pt x="613" y="665"/>
                        <a:pt x="592" y="677"/>
                        <a:pt x="578" y="666"/>
                      </a:cubicBezTo>
                      <a:cubicBezTo>
                        <a:pt x="564" y="655"/>
                        <a:pt x="539" y="630"/>
                        <a:pt x="538" y="610"/>
                      </a:cubicBezTo>
                      <a:cubicBezTo>
                        <a:pt x="537" y="590"/>
                        <a:pt x="572" y="559"/>
                        <a:pt x="570" y="546"/>
                      </a:cubicBezTo>
                      <a:cubicBezTo>
                        <a:pt x="568" y="533"/>
                        <a:pt x="529" y="543"/>
                        <a:pt x="526" y="530"/>
                      </a:cubicBezTo>
                      <a:cubicBezTo>
                        <a:pt x="523" y="517"/>
                        <a:pt x="550" y="486"/>
                        <a:pt x="550" y="470"/>
                      </a:cubicBezTo>
                      <a:cubicBezTo>
                        <a:pt x="550" y="454"/>
                        <a:pt x="542" y="437"/>
                        <a:pt x="526" y="434"/>
                      </a:cubicBezTo>
                      <a:cubicBezTo>
                        <a:pt x="510" y="431"/>
                        <a:pt x="468" y="455"/>
                        <a:pt x="454" y="454"/>
                      </a:cubicBezTo>
                      <a:cubicBezTo>
                        <a:pt x="440" y="453"/>
                        <a:pt x="443" y="438"/>
                        <a:pt x="442" y="426"/>
                      </a:cubicBezTo>
                      <a:cubicBezTo>
                        <a:pt x="441" y="414"/>
                        <a:pt x="456" y="388"/>
                        <a:pt x="450" y="382"/>
                      </a:cubicBezTo>
                      <a:cubicBezTo>
                        <a:pt x="444" y="376"/>
                        <a:pt x="417" y="395"/>
                        <a:pt x="406" y="390"/>
                      </a:cubicBezTo>
                      <a:cubicBezTo>
                        <a:pt x="395" y="385"/>
                        <a:pt x="393" y="363"/>
                        <a:pt x="386" y="354"/>
                      </a:cubicBezTo>
                      <a:cubicBezTo>
                        <a:pt x="379" y="345"/>
                        <a:pt x="375" y="337"/>
                        <a:pt x="366" y="334"/>
                      </a:cubicBezTo>
                      <a:cubicBezTo>
                        <a:pt x="357" y="331"/>
                        <a:pt x="337" y="343"/>
                        <a:pt x="330" y="338"/>
                      </a:cubicBezTo>
                      <a:cubicBezTo>
                        <a:pt x="323" y="333"/>
                        <a:pt x="332" y="312"/>
                        <a:pt x="322" y="306"/>
                      </a:cubicBezTo>
                      <a:cubicBezTo>
                        <a:pt x="312" y="300"/>
                        <a:pt x="279" y="308"/>
                        <a:pt x="270" y="302"/>
                      </a:cubicBezTo>
                      <a:cubicBezTo>
                        <a:pt x="261" y="296"/>
                        <a:pt x="276" y="276"/>
                        <a:pt x="270" y="270"/>
                      </a:cubicBezTo>
                      <a:cubicBezTo>
                        <a:pt x="264" y="264"/>
                        <a:pt x="239" y="276"/>
                        <a:pt x="234" y="266"/>
                      </a:cubicBezTo>
                      <a:cubicBezTo>
                        <a:pt x="229" y="256"/>
                        <a:pt x="243" y="219"/>
                        <a:pt x="238" y="210"/>
                      </a:cubicBezTo>
                      <a:cubicBezTo>
                        <a:pt x="233" y="201"/>
                        <a:pt x="211" y="215"/>
                        <a:pt x="202" y="210"/>
                      </a:cubicBezTo>
                      <a:cubicBezTo>
                        <a:pt x="193" y="205"/>
                        <a:pt x="195" y="192"/>
                        <a:pt x="182" y="178"/>
                      </a:cubicBezTo>
                      <a:cubicBezTo>
                        <a:pt x="169" y="164"/>
                        <a:pt x="139" y="141"/>
                        <a:pt x="122" y="126"/>
                      </a:cubicBezTo>
                      <a:cubicBezTo>
                        <a:pt x="105" y="111"/>
                        <a:pt x="97" y="100"/>
                        <a:pt x="78" y="90"/>
                      </a:cubicBezTo>
                      <a:cubicBezTo>
                        <a:pt x="59" y="80"/>
                        <a:pt x="20" y="77"/>
                        <a:pt x="10" y="66"/>
                      </a:cubicBezTo>
                      <a:cubicBezTo>
                        <a:pt x="0" y="55"/>
                        <a:pt x="9" y="41"/>
                        <a:pt x="14" y="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205840" y="5856840"/>
                  <a:ext cx="252720" cy="79560"/>
                </a:xfrm>
                <a:custGeom>
                  <a:avLst/>
                  <a:gdLst/>
                  <a:ahLst/>
                  <a:rect l="l" t="t" r="r" b="b"/>
                  <a:pathLst>
                    <a:path w="849" h="274">
                      <a:moveTo>
                        <a:pt x="12" y="45"/>
                      </a:moveTo>
                      <a:cubicBezTo>
                        <a:pt x="24" y="42"/>
                        <a:pt x="88" y="41"/>
                        <a:pt x="120" y="37"/>
                      </a:cubicBezTo>
                      <a:cubicBezTo>
                        <a:pt x="152" y="33"/>
                        <a:pt x="173" y="27"/>
                        <a:pt x="204" y="21"/>
                      </a:cubicBezTo>
                      <a:cubicBezTo>
                        <a:pt x="235" y="15"/>
                        <a:pt x="275" y="0"/>
                        <a:pt x="304" y="1"/>
                      </a:cubicBezTo>
                      <a:cubicBezTo>
                        <a:pt x="333" y="2"/>
                        <a:pt x="355" y="21"/>
                        <a:pt x="380" y="29"/>
                      </a:cubicBezTo>
                      <a:cubicBezTo>
                        <a:pt x="405" y="37"/>
                        <a:pt x="429" y="47"/>
                        <a:pt x="456" y="49"/>
                      </a:cubicBezTo>
                      <a:cubicBezTo>
                        <a:pt x="483" y="51"/>
                        <a:pt x="517" y="34"/>
                        <a:pt x="540" y="41"/>
                      </a:cubicBezTo>
                      <a:cubicBezTo>
                        <a:pt x="563" y="48"/>
                        <a:pt x="566" y="78"/>
                        <a:pt x="592" y="93"/>
                      </a:cubicBezTo>
                      <a:cubicBezTo>
                        <a:pt x="618" y="108"/>
                        <a:pt x="664" y="123"/>
                        <a:pt x="696" y="129"/>
                      </a:cubicBezTo>
                      <a:cubicBezTo>
                        <a:pt x="728" y="135"/>
                        <a:pt x="759" y="126"/>
                        <a:pt x="784" y="129"/>
                      </a:cubicBezTo>
                      <a:cubicBezTo>
                        <a:pt x="809" y="132"/>
                        <a:pt x="839" y="140"/>
                        <a:pt x="844" y="149"/>
                      </a:cubicBezTo>
                      <a:cubicBezTo>
                        <a:pt x="849" y="158"/>
                        <a:pt x="825" y="177"/>
                        <a:pt x="816" y="181"/>
                      </a:cubicBezTo>
                      <a:cubicBezTo>
                        <a:pt x="807" y="185"/>
                        <a:pt x="799" y="172"/>
                        <a:pt x="788" y="173"/>
                      </a:cubicBezTo>
                      <a:cubicBezTo>
                        <a:pt x="777" y="174"/>
                        <a:pt x="763" y="182"/>
                        <a:pt x="752" y="189"/>
                      </a:cubicBezTo>
                      <a:cubicBezTo>
                        <a:pt x="741" y="196"/>
                        <a:pt x="737" y="206"/>
                        <a:pt x="724" y="213"/>
                      </a:cubicBezTo>
                      <a:cubicBezTo>
                        <a:pt x="711" y="220"/>
                        <a:pt x="691" y="229"/>
                        <a:pt x="676" y="229"/>
                      </a:cubicBezTo>
                      <a:cubicBezTo>
                        <a:pt x="661" y="229"/>
                        <a:pt x="644" y="208"/>
                        <a:pt x="632" y="213"/>
                      </a:cubicBezTo>
                      <a:cubicBezTo>
                        <a:pt x="620" y="218"/>
                        <a:pt x="613" y="253"/>
                        <a:pt x="604" y="257"/>
                      </a:cubicBezTo>
                      <a:cubicBezTo>
                        <a:pt x="595" y="261"/>
                        <a:pt x="587" y="234"/>
                        <a:pt x="576" y="237"/>
                      </a:cubicBezTo>
                      <a:cubicBezTo>
                        <a:pt x="565" y="240"/>
                        <a:pt x="545" y="274"/>
                        <a:pt x="536" y="273"/>
                      </a:cubicBezTo>
                      <a:cubicBezTo>
                        <a:pt x="527" y="272"/>
                        <a:pt x="528" y="237"/>
                        <a:pt x="520" y="233"/>
                      </a:cubicBezTo>
                      <a:cubicBezTo>
                        <a:pt x="512" y="229"/>
                        <a:pt x="498" y="257"/>
                        <a:pt x="488" y="249"/>
                      </a:cubicBezTo>
                      <a:cubicBezTo>
                        <a:pt x="478" y="241"/>
                        <a:pt x="470" y="194"/>
                        <a:pt x="460" y="185"/>
                      </a:cubicBezTo>
                      <a:cubicBezTo>
                        <a:pt x="450" y="176"/>
                        <a:pt x="435" y="200"/>
                        <a:pt x="428" y="197"/>
                      </a:cubicBezTo>
                      <a:cubicBezTo>
                        <a:pt x="421" y="194"/>
                        <a:pt x="428" y="162"/>
                        <a:pt x="420" y="165"/>
                      </a:cubicBezTo>
                      <a:cubicBezTo>
                        <a:pt x="412" y="168"/>
                        <a:pt x="388" y="216"/>
                        <a:pt x="380" y="213"/>
                      </a:cubicBezTo>
                      <a:cubicBezTo>
                        <a:pt x="372" y="210"/>
                        <a:pt x="384" y="155"/>
                        <a:pt x="372" y="149"/>
                      </a:cubicBezTo>
                      <a:cubicBezTo>
                        <a:pt x="360" y="143"/>
                        <a:pt x="321" y="176"/>
                        <a:pt x="308" y="177"/>
                      </a:cubicBezTo>
                      <a:cubicBezTo>
                        <a:pt x="295" y="178"/>
                        <a:pt x="299" y="158"/>
                        <a:pt x="292" y="157"/>
                      </a:cubicBezTo>
                      <a:cubicBezTo>
                        <a:pt x="285" y="156"/>
                        <a:pt x="272" y="178"/>
                        <a:pt x="268" y="169"/>
                      </a:cubicBezTo>
                      <a:cubicBezTo>
                        <a:pt x="264" y="160"/>
                        <a:pt x="279" y="108"/>
                        <a:pt x="268" y="105"/>
                      </a:cubicBezTo>
                      <a:cubicBezTo>
                        <a:pt x="257" y="102"/>
                        <a:pt x="219" y="152"/>
                        <a:pt x="204" y="153"/>
                      </a:cubicBezTo>
                      <a:cubicBezTo>
                        <a:pt x="189" y="154"/>
                        <a:pt x="190" y="114"/>
                        <a:pt x="180" y="109"/>
                      </a:cubicBezTo>
                      <a:cubicBezTo>
                        <a:pt x="170" y="104"/>
                        <a:pt x="152" y="134"/>
                        <a:pt x="144" y="125"/>
                      </a:cubicBezTo>
                      <a:cubicBezTo>
                        <a:pt x="136" y="116"/>
                        <a:pt x="143" y="61"/>
                        <a:pt x="132" y="57"/>
                      </a:cubicBezTo>
                      <a:cubicBezTo>
                        <a:pt x="121" y="53"/>
                        <a:pt x="90" y="101"/>
                        <a:pt x="76" y="101"/>
                      </a:cubicBezTo>
                      <a:cubicBezTo>
                        <a:pt x="62" y="101"/>
                        <a:pt x="59" y="65"/>
                        <a:pt x="48" y="57"/>
                      </a:cubicBezTo>
                      <a:cubicBezTo>
                        <a:pt x="37" y="49"/>
                        <a:pt x="0" y="48"/>
                        <a:pt x="12" y="4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62a0"/>
                    </a:gs>
                    <a:gs pos="100000">
                      <a:srgbClr val="fdb1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164800" y="6075360"/>
                  <a:ext cx="117360" cy="63360"/>
                </a:xfrm>
                <a:custGeom>
                  <a:avLst/>
                  <a:gdLst/>
                  <a:ahLst/>
                  <a:rect l="l" t="t" r="r" b="b"/>
                  <a:pathLst>
                    <a:path w="395" h="219">
                      <a:moveTo>
                        <a:pt x="350" y="2"/>
                      </a:moveTo>
                      <a:cubicBezTo>
                        <a:pt x="335" y="0"/>
                        <a:pt x="326" y="38"/>
                        <a:pt x="294" y="54"/>
                      </a:cubicBezTo>
                      <a:cubicBezTo>
                        <a:pt x="262" y="70"/>
                        <a:pt x="202" y="85"/>
                        <a:pt x="158" y="98"/>
                      </a:cubicBezTo>
                      <a:cubicBezTo>
                        <a:pt x="114" y="111"/>
                        <a:pt x="55" y="115"/>
                        <a:pt x="30" y="130"/>
                      </a:cubicBezTo>
                      <a:cubicBezTo>
                        <a:pt x="5" y="145"/>
                        <a:pt x="0" y="171"/>
                        <a:pt x="6" y="186"/>
                      </a:cubicBezTo>
                      <a:cubicBezTo>
                        <a:pt x="12" y="201"/>
                        <a:pt x="46" y="217"/>
                        <a:pt x="66" y="218"/>
                      </a:cubicBezTo>
                      <a:cubicBezTo>
                        <a:pt x="86" y="219"/>
                        <a:pt x="104" y="193"/>
                        <a:pt x="126" y="190"/>
                      </a:cubicBezTo>
                      <a:cubicBezTo>
                        <a:pt x="148" y="187"/>
                        <a:pt x="176" y="202"/>
                        <a:pt x="198" y="198"/>
                      </a:cubicBezTo>
                      <a:cubicBezTo>
                        <a:pt x="220" y="194"/>
                        <a:pt x="239" y="170"/>
                        <a:pt x="258" y="166"/>
                      </a:cubicBezTo>
                      <a:cubicBezTo>
                        <a:pt x="277" y="162"/>
                        <a:pt x="293" y="169"/>
                        <a:pt x="310" y="174"/>
                      </a:cubicBezTo>
                      <a:cubicBezTo>
                        <a:pt x="327" y="179"/>
                        <a:pt x="345" y="198"/>
                        <a:pt x="358" y="194"/>
                      </a:cubicBezTo>
                      <a:cubicBezTo>
                        <a:pt x="371" y="190"/>
                        <a:pt x="385" y="171"/>
                        <a:pt x="390" y="150"/>
                      </a:cubicBezTo>
                      <a:cubicBezTo>
                        <a:pt x="395" y="129"/>
                        <a:pt x="393" y="89"/>
                        <a:pt x="386" y="66"/>
                      </a:cubicBezTo>
                      <a:cubicBezTo>
                        <a:pt x="379" y="43"/>
                        <a:pt x="365" y="4"/>
                        <a:pt x="350" y="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187840" y="6135120"/>
                  <a:ext cx="129600" cy="36360"/>
                </a:xfrm>
                <a:custGeom>
                  <a:avLst/>
                  <a:gdLst/>
                  <a:ahLst/>
                  <a:rect l="l" t="t" r="r" b="b"/>
                  <a:pathLst>
                    <a:path w="436" h="125">
                      <a:moveTo>
                        <a:pt x="1" y="68"/>
                      </a:moveTo>
                      <a:cubicBezTo>
                        <a:pt x="2" y="73"/>
                        <a:pt x="30" y="47"/>
                        <a:pt x="49" y="44"/>
                      </a:cubicBezTo>
                      <a:cubicBezTo>
                        <a:pt x="68" y="41"/>
                        <a:pt x="102" y="41"/>
                        <a:pt x="117" y="48"/>
                      </a:cubicBezTo>
                      <a:cubicBezTo>
                        <a:pt x="132" y="55"/>
                        <a:pt x="131" y="79"/>
                        <a:pt x="141" y="84"/>
                      </a:cubicBezTo>
                      <a:cubicBezTo>
                        <a:pt x="151" y="89"/>
                        <a:pt x="164" y="71"/>
                        <a:pt x="177" y="76"/>
                      </a:cubicBezTo>
                      <a:cubicBezTo>
                        <a:pt x="190" y="81"/>
                        <a:pt x="205" y="113"/>
                        <a:pt x="217" y="116"/>
                      </a:cubicBezTo>
                      <a:cubicBezTo>
                        <a:pt x="229" y="119"/>
                        <a:pt x="236" y="95"/>
                        <a:pt x="249" y="92"/>
                      </a:cubicBezTo>
                      <a:cubicBezTo>
                        <a:pt x="262" y="89"/>
                        <a:pt x="281" y="91"/>
                        <a:pt x="293" y="96"/>
                      </a:cubicBezTo>
                      <a:cubicBezTo>
                        <a:pt x="305" y="101"/>
                        <a:pt x="311" y="117"/>
                        <a:pt x="321" y="120"/>
                      </a:cubicBezTo>
                      <a:cubicBezTo>
                        <a:pt x="331" y="123"/>
                        <a:pt x="340" y="112"/>
                        <a:pt x="353" y="112"/>
                      </a:cubicBezTo>
                      <a:cubicBezTo>
                        <a:pt x="366" y="112"/>
                        <a:pt x="388" y="125"/>
                        <a:pt x="401" y="120"/>
                      </a:cubicBezTo>
                      <a:cubicBezTo>
                        <a:pt x="414" y="115"/>
                        <a:pt x="436" y="85"/>
                        <a:pt x="433" y="80"/>
                      </a:cubicBezTo>
                      <a:cubicBezTo>
                        <a:pt x="430" y="75"/>
                        <a:pt x="394" y="97"/>
                        <a:pt x="381" y="92"/>
                      </a:cubicBezTo>
                      <a:cubicBezTo>
                        <a:pt x="368" y="87"/>
                        <a:pt x="370" y="55"/>
                        <a:pt x="357" y="52"/>
                      </a:cubicBezTo>
                      <a:cubicBezTo>
                        <a:pt x="344" y="49"/>
                        <a:pt x="326" y="74"/>
                        <a:pt x="305" y="76"/>
                      </a:cubicBezTo>
                      <a:cubicBezTo>
                        <a:pt x="284" y="78"/>
                        <a:pt x="250" y="73"/>
                        <a:pt x="233" y="64"/>
                      </a:cubicBezTo>
                      <a:cubicBezTo>
                        <a:pt x="216" y="55"/>
                        <a:pt x="212" y="24"/>
                        <a:pt x="201" y="20"/>
                      </a:cubicBezTo>
                      <a:cubicBezTo>
                        <a:pt x="190" y="16"/>
                        <a:pt x="182" y="43"/>
                        <a:pt x="165" y="40"/>
                      </a:cubicBezTo>
                      <a:cubicBezTo>
                        <a:pt x="148" y="37"/>
                        <a:pt x="122" y="8"/>
                        <a:pt x="101" y="4"/>
                      </a:cubicBezTo>
                      <a:cubicBezTo>
                        <a:pt x="80" y="0"/>
                        <a:pt x="59" y="8"/>
                        <a:pt x="41" y="16"/>
                      </a:cubicBezTo>
                      <a:cubicBezTo>
                        <a:pt x="23" y="24"/>
                        <a:pt x="0" y="63"/>
                        <a:pt x="1" y="68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271000" y="6173640"/>
                  <a:ext cx="98640" cy="177120"/>
                </a:xfrm>
                <a:custGeom>
                  <a:avLst/>
                  <a:gdLst/>
                  <a:ahLst/>
                  <a:rect l="l" t="t" r="r" b="b"/>
                  <a:pathLst>
                    <a:path w="332" h="609">
                      <a:moveTo>
                        <a:pt x="6" y="0"/>
                      </a:moveTo>
                      <a:cubicBezTo>
                        <a:pt x="12" y="0"/>
                        <a:pt x="43" y="17"/>
                        <a:pt x="58" y="20"/>
                      </a:cubicBezTo>
                      <a:cubicBezTo>
                        <a:pt x="73" y="23"/>
                        <a:pt x="87" y="4"/>
                        <a:pt x="94" y="16"/>
                      </a:cubicBezTo>
                      <a:cubicBezTo>
                        <a:pt x="101" y="28"/>
                        <a:pt x="90" y="73"/>
                        <a:pt x="98" y="92"/>
                      </a:cubicBezTo>
                      <a:cubicBezTo>
                        <a:pt x="106" y="111"/>
                        <a:pt x="131" y="118"/>
                        <a:pt x="142" y="132"/>
                      </a:cubicBezTo>
                      <a:cubicBezTo>
                        <a:pt x="153" y="146"/>
                        <a:pt x="156" y="158"/>
                        <a:pt x="162" y="176"/>
                      </a:cubicBezTo>
                      <a:cubicBezTo>
                        <a:pt x="168" y="194"/>
                        <a:pt x="173" y="221"/>
                        <a:pt x="178" y="240"/>
                      </a:cubicBezTo>
                      <a:cubicBezTo>
                        <a:pt x="183" y="259"/>
                        <a:pt x="189" y="271"/>
                        <a:pt x="190" y="288"/>
                      </a:cubicBezTo>
                      <a:cubicBezTo>
                        <a:pt x="191" y="305"/>
                        <a:pt x="182" y="321"/>
                        <a:pt x="182" y="340"/>
                      </a:cubicBezTo>
                      <a:cubicBezTo>
                        <a:pt x="182" y="359"/>
                        <a:pt x="183" y="383"/>
                        <a:pt x="190" y="400"/>
                      </a:cubicBezTo>
                      <a:cubicBezTo>
                        <a:pt x="197" y="417"/>
                        <a:pt x="222" y="427"/>
                        <a:pt x="226" y="444"/>
                      </a:cubicBezTo>
                      <a:cubicBezTo>
                        <a:pt x="230" y="461"/>
                        <a:pt x="208" y="480"/>
                        <a:pt x="214" y="500"/>
                      </a:cubicBezTo>
                      <a:cubicBezTo>
                        <a:pt x="220" y="520"/>
                        <a:pt x="243" y="561"/>
                        <a:pt x="262" y="564"/>
                      </a:cubicBezTo>
                      <a:cubicBezTo>
                        <a:pt x="281" y="567"/>
                        <a:pt x="320" y="517"/>
                        <a:pt x="326" y="520"/>
                      </a:cubicBezTo>
                      <a:cubicBezTo>
                        <a:pt x="332" y="523"/>
                        <a:pt x="309" y="571"/>
                        <a:pt x="298" y="584"/>
                      </a:cubicBezTo>
                      <a:cubicBezTo>
                        <a:pt x="287" y="597"/>
                        <a:pt x="275" y="609"/>
                        <a:pt x="258" y="596"/>
                      </a:cubicBezTo>
                      <a:cubicBezTo>
                        <a:pt x="241" y="583"/>
                        <a:pt x="216" y="535"/>
                        <a:pt x="194" y="508"/>
                      </a:cubicBezTo>
                      <a:cubicBezTo>
                        <a:pt x="172" y="481"/>
                        <a:pt x="133" y="462"/>
                        <a:pt x="126" y="432"/>
                      </a:cubicBezTo>
                      <a:cubicBezTo>
                        <a:pt x="119" y="402"/>
                        <a:pt x="149" y="366"/>
                        <a:pt x="150" y="328"/>
                      </a:cubicBezTo>
                      <a:cubicBezTo>
                        <a:pt x="151" y="290"/>
                        <a:pt x="142" y="239"/>
                        <a:pt x="130" y="204"/>
                      </a:cubicBezTo>
                      <a:cubicBezTo>
                        <a:pt x="118" y="169"/>
                        <a:pt x="96" y="147"/>
                        <a:pt x="78" y="116"/>
                      </a:cubicBezTo>
                      <a:cubicBezTo>
                        <a:pt x="60" y="85"/>
                        <a:pt x="33" y="40"/>
                        <a:pt x="22" y="20"/>
                      </a:cubicBezTo>
                      <a:cubicBezTo>
                        <a:pt x="11" y="0"/>
                        <a:pt x="0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fc7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186400" y="6146640"/>
                  <a:ext cx="179280" cy="214200"/>
                </a:xfrm>
                <a:custGeom>
                  <a:avLst/>
                  <a:gdLst/>
                  <a:ahLst/>
                  <a:rect l="l" t="t" r="r" b="b"/>
                  <a:pathLst>
                    <a:path w="602" h="736">
                      <a:moveTo>
                        <a:pt x="21" y="13"/>
                      </a:moveTo>
                      <a:cubicBezTo>
                        <a:pt x="4" y="0"/>
                        <a:pt x="0" y="34"/>
                        <a:pt x="5" y="49"/>
                      </a:cubicBezTo>
                      <a:cubicBezTo>
                        <a:pt x="10" y="64"/>
                        <a:pt x="31" y="84"/>
                        <a:pt x="49" y="101"/>
                      </a:cubicBezTo>
                      <a:cubicBezTo>
                        <a:pt x="67" y="118"/>
                        <a:pt x="89" y="128"/>
                        <a:pt x="113" y="149"/>
                      </a:cubicBezTo>
                      <a:cubicBezTo>
                        <a:pt x="137" y="170"/>
                        <a:pt x="178" y="201"/>
                        <a:pt x="193" y="225"/>
                      </a:cubicBezTo>
                      <a:cubicBezTo>
                        <a:pt x="208" y="249"/>
                        <a:pt x="203" y="272"/>
                        <a:pt x="205" y="293"/>
                      </a:cubicBezTo>
                      <a:cubicBezTo>
                        <a:pt x="207" y="314"/>
                        <a:pt x="202" y="334"/>
                        <a:pt x="205" y="349"/>
                      </a:cubicBezTo>
                      <a:cubicBezTo>
                        <a:pt x="208" y="364"/>
                        <a:pt x="223" y="366"/>
                        <a:pt x="221" y="385"/>
                      </a:cubicBezTo>
                      <a:cubicBezTo>
                        <a:pt x="219" y="404"/>
                        <a:pt x="188" y="445"/>
                        <a:pt x="193" y="465"/>
                      </a:cubicBezTo>
                      <a:cubicBezTo>
                        <a:pt x="198" y="485"/>
                        <a:pt x="230" y="487"/>
                        <a:pt x="249" y="505"/>
                      </a:cubicBezTo>
                      <a:cubicBezTo>
                        <a:pt x="268" y="523"/>
                        <a:pt x="292" y="551"/>
                        <a:pt x="309" y="573"/>
                      </a:cubicBezTo>
                      <a:cubicBezTo>
                        <a:pt x="326" y="595"/>
                        <a:pt x="323" y="618"/>
                        <a:pt x="349" y="637"/>
                      </a:cubicBezTo>
                      <a:cubicBezTo>
                        <a:pt x="375" y="656"/>
                        <a:pt x="434" y="673"/>
                        <a:pt x="465" y="689"/>
                      </a:cubicBezTo>
                      <a:cubicBezTo>
                        <a:pt x="496" y="705"/>
                        <a:pt x="512" y="730"/>
                        <a:pt x="533" y="733"/>
                      </a:cubicBezTo>
                      <a:cubicBezTo>
                        <a:pt x="554" y="736"/>
                        <a:pt x="584" y="721"/>
                        <a:pt x="593" y="709"/>
                      </a:cubicBezTo>
                      <a:cubicBezTo>
                        <a:pt x="602" y="697"/>
                        <a:pt x="595" y="664"/>
                        <a:pt x="585" y="661"/>
                      </a:cubicBezTo>
                      <a:cubicBezTo>
                        <a:pt x="575" y="658"/>
                        <a:pt x="554" y="688"/>
                        <a:pt x="533" y="689"/>
                      </a:cubicBezTo>
                      <a:cubicBezTo>
                        <a:pt x="512" y="690"/>
                        <a:pt x="480" y="682"/>
                        <a:pt x="461" y="665"/>
                      </a:cubicBezTo>
                      <a:cubicBezTo>
                        <a:pt x="442" y="648"/>
                        <a:pt x="440" y="600"/>
                        <a:pt x="421" y="585"/>
                      </a:cubicBezTo>
                      <a:cubicBezTo>
                        <a:pt x="402" y="570"/>
                        <a:pt x="368" y="592"/>
                        <a:pt x="345" y="577"/>
                      </a:cubicBezTo>
                      <a:cubicBezTo>
                        <a:pt x="322" y="562"/>
                        <a:pt x="296" y="517"/>
                        <a:pt x="281" y="493"/>
                      </a:cubicBezTo>
                      <a:cubicBezTo>
                        <a:pt x="266" y="469"/>
                        <a:pt x="258" y="454"/>
                        <a:pt x="257" y="433"/>
                      </a:cubicBezTo>
                      <a:cubicBezTo>
                        <a:pt x="256" y="412"/>
                        <a:pt x="280" y="393"/>
                        <a:pt x="277" y="365"/>
                      </a:cubicBezTo>
                      <a:cubicBezTo>
                        <a:pt x="274" y="337"/>
                        <a:pt x="250" y="293"/>
                        <a:pt x="241" y="265"/>
                      </a:cubicBezTo>
                      <a:cubicBezTo>
                        <a:pt x="232" y="237"/>
                        <a:pt x="243" y="216"/>
                        <a:pt x="221" y="193"/>
                      </a:cubicBezTo>
                      <a:cubicBezTo>
                        <a:pt x="199" y="170"/>
                        <a:pt x="142" y="154"/>
                        <a:pt x="109" y="125"/>
                      </a:cubicBezTo>
                      <a:cubicBezTo>
                        <a:pt x="76" y="96"/>
                        <a:pt x="38" y="26"/>
                        <a:pt x="21" y="13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103240" y="5885280"/>
                  <a:ext cx="139680" cy="204840"/>
                </a:xfrm>
                <a:custGeom>
                  <a:avLst/>
                  <a:gdLst/>
                  <a:ahLst/>
                  <a:rect l="l" t="t" r="r" b="b"/>
                  <a:pathLst>
                    <a:path w="469" h="704">
                      <a:moveTo>
                        <a:pt x="457" y="31"/>
                      </a:moveTo>
                      <a:cubicBezTo>
                        <a:pt x="445" y="22"/>
                        <a:pt x="395" y="23"/>
                        <a:pt x="369" y="19"/>
                      </a:cubicBezTo>
                      <a:cubicBezTo>
                        <a:pt x="343" y="15"/>
                        <a:pt x="318" y="0"/>
                        <a:pt x="301" y="7"/>
                      </a:cubicBezTo>
                      <a:cubicBezTo>
                        <a:pt x="284" y="14"/>
                        <a:pt x="282" y="56"/>
                        <a:pt x="265" y="63"/>
                      </a:cubicBezTo>
                      <a:cubicBezTo>
                        <a:pt x="248" y="70"/>
                        <a:pt x="208" y="43"/>
                        <a:pt x="197" y="51"/>
                      </a:cubicBezTo>
                      <a:cubicBezTo>
                        <a:pt x="186" y="59"/>
                        <a:pt x="202" y="95"/>
                        <a:pt x="201" y="111"/>
                      </a:cubicBezTo>
                      <a:cubicBezTo>
                        <a:pt x="200" y="127"/>
                        <a:pt x="176" y="128"/>
                        <a:pt x="189" y="147"/>
                      </a:cubicBezTo>
                      <a:cubicBezTo>
                        <a:pt x="202" y="166"/>
                        <a:pt x="260" y="196"/>
                        <a:pt x="277" y="227"/>
                      </a:cubicBezTo>
                      <a:cubicBezTo>
                        <a:pt x="294" y="258"/>
                        <a:pt x="292" y="295"/>
                        <a:pt x="289" y="335"/>
                      </a:cubicBezTo>
                      <a:cubicBezTo>
                        <a:pt x="286" y="375"/>
                        <a:pt x="275" y="424"/>
                        <a:pt x="261" y="467"/>
                      </a:cubicBezTo>
                      <a:cubicBezTo>
                        <a:pt x="247" y="510"/>
                        <a:pt x="230" y="560"/>
                        <a:pt x="205" y="591"/>
                      </a:cubicBezTo>
                      <a:cubicBezTo>
                        <a:pt x="180" y="622"/>
                        <a:pt x="146" y="640"/>
                        <a:pt x="113" y="655"/>
                      </a:cubicBezTo>
                      <a:cubicBezTo>
                        <a:pt x="80" y="670"/>
                        <a:pt x="18" y="676"/>
                        <a:pt x="9" y="683"/>
                      </a:cubicBezTo>
                      <a:cubicBezTo>
                        <a:pt x="0" y="690"/>
                        <a:pt x="26" y="704"/>
                        <a:pt x="57" y="699"/>
                      </a:cubicBezTo>
                      <a:cubicBezTo>
                        <a:pt x="88" y="694"/>
                        <a:pt x="157" y="660"/>
                        <a:pt x="193" y="651"/>
                      </a:cubicBezTo>
                      <a:cubicBezTo>
                        <a:pt x="229" y="642"/>
                        <a:pt x="246" y="658"/>
                        <a:pt x="273" y="647"/>
                      </a:cubicBezTo>
                      <a:cubicBezTo>
                        <a:pt x="300" y="636"/>
                        <a:pt x="340" y="615"/>
                        <a:pt x="353" y="587"/>
                      </a:cubicBezTo>
                      <a:cubicBezTo>
                        <a:pt x="366" y="559"/>
                        <a:pt x="346" y="520"/>
                        <a:pt x="349" y="479"/>
                      </a:cubicBezTo>
                      <a:cubicBezTo>
                        <a:pt x="352" y="438"/>
                        <a:pt x="376" y="385"/>
                        <a:pt x="369" y="343"/>
                      </a:cubicBezTo>
                      <a:cubicBezTo>
                        <a:pt x="362" y="301"/>
                        <a:pt x="328" y="262"/>
                        <a:pt x="305" y="227"/>
                      </a:cubicBezTo>
                      <a:cubicBezTo>
                        <a:pt x="282" y="192"/>
                        <a:pt x="233" y="154"/>
                        <a:pt x="229" y="135"/>
                      </a:cubicBezTo>
                      <a:cubicBezTo>
                        <a:pt x="225" y="116"/>
                        <a:pt x="272" y="124"/>
                        <a:pt x="281" y="111"/>
                      </a:cubicBezTo>
                      <a:cubicBezTo>
                        <a:pt x="290" y="98"/>
                        <a:pt x="271" y="64"/>
                        <a:pt x="285" y="59"/>
                      </a:cubicBezTo>
                      <a:cubicBezTo>
                        <a:pt x="299" y="54"/>
                        <a:pt x="351" y="88"/>
                        <a:pt x="365" y="83"/>
                      </a:cubicBezTo>
                      <a:cubicBezTo>
                        <a:pt x="379" y="78"/>
                        <a:pt x="356" y="32"/>
                        <a:pt x="369" y="31"/>
                      </a:cubicBezTo>
                      <a:cubicBezTo>
                        <a:pt x="382" y="30"/>
                        <a:pt x="426" y="76"/>
                        <a:pt x="441" y="75"/>
                      </a:cubicBezTo>
                      <a:cubicBezTo>
                        <a:pt x="456" y="74"/>
                        <a:pt x="469" y="40"/>
                        <a:pt x="457" y="31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093520" y="6175440"/>
                  <a:ext cx="51480" cy="111240"/>
                </a:xfrm>
                <a:custGeom>
                  <a:avLst/>
                  <a:gdLst/>
                  <a:ahLst/>
                  <a:rect l="l" t="t" r="r" b="b"/>
                  <a:pathLst>
                    <a:path w="173" h="383">
                      <a:moveTo>
                        <a:pt x="1" y="18"/>
                      </a:moveTo>
                      <a:cubicBezTo>
                        <a:pt x="0" y="36"/>
                        <a:pt x="51" y="101"/>
                        <a:pt x="69" y="146"/>
                      </a:cubicBezTo>
                      <a:cubicBezTo>
                        <a:pt x="87" y="191"/>
                        <a:pt x="104" y="251"/>
                        <a:pt x="109" y="290"/>
                      </a:cubicBezTo>
                      <a:cubicBezTo>
                        <a:pt x="114" y="329"/>
                        <a:pt x="93" y="373"/>
                        <a:pt x="97" y="378"/>
                      </a:cubicBezTo>
                      <a:cubicBezTo>
                        <a:pt x="101" y="383"/>
                        <a:pt x="120" y="335"/>
                        <a:pt x="133" y="318"/>
                      </a:cubicBezTo>
                      <a:cubicBezTo>
                        <a:pt x="146" y="301"/>
                        <a:pt x="173" y="287"/>
                        <a:pt x="173" y="274"/>
                      </a:cubicBezTo>
                      <a:cubicBezTo>
                        <a:pt x="173" y="261"/>
                        <a:pt x="136" y="249"/>
                        <a:pt x="133" y="238"/>
                      </a:cubicBezTo>
                      <a:cubicBezTo>
                        <a:pt x="130" y="227"/>
                        <a:pt x="156" y="219"/>
                        <a:pt x="153" y="206"/>
                      </a:cubicBezTo>
                      <a:cubicBezTo>
                        <a:pt x="150" y="193"/>
                        <a:pt x="118" y="173"/>
                        <a:pt x="113" y="158"/>
                      </a:cubicBezTo>
                      <a:cubicBezTo>
                        <a:pt x="108" y="143"/>
                        <a:pt x="129" y="131"/>
                        <a:pt x="125" y="118"/>
                      </a:cubicBezTo>
                      <a:cubicBezTo>
                        <a:pt x="121" y="105"/>
                        <a:pt x="97" y="91"/>
                        <a:pt x="89" y="78"/>
                      </a:cubicBezTo>
                      <a:cubicBezTo>
                        <a:pt x="81" y="65"/>
                        <a:pt x="91" y="47"/>
                        <a:pt x="77" y="38"/>
                      </a:cubicBezTo>
                      <a:cubicBezTo>
                        <a:pt x="63" y="29"/>
                        <a:pt x="2" y="0"/>
                        <a:pt x="1" y="18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225280" y="6266880"/>
                  <a:ext cx="219600" cy="168120"/>
                </a:xfrm>
                <a:custGeom>
                  <a:avLst/>
                  <a:gdLst/>
                  <a:ahLst/>
                  <a:rect l="l" t="t" r="r" b="b"/>
                  <a:pathLst>
                    <a:path w="738" h="578">
                      <a:moveTo>
                        <a:pt x="91" y="4"/>
                      </a:moveTo>
                      <a:cubicBezTo>
                        <a:pt x="79" y="8"/>
                        <a:pt x="34" y="36"/>
                        <a:pt x="19" y="60"/>
                      </a:cubicBezTo>
                      <a:cubicBezTo>
                        <a:pt x="4" y="84"/>
                        <a:pt x="0" y="121"/>
                        <a:pt x="3" y="148"/>
                      </a:cubicBezTo>
                      <a:cubicBezTo>
                        <a:pt x="6" y="175"/>
                        <a:pt x="18" y="195"/>
                        <a:pt x="35" y="220"/>
                      </a:cubicBezTo>
                      <a:cubicBezTo>
                        <a:pt x="52" y="245"/>
                        <a:pt x="97" y="275"/>
                        <a:pt x="107" y="300"/>
                      </a:cubicBezTo>
                      <a:cubicBezTo>
                        <a:pt x="117" y="325"/>
                        <a:pt x="90" y="357"/>
                        <a:pt x="95" y="372"/>
                      </a:cubicBezTo>
                      <a:cubicBezTo>
                        <a:pt x="100" y="387"/>
                        <a:pt x="119" y="386"/>
                        <a:pt x="135" y="392"/>
                      </a:cubicBezTo>
                      <a:cubicBezTo>
                        <a:pt x="151" y="398"/>
                        <a:pt x="162" y="397"/>
                        <a:pt x="191" y="408"/>
                      </a:cubicBezTo>
                      <a:cubicBezTo>
                        <a:pt x="220" y="419"/>
                        <a:pt x="270" y="439"/>
                        <a:pt x="311" y="460"/>
                      </a:cubicBezTo>
                      <a:cubicBezTo>
                        <a:pt x="352" y="481"/>
                        <a:pt x="398" y="517"/>
                        <a:pt x="439" y="536"/>
                      </a:cubicBezTo>
                      <a:cubicBezTo>
                        <a:pt x="480" y="555"/>
                        <a:pt x="520" y="566"/>
                        <a:pt x="555" y="572"/>
                      </a:cubicBezTo>
                      <a:cubicBezTo>
                        <a:pt x="590" y="578"/>
                        <a:pt x="622" y="574"/>
                        <a:pt x="651" y="572"/>
                      </a:cubicBezTo>
                      <a:cubicBezTo>
                        <a:pt x="680" y="570"/>
                        <a:pt x="738" y="563"/>
                        <a:pt x="731" y="560"/>
                      </a:cubicBezTo>
                      <a:cubicBezTo>
                        <a:pt x="724" y="557"/>
                        <a:pt x="645" y="561"/>
                        <a:pt x="607" y="556"/>
                      </a:cubicBezTo>
                      <a:cubicBezTo>
                        <a:pt x="569" y="551"/>
                        <a:pt x="541" y="542"/>
                        <a:pt x="503" y="528"/>
                      </a:cubicBezTo>
                      <a:cubicBezTo>
                        <a:pt x="465" y="514"/>
                        <a:pt x="419" y="491"/>
                        <a:pt x="379" y="472"/>
                      </a:cubicBezTo>
                      <a:cubicBezTo>
                        <a:pt x="339" y="453"/>
                        <a:pt x="296" y="432"/>
                        <a:pt x="263" y="416"/>
                      </a:cubicBezTo>
                      <a:cubicBezTo>
                        <a:pt x="230" y="400"/>
                        <a:pt x="201" y="388"/>
                        <a:pt x="183" y="376"/>
                      </a:cubicBezTo>
                      <a:cubicBezTo>
                        <a:pt x="165" y="364"/>
                        <a:pt x="161" y="357"/>
                        <a:pt x="155" y="344"/>
                      </a:cubicBezTo>
                      <a:cubicBezTo>
                        <a:pt x="149" y="331"/>
                        <a:pt x="159" y="315"/>
                        <a:pt x="147" y="296"/>
                      </a:cubicBezTo>
                      <a:cubicBezTo>
                        <a:pt x="135" y="277"/>
                        <a:pt x="103" y="255"/>
                        <a:pt x="83" y="232"/>
                      </a:cubicBezTo>
                      <a:cubicBezTo>
                        <a:pt x="63" y="209"/>
                        <a:pt x="35" y="179"/>
                        <a:pt x="27" y="156"/>
                      </a:cubicBezTo>
                      <a:cubicBezTo>
                        <a:pt x="19" y="133"/>
                        <a:pt x="24" y="112"/>
                        <a:pt x="35" y="92"/>
                      </a:cubicBezTo>
                      <a:cubicBezTo>
                        <a:pt x="46" y="72"/>
                        <a:pt x="84" y="51"/>
                        <a:pt x="91" y="36"/>
                      </a:cubicBezTo>
                      <a:cubicBezTo>
                        <a:pt x="98" y="21"/>
                        <a:pt x="103" y="0"/>
                        <a:pt x="91" y="4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92800" y="6183720"/>
                  <a:ext cx="154080" cy="121680"/>
                </a:xfrm>
                <a:custGeom>
                  <a:avLst/>
                  <a:gdLst/>
                  <a:ahLst/>
                  <a:rect l="l" t="t" r="r" b="b"/>
                  <a:pathLst>
                    <a:path w="518" h="418">
                      <a:moveTo>
                        <a:pt x="15" y="417"/>
                      </a:moveTo>
                      <a:cubicBezTo>
                        <a:pt x="0" y="418"/>
                        <a:pt x="62" y="401"/>
                        <a:pt x="79" y="381"/>
                      </a:cubicBezTo>
                      <a:cubicBezTo>
                        <a:pt x="96" y="361"/>
                        <a:pt x="112" y="328"/>
                        <a:pt x="119" y="297"/>
                      </a:cubicBezTo>
                      <a:cubicBezTo>
                        <a:pt x="126" y="266"/>
                        <a:pt x="130" y="233"/>
                        <a:pt x="123" y="197"/>
                      </a:cubicBezTo>
                      <a:cubicBezTo>
                        <a:pt x="116" y="161"/>
                        <a:pt x="94" y="113"/>
                        <a:pt x="79" y="81"/>
                      </a:cubicBezTo>
                      <a:cubicBezTo>
                        <a:pt x="64" y="49"/>
                        <a:pt x="25" y="10"/>
                        <a:pt x="35" y="5"/>
                      </a:cubicBezTo>
                      <a:cubicBezTo>
                        <a:pt x="45" y="0"/>
                        <a:pt x="101" y="41"/>
                        <a:pt x="139" y="49"/>
                      </a:cubicBezTo>
                      <a:cubicBezTo>
                        <a:pt x="177" y="57"/>
                        <a:pt x="218" y="53"/>
                        <a:pt x="263" y="53"/>
                      </a:cubicBezTo>
                      <a:cubicBezTo>
                        <a:pt x="308" y="53"/>
                        <a:pt x="371" y="45"/>
                        <a:pt x="411" y="49"/>
                      </a:cubicBezTo>
                      <a:cubicBezTo>
                        <a:pt x="451" y="53"/>
                        <a:pt x="488" y="56"/>
                        <a:pt x="503" y="77"/>
                      </a:cubicBezTo>
                      <a:cubicBezTo>
                        <a:pt x="518" y="98"/>
                        <a:pt x="503" y="144"/>
                        <a:pt x="499" y="173"/>
                      </a:cubicBezTo>
                      <a:cubicBezTo>
                        <a:pt x="495" y="202"/>
                        <a:pt x="508" y="226"/>
                        <a:pt x="479" y="249"/>
                      </a:cubicBezTo>
                      <a:cubicBezTo>
                        <a:pt x="450" y="272"/>
                        <a:pt x="378" y="292"/>
                        <a:pt x="327" y="313"/>
                      </a:cubicBezTo>
                      <a:cubicBezTo>
                        <a:pt x="276" y="334"/>
                        <a:pt x="222" y="360"/>
                        <a:pt x="171" y="377"/>
                      </a:cubicBezTo>
                      <a:cubicBezTo>
                        <a:pt x="120" y="394"/>
                        <a:pt x="30" y="416"/>
                        <a:pt x="15" y="4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95400" y="6200640"/>
                  <a:ext cx="56880" cy="158760"/>
                </a:xfrm>
                <a:custGeom>
                  <a:avLst/>
                  <a:gdLst/>
                  <a:ahLst/>
                  <a:rect l="l" t="t" r="r" b="b"/>
                  <a:pathLst>
                    <a:path w="192" h="546">
                      <a:moveTo>
                        <a:pt x="19" y="543"/>
                      </a:moveTo>
                      <a:cubicBezTo>
                        <a:pt x="16" y="540"/>
                        <a:pt x="4" y="483"/>
                        <a:pt x="3" y="447"/>
                      </a:cubicBezTo>
                      <a:cubicBezTo>
                        <a:pt x="2" y="411"/>
                        <a:pt x="0" y="364"/>
                        <a:pt x="11" y="327"/>
                      </a:cubicBezTo>
                      <a:cubicBezTo>
                        <a:pt x="22" y="290"/>
                        <a:pt x="54" y="252"/>
                        <a:pt x="71" y="227"/>
                      </a:cubicBezTo>
                      <a:cubicBezTo>
                        <a:pt x="88" y="202"/>
                        <a:pt x="100" y="196"/>
                        <a:pt x="111" y="179"/>
                      </a:cubicBezTo>
                      <a:cubicBezTo>
                        <a:pt x="122" y="162"/>
                        <a:pt x="131" y="146"/>
                        <a:pt x="135" y="123"/>
                      </a:cubicBezTo>
                      <a:cubicBezTo>
                        <a:pt x="139" y="100"/>
                        <a:pt x="139" y="63"/>
                        <a:pt x="135" y="43"/>
                      </a:cubicBezTo>
                      <a:cubicBezTo>
                        <a:pt x="131" y="23"/>
                        <a:pt x="106" y="6"/>
                        <a:pt x="111" y="3"/>
                      </a:cubicBezTo>
                      <a:cubicBezTo>
                        <a:pt x="116" y="0"/>
                        <a:pt x="155" y="4"/>
                        <a:pt x="167" y="27"/>
                      </a:cubicBezTo>
                      <a:cubicBezTo>
                        <a:pt x="179" y="50"/>
                        <a:pt x="192" y="108"/>
                        <a:pt x="183" y="143"/>
                      </a:cubicBezTo>
                      <a:cubicBezTo>
                        <a:pt x="174" y="178"/>
                        <a:pt x="140" y="207"/>
                        <a:pt x="115" y="239"/>
                      </a:cubicBezTo>
                      <a:cubicBezTo>
                        <a:pt x="90" y="271"/>
                        <a:pt x="51" y="298"/>
                        <a:pt x="35" y="335"/>
                      </a:cubicBezTo>
                      <a:cubicBezTo>
                        <a:pt x="19" y="372"/>
                        <a:pt x="22" y="428"/>
                        <a:pt x="19" y="463"/>
                      </a:cubicBezTo>
                      <a:cubicBezTo>
                        <a:pt x="16" y="498"/>
                        <a:pt x="22" y="546"/>
                        <a:pt x="19" y="543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461440" y="6286680"/>
                  <a:ext cx="191160" cy="133560"/>
                </a:xfrm>
                <a:custGeom>
                  <a:avLst/>
                  <a:gdLst/>
                  <a:ahLst/>
                  <a:rect l="l" t="t" r="r" b="b"/>
                  <a:pathLst>
                    <a:path w="642" h="459">
                      <a:moveTo>
                        <a:pt x="14" y="20"/>
                      </a:moveTo>
                      <a:cubicBezTo>
                        <a:pt x="11" y="32"/>
                        <a:pt x="0" y="58"/>
                        <a:pt x="22" y="80"/>
                      </a:cubicBezTo>
                      <a:cubicBezTo>
                        <a:pt x="44" y="102"/>
                        <a:pt x="123" y="125"/>
                        <a:pt x="146" y="152"/>
                      </a:cubicBezTo>
                      <a:cubicBezTo>
                        <a:pt x="169" y="179"/>
                        <a:pt x="152" y="219"/>
                        <a:pt x="162" y="244"/>
                      </a:cubicBezTo>
                      <a:cubicBezTo>
                        <a:pt x="172" y="269"/>
                        <a:pt x="181" y="286"/>
                        <a:pt x="206" y="300"/>
                      </a:cubicBezTo>
                      <a:cubicBezTo>
                        <a:pt x="231" y="314"/>
                        <a:pt x="279" y="310"/>
                        <a:pt x="314" y="328"/>
                      </a:cubicBezTo>
                      <a:cubicBezTo>
                        <a:pt x="349" y="346"/>
                        <a:pt x="381" y="389"/>
                        <a:pt x="414" y="408"/>
                      </a:cubicBezTo>
                      <a:cubicBezTo>
                        <a:pt x="447" y="427"/>
                        <a:pt x="477" y="433"/>
                        <a:pt x="514" y="440"/>
                      </a:cubicBezTo>
                      <a:cubicBezTo>
                        <a:pt x="551" y="447"/>
                        <a:pt x="634" y="459"/>
                        <a:pt x="638" y="452"/>
                      </a:cubicBezTo>
                      <a:cubicBezTo>
                        <a:pt x="642" y="445"/>
                        <a:pt x="562" y="421"/>
                        <a:pt x="538" y="400"/>
                      </a:cubicBezTo>
                      <a:cubicBezTo>
                        <a:pt x="514" y="379"/>
                        <a:pt x="509" y="341"/>
                        <a:pt x="494" y="328"/>
                      </a:cubicBezTo>
                      <a:cubicBezTo>
                        <a:pt x="479" y="315"/>
                        <a:pt x="454" y="327"/>
                        <a:pt x="446" y="320"/>
                      </a:cubicBezTo>
                      <a:cubicBezTo>
                        <a:pt x="438" y="313"/>
                        <a:pt x="450" y="301"/>
                        <a:pt x="446" y="288"/>
                      </a:cubicBezTo>
                      <a:cubicBezTo>
                        <a:pt x="442" y="275"/>
                        <a:pt x="436" y="248"/>
                        <a:pt x="422" y="244"/>
                      </a:cubicBezTo>
                      <a:cubicBezTo>
                        <a:pt x="408" y="240"/>
                        <a:pt x="379" y="261"/>
                        <a:pt x="362" y="264"/>
                      </a:cubicBezTo>
                      <a:cubicBezTo>
                        <a:pt x="345" y="267"/>
                        <a:pt x="327" y="270"/>
                        <a:pt x="318" y="264"/>
                      </a:cubicBezTo>
                      <a:cubicBezTo>
                        <a:pt x="309" y="258"/>
                        <a:pt x="319" y="227"/>
                        <a:pt x="310" y="228"/>
                      </a:cubicBezTo>
                      <a:cubicBezTo>
                        <a:pt x="301" y="229"/>
                        <a:pt x="285" y="263"/>
                        <a:pt x="266" y="268"/>
                      </a:cubicBezTo>
                      <a:cubicBezTo>
                        <a:pt x="247" y="273"/>
                        <a:pt x="209" y="268"/>
                        <a:pt x="194" y="256"/>
                      </a:cubicBezTo>
                      <a:cubicBezTo>
                        <a:pt x="179" y="244"/>
                        <a:pt x="183" y="217"/>
                        <a:pt x="178" y="196"/>
                      </a:cubicBezTo>
                      <a:cubicBezTo>
                        <a:pt x="173" y="175"/>
                        <a:pt x="179" y="151"/>
                        <a:pt x="162" y="132"/>
                      </a:cubicBezTo>
                      <a:cubicBezTo>
                        <a:pt x="145" y="113"/>
                        <a:pt x="94" y="101"/>
                        <a:pt x="74" y="80"/>
                      </a:cubicBezTo>
                      <a:cubicBezTo>
                        <a:pt x="54" y="59"/>
                        <a:pt x="51" y="16"/>
                        <a:pt x="42" y="8"/>
                      </a:cubicBezTo>
                      <a:cubicBezTo>
                        <a:pt x="33" y="0"/>
                        <a:pt x="17" y="8"/>
                        <a:pt x="14" y="20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211960" y="6480000"/>
                  <a:ext cx="255240" cy="78480"/>
                </a:xfrm>
                <a:custGeom>
                  <a:avLst/>
                  <a:gdLst/>
                  <a:ahLst/>
                  <a:rect l="l" t="t" r="r" b="b"/>
                  <a:pathLst>
                    <a:path w="857" h="270">
                      <a:moveTo>
                        <a:pt x="0" y="156"/>
                      </a:moveTo>
                      <a:cubicBezTo>
                        <a:pt x="0" y="163"/>
                        <a:pt x="13" y="189"/>
                        <a:pt x="28" y="192"/>
                      </a:cubicBezTo>
                      <a:cubicBezTo>
                        <a:pt x="43" y="195"/>
                        <a:pt x="72" y="183"/>
                        <a:pt x="92" y="176"/>
                      </a:cubicBezTo>
                      <a:cubicBezTo>
                        <a:pt x="112" y="169"/>
                        <a:pt x="132" y="156"/>
                        <a:pt x="148" y="148"/>
                      </a:cubicBezTo>
                      <a:cubicBezTo>
                        <a:pt x="164" y="140"/>
                        <a:pt x="170" y="123"/>
                        <a:pt x="188" y="128"/>
                      </a:cubicBezTo>
                      <a:cubicBezTo>
                        <a:pt x="206" y="133"/>
                        <a:pt x="233" y="169"/>
                        <a:pt x="256" y="176"/>
                      </a:cubicBezTo>
                      <a:cubicBezTo>
                        <a:pt x="279" y="183"/>
                        <a:pt x="308" y="166"/>
                        <a:pt x="328" y="172"/>
                      </a:cubicBezTo>
                      <a:cubicBezTo>
                        <a:pt x="348" y="178"/>
                        <a:pt x="359" y="206"/>
                        <a:pt x="376" y="212"/>
                      </a:cubicBezTo>
                      <a:cubicBezTo>
                        <a:pt x="393" y="218"/>
                        <a:pt x="411" y="199"/>
                        <a:pt x="428" y="208"/>
                      </a:cubicBezTo>
                      <a:cubicBezTo>
                        <a:pt x="445" y="217"/>
                        <a:pt x="460" y="258"/>
                        <a:pt x="480" y="264"/>
                      </a:cubicBezTo>
                      <a:cubicBezTo>
                        <a:pt x="500" y="270"/>
                        <a:pt x="525" y="253"/>
                        <a:pt x="548" y="244"/>
                      </a:cubicBezTo>
                      <a:cubicBezTo>
                        <a:pt x="571" y="235"/>
                        <a:pt x="599" y="227"/>
                        <a:pt x="616" y="212"/>
                      </a:cubicBezTo>
                      <a:cubicBezTo>
                        <a:pt x="633" y="197"/>
                        <a:pt x="633" y="172"/>
                        <a:pt x="652" y="156"/>
                      </a:cubicBezTo>
                      <a:cubicBezTo>
                        <a:pt x="671" y="140"/>
                        <a:pt x="707" y="130"/>
                        <a:pt x="732" y="116"/>
                      </a:cubicBezTo>
                      <a:cubicBezTo>
                        <a:pt x="757" y="102"/>
                        <a:pt x="783" y="82"/>
                        <a:pt x="804" y="72"/>
                      </a:cubicBezTo>
                      <a:cubicBezTo>
                        <a:pt x="825" y="62"/>
                        <a:pt x="857" y="68"/>
                        <a:pt x="856" y="56"/>
                      </a:cubicBezTo>
                      <a:cubicBezTo>
                        <a:pt x="855" y="44"/>
                        <a:pt x="813" y="0"/>
                        <a:pt x="796" y="0"/>
                      </a:cubicBezTo>
                      <a:cubicBezTo>
                        <a:pt x="779" y="0"/>
                        <a:pt x="775" y="37"/>
                        <a:pt x="752" y="56"/>
                      </a:cubicBezTo>
                      <a:cubicBezTo>
                        <a:pt x="729" y="75"/>
                        <a:pt x="686" y="92"/>
                        <a:pt x="660" y="112"/>
                      </a:cubicBezTo>
                      <a:cubicBezTo>
                        <a:pt x="634" y="132"/>
                        <a:pt x="619" y="167"/>
                        <a:pt x="596" y="176"/>
                      </a:cubicBezTo>
                      <a:cubicBezTo>
                        <a:pt x="573" y="185"/>
                        <a:pt x="549" y="171"/>
                        <a:pt x="524" y="168"/>
                      </a:cubicBezTo>
                      <a:cubicBezTo>
                        <a:pt x="499" y="165"/>
                        <a:pt x="469" y="160"/>
                        <a:pt x="444" y="160"/>
                      </a:cubicBezTo>
                      <a:cubicBezTo>
                        <a:pt x="419" y="160"/>
                        <a:pt x="399" y="176"/>
                        <a:pt x="376" y="168"/>
                      </a:cubicBezTo>
                      <a:cubicBezTo>
                        <a:pt x="353" y="160"/>
                        <a:pt x="328" y="128"/>
                        <a:pt x="304" y="112"/>
                      </a:cubicBezTo>
                      <a:cubicBezTo>
                        <a:pt x="280" y="96"/>
                        <a:pt x="257" y="76"/>
                        <a:pt x="232" y="72"/>
                      </a:cubicBezTo>
                      <a:cubicBezTo>
                        <a:pt x="207" y="68"/>
                        <a:pt x="175" y="79"/>
                        <a:pt x="152" y="88"/>
                      </a:cubicBezTo>
                      <a:cubicBezTo>
                        <a:pt x="129" y="97"/>
                        <a:pt x="117" y="114"/>
                        <a:pt x="96" y="124"/>
                      </a:cubicBezTo>
                      <a:cubicBezTo>
                        <a:pt x="75" y="134"/>
                        <a:pt x="45" y="141"/>
                        <a:pt x="28" y="148"/>
                      </a:cubicBezTo>
                      <a:cubicBezTo>
                        <a:pt x="11" y="155"/>
                        <a:pt x="0" y="149"/>
                        <a:pt x="0" y="156"/>
                      </a:cubicBezTo>
                      <a:close/>
                    </a:path>
                  </a:pathLst>
                </a:custGeom>
                <a:solidFill>
                  <a:srgbClr val="fed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574120" y="5823000"/>
                  <a:ext cx="178920" cy="228600"/>
                </a:xfrm>
                <a:custGeom>
                  <a:avLst/>
                  <a:gdLst/>
                  <a:ahLst/>
                  <a:rect l="l" t="t" r="r" b="b"/>
                  <a:pathLst>
                    <a:path w="601" h="786">
                      <a:moveTo>
                        <a:pt x="12" y="13"/>
                      </a:moveTo>
                      <a:cubicBezTo>
                        <a:pt x="0" y="0"/>
                        <a:pt x="34" y="32"/>
                        <a:pt x="32" y="49"/>
                      </a:cubicBezTo>
                      <a:cubicBezTo>
                        <a:pt x="30" y="66"/>
                        <a:pt x="0" y="99"/>
                        <a:pt x="0" y="113"/>
                      </a:cubicBezTo>
                      <a:cubicBezTo>
                        <a:pt x="0" y="127"/>
                        <a:pt x="29" y="122"/>
                        <a:pt x="32" y="133"/>
                      </a:cubicBezTo>
                      <a:cubicBezTo>
                        <a:pt x="35" y="144"/>
                        <a:pt x="11" y="170"/>
                        <a:pt x="16" y="181"/>
                      </a:cubicBezTo>
                      <a:cubicBezTo>
                        <a:pt x="21" y="192"/>
                        <a:pt x="55" y="188"/>
                        <a:pt x="60" y="197"/>
                      </a:cubicBezTo>
                      <a:cubicBezTo>
                        <a:pt x="65" y="206"/>
                        <a:pt x="40" y="227"/>
                        <a:pt x="44" y="237"/>
                      </a:cubicBezTo>
                      <a:cubicBezTo>
                        <a:pt x="48" y="247"/>
                        <a:pt x="77" y="244"/>
                        <a:pt x="84" y="257"/>
                      </a:cubicBezTo>
                      <a:cubicBezTo>
                        <a:pt x="91" y="270"/>
                        <a:pt x="86" y="298"/>
                        <a:pt x="88" y="317"/>
                      </a:cubicBezTo>
                      <a:cubicBezTo>
                        <a:pt x="90" y="336"/>
                        <a:pt x="89" y="360"/>
                        <a:pt x="96" y="373"/>
                      </a:cubicBezTo>
                      <a:cubicBezTo>
                        <a:pt x="103" y="386"/>
                        <a:pt x="128" y="386"/>
                        <a:pt x="132" y="397"/>
                      </a:cubicBezTo>
                      <a:cubicBezTo>
                        <a:pt x="136" y="408"/>
                        <a:pt x="113" y="425"/>
                        <a:pt x="120" y="441"/>
                      </a:cubicBezTo>
                      <a:cubicBezTo>
                        <a:pt x="127" y="457"/>
                        <a:pt x="171" y="474"/>
                        <a:pt x="176" y="493"/>
                      </a:cubicBezTo>
                      <a:cubicBezTo>
                        <a:pt x="181" y="512"/>
                        <a:pt x="154" y="537"/>
                        <a:pt x="148" y="557"/>
                      </a:cubicBezTo>
                      <a:cubicBezTo>
                        <a:pt x="142" y="577"/>
                        <a:pt x="125" y="596"/>
                        <a:pt x="140" y="613"/>
                      </a:cubicBezTo>
                      <a:cubicBezTo>
                        <a:pt x="155" y="630"/>
                        <a:pt x="215" y="646"/>
                        <a:pt x="236" y="661"/>
                      </a:cubicBezTo>
                      <a:cubicBezTo>
                        <a:pt x="257" y="676"/>
                        <a:pt x="257" y="698"/>
                        <a:pt x="268" y="701"/>
                      </a:cubicBezTo>
                      <a:cubicBezTo>
                        <a:pt x="279" y="704"/>
                        <a:pt x="291" y="675"/>
                        <a:pt x="304" y="677"/>
                      </a:cubicBezTo>
                      <a:cubicBezTo>
                        <a:pt x="317" y="679"/>
                        <a:pt x="331" y="706"/>
                        <a:pt x="348" y="713"/>
                      </a:cubicBezTo>
                      <a:cubicBezTo>
                        <a:pt x="365" y="720"/>
                        <a:pt x="392" y="712"/>
                        <a:pt x="408" y="717"/>
                      </a:cubicBezTo>
                      <a:cubicBezTo>
                        <a:pt x="424" y="722"/>
                        <a:pt x="429" y="742"/>
                        <a:pt x="444" y="741"/>
                      </a:cubicBezTo>
                      <a:cubicBezTo>
                        <a:pt x="459" y="740"/>
                        <a:pt x="477" y="708"/>
                        <a:pt x="496" y="709"/>
                      </a:cubicBezTo>
                      <a:cubicBezTo>
                        <a:pt x="515" y="710"/>
                        <a:pt x="544" y="732"/>
                        <a:pt x="556" y="745"/>
                      </a:cubicBezTo>
                      <a:cubicBezTo>
                        <a:pt x="568" y="758"/>
                        <a:pt x="562" y="784"/>
                        <a:pt x="568" y="785"/>
                      </a:cubicBezTo>
                      <a:cubicBezTo>
                        <a:pt x="574" y="786"/>
                        <a:pt x="601" y="770"/>
                        <a:pt x="592" y="753"/>
                      </a:cubicBezTo>
                      <a:cubicBezTo>
                        <a:pt x="583" y="736"/>
                        <a:pt x="543" y="706"/>
                        <a:pt x="512" y="685"/>
                      </a:cubicBezTo>
                      <a:cubicBezTo>
                        <a:pt x="481" y="664"/>
                        <a:pt x="440" y="663"/>
                        <a:pt x="404" y="625"/>
                      </a:cubicBezTo>
                      <a:cubicBezTo>
                        <a:pt x="368" y="587"/>
                        <a:pt x="336" y="510"/>
                        <a:pt x="296" y="457"/>
                      </a:cubicBezTo>
                      <a:cubicBezTo>
                        <a:pt x="256" y="404"/>
                        <a:pt x="196" y="360"/>
                        <a:pt x="164" y="305"/>
                      </a:cubicBezTo>
                      <a:cubicBezTo>
                        <a:pt x="132" y="250"/>
                        <a:pt x="130" y="177"/>
                        <a:pt x="104" y="129"/>
                      </a:cubicBezTo>
                      <a:cubicBezTo>
                        <a:pt x="78" y="81"/>
                        <a:pt x="24" y="26"/>
                        <a:pt x="12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b418c"/>
                    </a:gs>
                    <a:gs pos="100000">
                      <a:srgbClr val="fed6e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973280" y="6227280"/>
                  <a:ext cx="161640" cy="225720"/>
                </a:xfrm>
                <a:custGeom>
                  <a:avLst/>
                  <a:gdLst/>
                  <a:ahLst/>
                  <a:rect l="l" t="t" r="r" b="b"/>
                  <a:pathLst>
                    <a:path w="543" h="776">
                      <a:moveTo>
                        <a:pt x="511" y="16"/>
                      </a:moveTo>
                      <a:cubicBezTo>
                        <a:pt x="479" y="0"/>
                        <a:pt x="388" y="90"/>
                        <a:pt x="325" y="136"/>
                      </a:cubicBezTo>
                      <a:cubicBezTo>
                        <a:pt x="262" y="182"/>
                        <a:pt x="178" y="234"/>
                        <a:pt x="133" y="292"/>
                      </a:cubicBezTo>
                      <a:cubicBezTo>
                        <a:pt x="88" y="350"/>
                        <a:pt x="77" y="429"/>
                        <a:pt x="55" y="484"/>
                      </a:cubicBezTo>
                      <a:cubicBezTo>
                        <a:pt x="33" y="539"/>
                        <a:pt x="0" y="581"/>
                        <a:pt x="1" y="622"/>
                      </a:cubicBezTo>
                      <a:cubicBezTo>
                        <a:pt x="2" y="663"/>
                        <a:pt x="35" y="708"/>
                        <a:pt x="61" y="730"/>
                      </a:cubicBezTo>
                      <a:cubicBezTo>
                        <a:pt x="87" y="752"/>
                        <a:pt x="146" y="776"/>
                        <a:pt x="157" y="754"/>
                      </a:cubicBezTo>
                      <a:cubicBezTo>
                        <a:pt x="168" y="732"/>
                        <a:pt x="131" y="649"/>
                        <a:pt x="127" y="598"/>
                      </a:cubicBezTo>
                      <a:cubicBezTo>
                        <a:pt x="123" y="547"/>
                        <a:pt x="120" y="494"/>
                        <a:pt x="133" y="448"/>
                      </a:cubicBezTo>
                      <a:cubicBezTo>
                        <a:pt x="146" y="402"/>
                        <a:pt x="164" y="352"/>
                        <a:pt x="205" y="322"/>
                      </a:cubicBezTo>
                      <a:cubicBezTo>
                        <a:pt x="246" y="292"/>
                        <a:pt x="327" y="283"/>
                        <a:pt x="379" y="268"/>
                      </a:cubicBezTo>
                      <a:cubicBezTo>
                        <a:pt x="431" y="253"/>
                        <a:pt x="497" y="271"/>
                        <a:pt x="517" y="232"/>
                      </a:cubicBezTo>
                      <a:cubicBezTo>
                        <a:pt x="537" y="193"/>
                        <a:pt x="543" y="32"/>
                        <a:pt x="511" y="16"/>
                      </a:cubicBezTo>
                      <a:close/>
                    </a:path>
                  </a:pathLst>
                </a:custGeom>
                <a:solidFill>
                  <a:srgbClr val="fdb1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5386320" y="2536920"/>
              <a:ext cx="1371240" cy="86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92"/>
                  </a:moveTo>
                  <a:arcTo wR="10800" hR="10800" stAng="-10797591" swAng="107975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92"/>
                  </a:moveTo>
                  <a:arcTo wR="10800" hR="10800" stAng="-10797591" swAng="10797591"/>
                </a:path>
              </a:pathLst>
            </a:custGeom>
            <a:gradFill rotWithShape="0">
              <a:gsLst>
                <a:gs pos="0">
                  <a:srgbClr val="e4c2dd"/>
                </a:gs>
                <a:gs pos="100000">
                  <a:srgbClr val="edd7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33520" y="-5521320"/>
              <a:ext cx="1218600" cy="1104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3"/>
                  </a:moveTo>
                  <a:arcTo wR="10800" hR="10800" stAng="10799045" swAng="10799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3"/>
                  </a:moveTo>
                  <a:arcTo wR="10800" hR="10800" stAng="10799045" swAng="10799997"/>
                </a:path>
              </a:pathLst>
            </a:custGeom>
            <a:gradFill rotWithShape="0">
              <a:gsLst>
                <a:gs pos="0">
                  <a:srgbClr val="e4c2dd"/>
                </a:gs>
                <a:gs pos="100000">
                  <a:srgbClr val="edd7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95560" y="3219480"/>
              <a:ext cx="2818800" cy="72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-10799842" swAng="10799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-10799842" swAng="10799842"/>
                </a:path>
              </a:pathLst>
            </a:custGeom>
            <a:gradFill rotWithShape="0">
              <a:gsLst>
                <a:gs pos="0">
                  <a:srgbClr val="e4c2dd"/>
                </a:gs>
                <a:gs pos="100000">
                  <a:srgbClr val="edd7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3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325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0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32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325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11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325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325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2"/>
          </p:nvPr>
        </p:nvSpPr>
        <p:spPr>
          <a:xfrm>
            <a:off x="6095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32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2DFD-6F76-4AF9-A982-0D93C29C34B6}" type="slidenum">
              <a:rPr b="0" lang="en-US" sz="1400" spc="-1" strike="noStrike">
                <a:solidFill>
                  <a:srgbClr val="6e325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8.flixster.com/question/51/77/37/5177374_std.jpg&amp;imgrefurl=http://profile.myspace.com/index.cfm%3Ffuseaction%3Duser.viewprofile%26friendID%3D79708626&amp;h=270&amp;w=270&amp;sz=17&amp;hl=en&amp;start=15&amp;tbnid=Q3dQ0TGwHoI9lM:&amp;tbnh=113&amp;tbnw=113&amp;prev=/images%3Fq%3Dchinese%2Bcartoon%2Bquiz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oldenreighnshihtzu.com/sitebuildercontent/sitebuilderpictures/.pond/chinese-painting-Mi5756.jpeg.w300h298.jpg&amp;imgrefurl=http://www.goldenreighnshihtzu.com/id69.html&amp;h=298&amp;w=300&amp;sz=21&amp;hl=en&amp;start=2&amp;tbnid=tDtiekkhoVs_OM:&amp;tbnh=115&amp;tbnw=116&amp;prev=/images%3Fq%3Dchinese%2Bpainting%26gbv%3D2%26hl%3De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.uk/imgres?imgurl=http://www.jungleboffin.com/image.php%3Fh%3D300%26src%3D/images/artoriginals/river/summer%2520picnic%2520spot.jpg&amp;imgrefurl=http://www.artoriginals.co.uk/landscapes/river.countryside.paintings/&amp;h=300&amp;w=422&amp;sz=20&amp;hl=en&amp;start=27&amp;tbnid=gnuvzQWqF7Y-qM:&amp;tbnh=90&amp;tbnw=126&amp;prev=/images%3Fq%3Denglish%2Bpainting%26start%3D18%26gbv%3D2%26ndsp%3D18%26hl%3Den%26sa%3DN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.uk/imgres?imgurl=http://img.alibaba.com/photo/10885537/Indian_Tanjore_Paintings.jpg&amp;imgrefurl=http://www.alibaba.com/catalog/10885537/Indian_Tanjore_Paintings.html&amp;h=600&amp;w=756&amp;sz=94&amp;hl=en&amp;start=24&amp;tbnid=ruRPdxVDFBPhwM:&amp;tbnh=113&amp;tbnw=142&amp;prev=/images%3Fq%3Dindia%2Bpainting%26start%3D18%26gbv%3D2%26ndsp%3D18%26hl%3Den%26sa%3DN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ravelchinaguide.com/images/photogallery/0014500/paper%2520cut%252010014209tm.jpg&amp;imgrefurl=http://www.travelchinaguide.com/intro/festival/traditionalholidays/&amp;h=270&amp;w=191&amp;sz=22&amp;hl=en&amp;start=105&amp;tbnid=w-ZZozAZQ0HoHM:&amp;tbnh=113&amp;tbnw=80&amp;prev=/images%3Fq%3Dtraditional%2Bchinese%2Bfestival%26start%3D90%26gbv%3D2%26ndsp%3D18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kidspast.com/images/great-wall-map.jpg&amp;imgrefurl=http://www.kidspast.com/world-history/0131-great-wall-of-china.php&amp;h=301&amp;w=355&amp;sz=44&amp;hl=en&amp;start=38&amp;tbnid=0_Ntsd95AdFh6M:&amp;tbnh=103&amp;tbnw=121&amp;prev=/images%3Fq%3Dgreat%2Bwall%26start%3D36%26gbv%3D2%26ndsp%3D18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ndarinfirst.com/img/chinese14.gif&amp;imgrefurl=http://www.mandarinfirst.com/&amp;h=364&amp;w=722&amp;sz=36&amp;hl=en&amp;start=16&amp;tbnid=kNnjcHJZ3wHf8M:&amp;tbnh=71&amp;tbnw=140&amp;prev=/images%3Fq%3Dmandarin%2Bchinese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english.people.com.cn/200505/18/images/0517_C53.jpg&amp;imgrefurl=http://english.people.com.cn/200505/18/eng20050518_185615.html&amp;h=425&amp;w=350&amp;sz=36&amp;hl=en&amp;start=3&amp;tbnid=bBS_QRCAuDF65M:&amp;tbnh=126&amp;tbnw=104&amp;prev=/images%3Fq%3Dbeijing%2Bopera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uk/imgres?imgurl=http://www.hburtis.com/graphics/luxon.jpg&amp;imgrefurl=http://www.hburtis.com/students.php&amp;h=224&amp;w=215&amp;sz=15&amp;hl=en&amp;start=49&amp;tbnid=MkppKDFuXuE17M:&amp;tbnh=108&amp;tbnw=104&amp;prev=/images%3Fq%3Denglish%2Bopera%26start%3D36%26gbv%3D2%26ndsp%3D18%26hl%3Den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.uk/imgres?imgurl=http://chandrakantha.com/articles/indian_music/nritya/nritya_media/odissi.jpg&amp;imgrefurl=http://chandrakantha.com/articles/indian_music/nritya/odissi.html&amp;h=507&amp;w=400&amp;sz=27&amp;hl=en&amp;start=16&amp;tbnid=nnSBS79QSXboGM:&amp;tbnh=131&amp;tbnw=103&amp;prev=/images%3Fq%3Dindia%2Bdancing%26gbv%3D2%26hl%3Den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loveindia.com/indian-clothing/gifs/sari.jpg&amp;imgrefurl=http://www.iloveindia.com/indian-clothing/sari.html&amp;h=225&amp;w=180&amp;sz=13&amp;hl=en&amp;start=4&amp;tbnid=HlLFGPiwmyy51M:&amp;tbnh=108&amp;tbnw=86&amp;prev=/images%3Fq%3Dindia%2Bcloth%26gbv%3D2%26hl%3De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risingsunimports.com/howtowearkimono/finalfront.jpg&amp;imgrefurl=http://q0906.blogspot.com/2007/12/japanese-clothing-kimono.html&amp;h=494&amp;w=350&amp;sz=19&amp;hl=en&amp;start=20&amp;tbnid=Oi85KzFE7HDfMM:&amp;tbnh=130&amp;tbnw=92&amp;prev=/images%3Fq%3Djapanese%2Btraditional%2Bcloth%26start%3D18%26gbv%3D2%26ndsp%3D18%26hl%3Den%26sa%3D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.uk/imgres?imgurl=http://portuguese.cri.cn/mmsource/images/2004/08/17/qipao2.jpg&amp;imgrefurl=http://www.crunchyroll.com/forumtopic-28450/Japanese-wear-Kimonos-Koreans-wear-Hanbok-Chinese-wear.html&amp;h=460&amp;w=339&amp;sz=68&amp;hl=en&amp;start=31&amp;tbnid=men0XPjMOG2sFM:&amp;tbnh=128&amp;tbnw=94&amp;prev=/images%3Fq%3Dqipao%2Bchinese%26start%3D18%26gbv%3D2%26ndsp%3D18%26hl%3Den%26sa%3DN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hinesemonstermagic.com/ni_hao_20_still_620x480.jpg&amp;imgrefurl=http://www.chinesemonstermagic.com/cmm_samples.html&amp;h=480&amp;w=640&amp;sz=125&amp;hl=en&amp;start=2&amp;tbnid=DHnlGD8PB2rQBM:&amp;tbnh=103&amp;tbnw=137&amp;prev=/images%3Fq%3Dhello%2Bchinese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mazingjourneys.net/2008%2520China/images/bingmayong.jpg&amp;imgrefurl=http://www.amazingjourneys.net/2008%2520China/index.htm&amp;h=360&amp;w=455&amp;sz=43&amp;hl=en&amp;start=16&amp;um=1&amp;tbnid=-QFjfypXUzfiHM:&amp;tbnh=101&amp;tbnw=128&amp;prev=/images%3Fq%3Dbingmayong%26um%3D1%26hl%3De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1.chinaculture.org/focus/images/attachement/jpg/site1/20071101/00096b7d27910893e9a12c.jpg&amp;imgrefurl=http://www1.chinaculture.org/info/2007-10/22/content_121005.htm&amp;h=266&amp;w=414&amp;sz=13&amp;hl=en&amp;start=56&amp;tbnid=ePYua4Z_rih_yM:&amp;tbnh=80&amp;tbnw=125&amp;prev=/images%3Fq%3Dfour%2Btreasures%2Bof%2Bchinese%2Bstudy%26start%3D54%26gbv%3D2%26ndsp%3D18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aixaki.ig.com.br/imagens/wpapers/BXK10954_comida-japonesa800.jpg&amp;imgrefurl=http://www.the-wallpaper.net/wallpaper/3101-japanese-food.html&amp;h=768&amp;w=1024&amp;sz=128&amp;hl=en&amp;start=3&amp;tbnid=jPQSOVw9NVf2pM:&amp;tbnh=113&amp;tbnw=150&amp;prev=/images%3Fq%3Djapanese%2Bfood%26gbv%3D2%26hl%3D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.uk/imgres?imgurl=http://www.ma.utexas.edu/users/xhli/austraweb/Chinese-food2.jpg&amp;imgrefurl=http://www.mp3.com/users/F1freak660/profile.php&amp;h=600&amp;w=800&amp;sz=119&amp;hl=en&amp;start=7&amp;tbnid=Dnsw9g2wMhIALM:&amp;tbnh=107&amp;tbnw=143&amp;prev=/images%3Fq%3Dchinese%2Bfood%26gbv%3D2%26hl%3D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.uk/imgres?imgurl=http://www.finestchef.com/Mexican%2520Pizza.jpg&amp;imgrefurl=http://www.finestchef.com/Pizza.htm&amp;h=360&amp;w=450&amp;sz=34&amp;hl=en&amp;start=7&amp;tbnid=CwSMJfIrQJE0mM:&amp;tbnh=102&amp;tbnw=127&amp;prev=/images%3Fq%3Dpizza%26gbv%3D2%26hl%3Den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258920" y="1341360"/>
            <a:ext cx="487512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hinese qu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03640" y="4221000"/>
            <a:ext cx="158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考考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3789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55640" y="260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9) Which picture is a traditional Chinese painting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92280"/>
            <a:ext cx="1872000" cy="18734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2492280"/>
            <a:ext cx="1944720" cy="18734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2492280"/>
            <a:ext cx="2016000" cy="18734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763640" y="45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67280" y="4581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5964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755640" y="189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10) How do Chinese people greet each other when they first meet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908000" y="2276640"/>
            <a:ext cx="32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Hu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)  Ki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)  Shake han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11) Which symbol is a Chinese character?</a:t>
            </a:r>
            <a:endParaRPr b="0" lang="en-US" sz="36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89040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妈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89040"/>
              </a:buClr>
              <a:buSzPct val="90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ㄝ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89040"/>
              </a:buClr>
              <a:buSzPct val="90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Tahoma"/>
                <a:cs typeface="Tahoma"/>
              </a:rPr>
              <a:t>ش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Arial"/>
                <a:ea typeface="宋体"/>
              </a:rPr>
              <a:t>12) What colour should a Chinese bride wear at her wedding?</a:t>
            </a:r>
            <a:endParaRPr b="0" lang="en-US" sz="3600" spc="-1" strike="noStrike">
              <a:solidFill>
                <a:srgbClr val="6e325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834920" y="2133720"/>
            <a:ext cx="496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a)  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b)   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c)   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13) Which number is lucky in Chinese culture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71640" y="2421000"/>
            <a:ext cx="57610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7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)   8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66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)   5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5614920" y="4071960"/>
            <a:ext cx="35290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14) What does “cha” mean in Chinese?</a:t>
            </a:r>
            <a:r>
              <a:rPr b="0" lang="en-GB" sz="44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89040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water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89040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tea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89040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juice 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335640" y="39337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360" y="188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15) Which one is a traditional Chinese festival?</a:t>
            </a:r>
            <a:endParaRPr b="0" lang="en-US" sz="32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a)     Christmas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b)     Dragon boat festiva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c)     Diwali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1600" y="3645000"/>
            <a:ext cx="21924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228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Answers</a:t>
            </a:r>
            <a:r>
              <a:rPr b="0" lang="en-GB" sz="44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                                       8)   b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                                       9)   a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                                      10)  a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                                      11)   a 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Ni hao                               12)  c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                                      13)  b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b89040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rush, ink, rice paper,         14)  b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 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nd ink stone                     15)   b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1) What is the name of the capital of China?</a:t>
            </a:r>
            <a:endParaRPr b="0" lang="en-US" sz="32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6694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)    Beijing  </a:t>
            </a: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北京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)    Shanghai  </a:t>
            </a: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上海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)    Nanjing  </a:t>
            </a: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南京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4149720"/>
            <a:ext cx="334800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2) What is the official language in China?</a:t>
            </a:r>
            <a:endParaRPr b="0" lang="en-US" sz="32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  <a:ea typeface="宋体"/>
              </a:rPr>
              <a:t>         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a) Mandarin  </a:t>
            </a: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普通话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         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b) Cantonese </a:t>
            </a: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广东话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  <a:ea typeface="宋体"/>
              </a:rPr>
              <a:t>          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  <a:ea typeface="宋体"/>
              </a:rPr>
              <a:t>c) English </a:t>
            </a:r>
            <a:r>
              <a:rPr b="0" lang="zh-CN" sz="3200" spc="-1" strike="noStrike">
                <a:solidFill>
                  <a:srgbClr val="996600"/>
                </a:solidFill>
                <a:latin typeface="Tahoma"/>
                <a:ea typeface="宋体"/>
              </a:rPr>
              <a:t>英语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013360"/>
            <a:ext cx="36003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826920" y="404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3) Which of the following is a traditional Chinese performanc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368360" cy="1584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428472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263700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619280" y="458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2637000"/>
            <a:ext cx="1297080" cy="1584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948360" y="45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4) Which is a traditional Chinese costume?</a:t>
            </a: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endParaRPr b="0" lang="en-US" sz="3600" spc="-1" strike="noStrike">
              <a:solidFill>
                <a:srgbClr val="425032"/>
              </a:solidFill>
              <a:latin typeface="Tahoma"/>
            </a:endParaRPr>
          </a:p>
        </p:txBody>
      </p:sp>
      <p:pic>
        <p:nvPicPr>
          <p:cNvPr id="5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492280"/>
            <a:ext cx="1547640" cy="19447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61928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492280"/>
            <a:ext cx="137628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4140360" y="465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2492280"/>
            <a:ext cx="137628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732720" y="465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00"/>
                </a:solidFill>
                <a:latin typeface="Tahoma"/>
                <a:ea typeface="宋体"/>
              </a:rPr>
              <a:t>5) How do you say hello in Chinese? </a:t>
            </a:r>
            <a:endParaRPr b="0" lang="en-US" sz="4000" spc="-1" strike="noStrike">
              <a:solidFill>
                <a:srgbClr val="425032"/>
              </a:solidFill>
              <a:latin typeface="Tahoma"/>
            </a:endParaRPr>
          </a:p>
        </p:txBody>
      </p:sp>
      <p:pic>
        <p:nvPicPr>
          <p:cNvPr id="5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357720"/>
            <a:ext cx="3673440" cy="276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3716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a)      Xi‘an     </a:t>
            </a: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西安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宋体"/>
              </a:rPr>
              <a:t>b)      Shanghai    </a:t>
            </a: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上海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宋体"/>
              </a:rPr>
              <a:t>c)      Xianggang   </a:t>
            </a:r>
            <a:r>
              <a:rPr b="0" lang="zh-CN" sz="2800" spc="-1" strike="noStrike">
                <a:solidFill>
                  <a:srgbClr val="996600"/>
                </a:solidFill>
                <a:latin typeface="Tahoma"/>
                <a:ea typeface="宋体"/>
              </a:rPr>
              <a:t>香港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00"/>
                </a:solidFill>
                <a:latin typeface="Tahoma"/>
                <a:ea typeface="宋体"/>
              </a:rPr>
              <a:t>6) The terracotta soldiers are found in which Chinese city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221000"/>
            <a:ext cx="3240360" cy="255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11280" y="62064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7) Can you guess what the “four treasures of Chinese study” are, by looking at the picture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781360"/>
            <a:ext cx="48956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258920" y="260280"/>
            <a:ext cx="66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00"/>
                </a:solidFill>
                <a:latin typeface="Tahoma"/>
                <a:ea typeface="宋体"/>
              </a:rPr>
              <a:t>8) Which of the following is a Chinese dish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349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349360"/>
            <a:ext cx="2016000" cy="19940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2349360"/>
            <a:ext cx="2016360" cy="19656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332000" y="45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458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77080" y="45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  </a:t>
            </a:r>
            <a:r>
              <a:rPr b="0" lang="en-GB" sz="2800" spc="-1" strike="noStrike">
                <a:solidFill>
                  <a:srgbClr val="9966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0:45:19Z</dcterms:created>
  <dc:creator>Information Services Division</dc:creator>
  <dc:description/>
  <dc:language>en-US</dc:language>
  <cp:lastModifiedBy>HLSS User</cp:lastModifiedBy>
  <dcterms:modified xsi:type="dcterms:W3CDTF">2008-06-16T11:22:18Z</dcterms:modified>
  <cp:revision>22</cp:revision>
  <dc:subject/>
  <dc:title>Slide 1</dc:title>
</cp:coreProperties>
</file>