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2.wmf" ContentType="image/x-wmf"/>
  <Override PartName="/ppt/media/image8.png" ContentType="image/png"/>
  <Override PartName="/ppt/media/notify.wav" ContentType="audio/x-wav"/>
  <Override PartName="/ppt/media/image11.wmf" ContentType="image/x-wmf"/>
  <Override PartName="/ppt/media/image3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4.jpeg" ContentType="image/jpeg"/>
  <Override PartName="/ppt/media/image25.png" ContentType="image/png"/>
  <Override PartName="/ppt/media/image2.wmf" ContentType="image/x-wmf"/>
  <Override PartName="/ppt/media/image27.wmf" ContentType="image/x-wmf"/>
  <Override PartName="/ppt/media/image16.png" ContentType="image/png"/>
  <Override PartName="/ppt/media/image26.wmf" ContentType="image/x-wmf"/>
  <Override PartName="/ppt/media/image15.png" ContentType="image/png"/>
  <Override PartName="/ppt/media/image23.wmf" ContentType="image/x-wmf"/>
  <Override PartName="/ppt/media/image1.png" ContentType="image/png"/>
  <Override PartName="/ppt/media/image24.png" ContentType="image/png"/>
  <Override PartName="/ppt/media/image22.wmf" ContentType="image/x-wmf"/>
  <Override PartName="/ppt/media/image20.png" ContentType="image/png"/>
  <Override PartName="/ppt/media/image21.wmf" ContentType="image/x-wmf"/>
  <Override PartName="/ppt/media/image19.wmf" ContentType="image/x-wmf"/>
  <Override PartName="/ppt/media/image18.wmf" ContentType="image/x-wmf"/>
  <Override PartName="/ppt/media/image14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5FDF-B878-4F26-B2F8-C60BB63BD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8B04-CCD1-41D2-B8C8-56F4AC78B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EB55-490E-4D0E-BA8F-4239BF0D4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18BF-C21F-45A3-9F84-FCEE02CCD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EFA31-63FB-4428-8B09-6E78B90C7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08162-08D7-428B-8CD5-9206917C1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8C9D6-ADD6-408B-A4E5-341B93DC3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DB174-CBC4-468D-B6A6-B410E6C0E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469F5-2D27-4E2B-B44F-3658F0479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D1231-37D9-455D-908E-15DD28AED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90892-2342-4ACD-B4FE-E28B7E23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30FF-BD51-4F9D-B331-EBAED295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C829B-5E21-413E-892D-3452B471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5E5BE-32B2-4E3D-9745-0B16E6C9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3F461-30B8-4E0A-9A11-3EC52E56C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EBAF8-75D6-440B-8DCA-1A14C9658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74F30-C4E1-4689-BC4A-6EF9F8332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F4EC-74DE-4D76-B5BC-978531E8D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A786-76F4-4260-98EE-988227D7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5BDA-B683-498F-AA47-08804A799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D657-679B-4B06-80BA-BAD4A9015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E6F4-A7B4-47C5-ABDC-F67F4920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51FB-BC2A-4DBA-8D80-57900B07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EE7C-AF28-45B6-BBE6-83077BBE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B74CC-6E73-4D0A-B433-21AB9A83FBB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E3172-1BF5-4BEF-BCE9-FA75D0EB14D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notify.wav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notify.wav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19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notify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notify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11280" y="549360"/>
            <a:ext cx="43927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elcome to </a:t>
            </a:r>
            <a:br>
              <a:rPr sz="4400"/>
            </a:b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Mandarin less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268360" y="3357720"/>
            <a:ext cx="4978440" cy="2739960"/>
            <a:chOff x="2268360" y="3357720"/>
            <a:chExt cx="4978440" cy="2739960"/>
          </a:xfrm>
        </p:grpSpPr>
        <p:pic>
          <p:nvPicPr>
            <p:cNvPr id="121" name="" descr=""/>
            <p:cNvPicPr/>
            <p:nvPr/>
          </p:nvPicPr>
          <p:blipFill>
            <a:blip r:embed="rId1"/>
            <a:stretch/>
          </p:blipFill>
          <p:spPr>
            <a:xfrm>
              <a:off x="2268360" y="3357720"/>
              <a:ext cx="4978440" cy="2739960"/>
            </a:xfrm>
            <a:prstGeom prst="rect">
              <a:avLst/>
            </a:prstGeom>
            <a:ln w="9360">
              <a:solidFill>
                <a:srgbClr val="ff9900"/>
              </a:solidFill>
              <a:miter/>
            </a:ln>
          </p:spPr>
        </p:pic>
        <p:sp>
          <p:nvSpPr>
            <p:cNvPr id="122" name=""/>
            <p:cNvSpPr txBox="1"/>
            <p:nvPr/>
          </p:nvSpPr>
          <p:spPr>
            <a:xfrm>
              <a:off x="2268360" y="3357720"/>
              <a:ext cx="4978440" cy="2739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buClr>
                  <a:srgbClr val="ffff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627280" y="1557360"/>
            <a:ext cx="36734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Times New Roman"/>
              <a:ea typeface="宋体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666880" y="2362320"/>
            <a:ext cx="392112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notif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627280" y="692280"/>
            <a:ext cx="3710160" cy="57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Times New Roman"/>
              <a:ea typeface="宋体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743200" y="2057400"/>
            <a:ext cx="3387600" cy="38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notif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500720" y="4149720"/>
            <a:ext cx="3046320" cy="18446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2736720" cy="3726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419640" y="549360"/>
            <a:ext cx="2979720" cy="950760"/>
          </a:xfrm>
          <a:prstGeom prst="wedgeRoundRectCallout">
            <a:avLst>
              <a:gd name="adj1" fmla="val -123712"/>
              <a:gd name="adj2" fmla="val 33703"/>
              <a:gd name="adj3" fmla="val 16667"/>
            </a:avLst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oday we shall study the face – in Mandari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24000" y="4508640"/>
            <a:ext cx="853920" cy="18795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1476360" y="5373720"/>
            <a:ext cx="180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r duo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65240" y="476280"/>
            <a:ext cx="1742760" cy="16765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2268360" y="620640"/>
            <a:ext cx="11145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ou fa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5"/>
          <a:stretch/>
        </p:blipFill>
        <p:spPr>
          <a:xfrm>
            <a:off x="4640400" y="622440"/>
            <a:ext cx="1876320" cy="12762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6"/>
          <a:stretch/>
        </p:blipFill>
        <p:spPr>
          <a:xfrm>
            <a:off x="6804000" y="4035600"/>
            <a:ext cx="2016000" cy="8632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6804000" y="5661000"/>
            <a:ext cx="1944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zui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7"/>
          <a:stretch/>
        </p:blipFill>
        <p:spPr>
          <a:xfrm>
            <a:off x="4211640" y="3141720"/>
            <a:ext cx="1227240" cy="15843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6948360" y="1557360"/>
            <a:ext cx="1571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yan j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356000" y="5013360"/>
            <a:ext cx="15112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i zi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8"/>
          <a:stretch/>
        </p:blipFill>
        <p:spPr>
          <a:xfrm>
            <a:off x="0" y="2276640"/>
            <a:ext cx="1800360" cy="17874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1908000" y="2781360"/>
            <a:ext cx="1944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ia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547640" y="1484280"/>
            <a:ext cx="3219480" cy="42498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>
            <a:off x="5580000" y="2924280"/>
            <a:ext cx="28098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a    xiao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1800000" cy="17892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3995640" y="404640"/>
            <a:ext cx="2016360" cy="20019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1835280" y="2852640"/>
            <a:ext cx="1726920" cy="1714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6948360" y="3860640"/>
            <a:ext cx="1656000" cy="16448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>
            <a:off x="324000" y="4437000"/>
            <a:ext cx="1396800" cy="20876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6"/>
          <a:stretch/>
        </p:blipFill>
        <p:spPr>
          <a:xfrm>
            <a:off x="7020000" y="1197000"/>
            <a:ext cx="1307880" cy="18003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04480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90360" y="11426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Do you know how to say? Let’s play a game!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2376360" cy="208260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ec94"/>
                </a:solidFill>
                <a:latin typeface="Times New Roman"/>
              </a:rPr>
              <a:t>Do you know how to say? </a:t>
            </a:r>
            <a:br>
              <a:rPr sz="4000"/>
            </a:br>
            <a:r>
              <a:rPr b="1" lang="en-GB" sz="4000" spc="-1" strike="noStrike">
                <a:solidFill>
                  <a:srgbClr val="feec94"/>
                </a:solidFill>
                <a:latin typeface="Times New Roman"/>
              </a:rPr>
              <a:t>Let’s play a game!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4392720" cy="41274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092480" y="2276640"/>
            <a:ext cx="505152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Learning Objectiv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ntence patterns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llo/exchange gree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’s your nam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ying who you are and asking who other people 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cribe people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 greeting and parts of the bo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lture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inese nam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hat have you learnt today?</a:t>
            </a:r>
            <a:br>
              <a:rPr sz="4400"/>
            </a:br>
            <a:br>
              <a:rPr sz="40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ll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’s your nam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y name is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scribe people: parts of the body and adjectiv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ulture: Chinese nam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Do you know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 Chinese people greet each other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 you say “hello” in Mandari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 you have special meaning in your nam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645000">
            <a:off x="7451640" y="2923920"/>
            <a:ext cx="1079640" cy="1676160"/>
          </a:xfrm>
          <a:prstGeom prst="cloudCallout">
            <a:avLst>
              <a:gd name="adj1" fmla="val -109379"/>
              <a:gd name="adj2" fmla="val 113694"/>
            </a:avLst>
          </a:prstGeom>
          <a:solidFill>
            <a:srgbClr val="ffffff"/>
          </a:solidFill>
          <a:ln w="9360">
            <a:solidFill>
              <a:srgbClr val="3fdc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cccc00"/>
                </a:solidFill>
                <a:latin typeface="Tahoma"/>
              </a:rPr>
              <a:t>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24000" y="4076640"/>
            <a:ext cx="172872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914040" y="761760"/>
            <a:ext cx="7620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eec94"/>
                </a:solidFill>
                <a:latin typeface="Times New Roman"/>
              </a:rPr>
              <a:t>                   </a:t>
            </a:r>
            <a:r>
              <a:rPr b="0" lang="en-GB" sz="3600" spc="-1" strike="noStrike">
                <a:solidFill>
                  <a:srgbClr val="feec94"/>
                </a:solidFill>
                <a:latin typeface="Times New Roman"/>
              </a:rPr>
              <a:t>Chinese Nam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rname + first na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or example: John Smi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mith Joh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pecial and good mean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irls’ names:   mei, zhen, li, yun, feng, yan, y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oys’ names:   hai, shan, tian, wei, hang, lo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47920" y="1523880"/>
            <a:ext cx="72388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Wǒ   </a:t>
            </a:r>
            <a:r>
              <a:rPr b="0" lang="fr-FR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	</a:t>
            </a:r>
            <a:r>
              <a:rPr b="0" lang="fr-FR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	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我            </a:t>
            </a:r>
            <a:r>
              <a:rPr b="0" lang="fr-FR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Nǐ    </a:t>
            </a:r>
            <a:r>
              <a:rPr b="0" lang="fr-FR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	</a:t>
            </a:r>
            <a:r>
              <a:rPr b="0" lang="fr-FR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	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你            </a:t>
            </a:r>
            <a:r>
              <a:rPr b="0" lang="fr-FR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You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Tā </a:t>
            </a:r>
            <a:r>
              <a:rPr b="0" lang="en-GB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	</a:t>
            </a:r>
            <a:r>
              <a:rPr b="0" lang="en-GB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	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他             </a:t>
            </a:r>
            <a:r>
              <a:rPr b="0" lang="en-GB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He/she/I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Jiào  </a:t>
            </a:r>
            <a:r>
              <a:rPr b="0" lang="fr-FR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	</a:t>
            </a:r>
            <a:r>
              <a:rPr b="0" lang="fr-FR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	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叫            </a:t>
            </a:r>
            <a:r>
              <a:rPr b="0" lang="en-GB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to cal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shēn me </a:t>
            </a:r>
            <a:r>
              <a:rPr b="0" lang="en-GB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	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什么        </a:t>
            </a:r>
            <a:r>
              <a:rPr b="0" lang="en-GB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Wh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Can you say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560" y="1196640"/>
            <a:ext cx="8839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  <a:ea typeface="宋体"/>
              </a:rPr>
              <a:t>nǐ hǎo! Nǐjiào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宋体"/>
              </a:rPr>
              <a:t> shēn m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你好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!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你  叫  什    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?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   (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宋体"/>
              </a:rPr>
              <a:t>What’s your name?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  <a:ea typeface="宋体"/>
              </a:rPr>
              <a:t>wǒ  jiào míngmí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我   叫     明  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. (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宋体"/>
              </a:rPr>
              <a:t>My name is Mingming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宋体"/>
              </a:rPr>
              <a:t>How to ask who other people a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宋体"/>
              </a:rPr>
              <a:t>tā jiào shēn me?</a:t>
            </a:r>
            <a:br>
              <a:rPr sz="32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他叫什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宋体"/>
              </a:rPr>
              <a:t>tā jiào …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他叫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宋体"/>
              </a:rPr>
              <a:t>Ja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38858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eec94"/>
                </a:solidFill>
                <a:latin typeface="Times New Roman"/>
                <a:ea typeface="宋体"/>
              </a:rPr>
              <a:t>tā jiào shēn me </a:t>
            </a:r>
            <a:r>
              <a:rPr b="0" lang="en-GB" sz="4400" spc="-1" strike="noStrike">
                <a:solidFill>
                  <a:srgbClr val="feec94"/>
                </a:solidFill>
                <a:latin typeface="Times New Roman"/>
              </a:rPr>
              <a:t>?</a:t>
            </a:r>
            <a:br>
              <a:rPr sz="4400"/>
            </a:br>
            <a:r>
              <a:rPr b="0" lang="zh-CN" sz="4400" spc="-1" strike="noStrike">
                <a:solidFill>
                  <a:srgbClr val="feec94"/>
                </a:solidFill>
                <a:latin typeface="Times New Roman"/>
                <a:ea typeface="宋体"/>
              </a:rPr>
              <a:t>他叫什么</a:t>
            </a:r>
            <a:r>
              <a:rPr b="0" lang="zh-CN" sz="4400" spc="-1" strike="noStrike">
                <a:solidFill>
                  <a:srgbClr val="feec94"/>
                </a:solidFill>
                <a:latin typeface="Times New Roman"/>
                <a:ea typeface="宋体"/>
              </a:rPr>
              <a:t>?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762120" y="533520"/>
            <a:ext cx="4419360" cy="2946240"/>
            <a:chOff x="762120" y="533520"/>
            <a:chExt cx="4419360" cy="2946240"/>
          </a:xfrm>
        </p:grpSpPr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762120" y="533520"/>
              <a:ext cx="4419360" cy="29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 txBox="1"/>
            <p:nvPr/>
          </p:nvSpPr>
          <p:spPr>
            <a:xfrm>
              <a:off x="762120" y="533520"/>
              <a:ext cx="4419360" cy="2946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buClr>
                  <a:srgbClr val="ffff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019920" y="3886200"/>
            <a:ext cx="2879640" cy="25272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311120" y="4952880"/>
            <a:ext cx="2264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eec94"/>
                </a:solidFill>
                <a:latin typeface="Times New Roman"/>
                <a:ea typeface="宋体"/>
              </a:rPr>
              <a:t>tā jiào </a:t>
            </a:r>
            <a:r>
              <a:rPr b="0" lang="en-GB" sz="4400" spc="-1" strike="noStrike">
                <a:solidFill>
                  <a:srgbClr val="feec94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eec94"/>
                </a:solidFill>
                <a:latin typeface="Times New Roman"/>
                <a:ea typeface="宋体"/>
              </a:rPr>
              <a:t>他叫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81280" y="159984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eec94"/>
                </a:solidFill>
                <a:latin typeface="Times New Roman"/>
                <a:ea typeface="宋体"/>
              </a:rPr>
              <a:t>tā jiào shēn mē </a:t>
            </a:r>
            <a:r>
              <a:rPr b="0" lang="en-GB" sz="4800" spc="-1" strike="noStrike">
                <a:solidFill>
                  <a:srgbClr val="feec94"/>
                </a:solidFill>
                <a:latin typeface="Times New Roman"/>
              </a:rPr>
              <a:t>?</a:t>
            </a:r>
            <a:br>
              <a:rPr sz="4800"/>
            </a:br>
            <a:br>
              <a:rPr sz="4800"/>
            </a:b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11280" y="1413000"/>
            <a:ext cx="3340080" cy="3581280"/>
            <a:chOff x="611280" y="1413000"/>
            <a:chExt cx="3340080" cy="3581280"/>
          </a:xfrm>
        </p:grpSpPr>
        <p:pic>
          <p:nvPicPr>
            <p:cNvPr id="143" name="" descr=""/>
            <p:cNvPicPr/>
            <p:nvPr/>
          </p:nvPicPr>
          <p:blipFill>
            <a:blip r:embed="rId1"/>
            <a:stretch/>
          </p:blipFill>
          <p:spPr>
            <a:xfrm>
              <a:off x="611280" y="1413000"/>
              <a:ext cx="3340080" cy="35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 txBox="1"/>
            <p:nvPr/>
          </p:nvSpPr>
          <p:spPr>
            <a:xfrm>
              <a:off x="611280" y="1413000"/>
              <a:ext cx="3340080" cy="358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ffff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4054320" y="3068640"/>
            <a:ext cx="411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eec94"/>
                </a:solidFill>
                <a:latin typeface="Times New Roman"/>
                <a:ea typeface="宋体"/>
              </a:rPr>
              <a:t>  </a:t>
            </a:r>
            <a:r>
              <a:rPr b="0" lang="en-GB" sz="4000" spc="-1" strike="noStrike">
                <a:solidFill>
                  <a:srgbClr val="feec94"/>
                </a:solidFill>
                <a:latin typeface="Times New Roman"/>
                <a:ea typeface="宋体"/>
              </a:rPr>
              <a:t>tā jiào </a:t>
            </a:r>
            <a:r>
              <a:rPr b="0" lang="en-GB" sz="4000" spc="-1" strike="noStrike">
                <a:solidFill>
                  <a:srgbClr val="feec94"/>
                </a:solidFill>
                <a:latin typeface="Times New Roman"/>
              </a:rPr>
              <a:t>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notif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eec94"/>
              </a:solidFill>
              <a:latin typeface="Times New Roman"/>
              <a:ea typeface="宋体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2971800" y="2209680"/>
            <a:ext cx="2743200" cy="3429000"/>
            <a:chOff x="2971800" y="2209680"/>
            <a:chExt cx="2743200" cy="3429000"/>
          </a:xfrm>
        </p:grpSpPr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2971800" y="2209680"/>
              <a:ext cx="2743200" cy="342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 txBox="1"/>
            <p:nvPr/>
          </p:nvSpPr>
          <p:spPr>
            <a:xfrm>
              <a:off x="2971800" y="2209680"/>
              <a:ext cx="2743200" cy="3429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ffff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notif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2T13:22:09Z</dcterms:created>
  <dc:creator>A User</dc:creator>
  <dc:description/>
  <dc:language>en-US</dc:language>
  <cp:lastModifiedBy>shanying</cp:lastModifiedBy>
  <dcterms:modified xsi:type="dcterms:W3CDTF">2008-06-18T20:34:52Z</dcterms:modified>
  <cp:revision>88</cp:revision>
  <dc:subject/>
  <dc:title>Lesson One</dc:title>
</cp:coreProperties>
</file>