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9B2-D776-41DA-B186-F607E411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2B9-60AE-4EEA-9198-FEC0A095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29C-6340-4BD1-8E39-E86AE21D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786-3B92-4B25-B2AA-305474E9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5786-485E-4F03-8820-7BAA59F3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4D5E-9659-4D5B-BD99-5888BC26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53B8-219B-4AB1-8A66-CAEFCB7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FE24-57B1-43D9-B4EF-444746F9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2E87-CEA1-42D1-8EED-0D1D64B8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991E-BB4C-418C-8327-0E31944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531D-A5EB-4F9F-A628-308A332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E75-8F2A-4F06-96DA-936DB1C4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1C69-5358-4A24-9EA5-F6E7C87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DF1-8B4B-4DA4-8A0F-3F36C78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6EC9-6866-46DE-B6F1-8E0943A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F392-E8DB-4359-88D3-ECE60DA5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691A-25FD-45EA-BD7F-E31E8E31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9AE-9F59-44AD-98AD-5816EDCA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EF7-D4C9-423A-80BE-7708CDF7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5B0-894B-41C5-B802-C193A26B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390-F345-43FA-8CAE-FBA1F096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4E1-0253-49B1-A594-014058A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EA1-9688-4DD7-AC38-B1962E9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452-4FBC-4CAE-91DC-DFFA53A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9AF7-BE24-4243-AFC4-0139A5CE1D5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E39B-5480-4D4E-8C9F-CC20C78DE04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ilalplaza.com/images/noble_Quran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truereligiondebate.files.wordpress.com/2008/03/bible3.gif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.uk/imgres?imgurl=http://www.religionfacts.com/sikhism/images/guru-granth-sahib-med.jpg&amp;imgrefurl=http://www.religionfacts.com/sikhism/things.htm&amp;h=152&amp;w=190&amp;sz=12&amp;hl=en&amp;start=3&amp;um=1&amp;tbnid=eZWTo2w0j3QIdM:&amp;tbnh=82&amp;tbnw=103&amp;prev=/images%3Fq%3Dsikhism%2Bbook%26um%3D1%26hl%3Den%26sa%3DX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1560240" cy="1684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411280" y="2708280"/>
            <a:ext cx="32353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9) Which of the following words is an Arabic word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26920" y="292392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mta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l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dinai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images" descr=""/>
          <p:cNvPicPr/>
          <p:nvPr/>
        </p:nvPicPr>
        <p:blipFill>
          <a:blip r:embed="rId1"/>
          <a:stretch/>
        </p:blipFill>
        <p:spPr>
          <a:xfrm>
            <a:off x="5291280" y="3141720"/>
            <a:ext cx="2030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10) Naseem Hamid is an Arab-British person; his sport is…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11) Which of the following is a traditional costume in Arab countries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2565360"/>
            <a:ext cx="7848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c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images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1197000" cy="1913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s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2143440" cy="1700280"/>
          </a:xfrm>
          <a:prstGeom prst="rect">
            <a:avLst/>
          </a:prstGeom>
          <a:ln w="0">
            <a:noFill/>
          </a:ln>
        </p:spPr>
      </p:pic>
      <p:pic>
        <p:nvPicPr>
          <p:cNvPr id="222" name="images" descr=""/>
          <p:cNvPicPr/>
          <p:nvPr/>
        </p:nvPicPr>
        <p:blipFill>
          <a:blip r:embed="rId3"/>
          <a:stretch/>
        </p:blipFill>
        <p:spPr>
          <a:xfrm>
            <a:off x="5435640" y="3141720"/>
            <a:ext cx="1604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12) Which type of dancing is associated with Arab countries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26920" y="313344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let danc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menco danc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y danc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images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157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13) What does the Arab word </a:t>
            </a:r>
            <a:r>
              <a:rPr b="0" lang="en-GB" sz="3600" spc="-1" strike="noStrike">
                <a:solidFill>
                  <a:srgbClr val="969696"/>
                </a:solidFill>
                <a:latin typeface="Arial"/>
                <a:ea typeface="宋体"/>
              </a:rPr>
              <a:t>Salam </a:t>
            </a: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mean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920" y="292392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508720" y="4365720"/>
            <a:ext cx="2044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2568600" cy="2490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244680" cy="24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14) Which one of these camels you are likely to find in an Arab country?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133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)                                                                                               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15) Which one of these stories is an Arabic story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2743200"/>
            <a:ext cx="71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housand and one nigh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and Pea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om the bell r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3456000" cy="3373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95280" y="229680"/>
            <a:ext cx="7107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16) “Sinbad the Sailor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“ is a story cycle of ancient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dle Ea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65680" y="451440"/>
            <a:ext cx="7383240" cy="8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17)Complete the following proverb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Selling sands to the ……………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18) Which of the following phrases is an Arabic phras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27601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خـوش آمـديد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Koush Amade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788560"/>
            <a:ext cx="160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سلام عليك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alamu Alaiku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483228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سالُو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Salu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2442240"/>
            <a:ext cx="70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)                                               b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48000" y="44960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c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1) Which language do Arabs speak?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690552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d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6720" y="460080"/>
            <a:ext cx="73656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19) Which one of the following holly books was originally written in Arabic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) The Qur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) The Bib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) The Guru Granth Sahib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2421000"/>
            <a:ext cx="698400" cy="1073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3860640"/>
            <a:ext cx="723600" cy="819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4941720"/>
            <a:ext cx="9813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20) Which of the following drinks is served after Arabian meals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0560" y="227664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 Cok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t coff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 with mi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  <a:ea typeface="宋体"/>
              </a:rPr>
              <a:t>Answ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7201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11)    B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)    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                       13)     B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                      14)     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                      15)     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                       16)     B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 &amp;Asia       17)   Arab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                      18)     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                      19)     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20)     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2) Write the names of two Arab countries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3) A greeting which means </a:t>
            </a:r>
            <a:r>
              <a:rPr b="0" i="1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hello</a:t>
            </a: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 in Arabic is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2636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hl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njou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  <a:ea typeface="宋体"/>
              </a:rPr>
              <a:t>4) The Pyramids are in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r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images" descr=""/>
          <p:cNvPicPr/>
          <p:nvPr/>
        </p:nvPicPr>
        <p:blipFill>
          <a:blip r:embed="rId1"/>
          <a:stretch/>
        </p:blipFill>
        <p:spPr>
          <a:xfrm>
            <a:off x="3780000" y="3147840"/>
            <a:ext cx="30225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  <a:ea typeface="宋体"/>
              </a:rPr>
              <a:t>5) The English word for </a:t>
            </a:r>
            <a:r>
              <a:rPr b="0" i="1" lang="en-GB" sz="4000" spc="-1" strike="noStrike">
                <a:solidFill>
                  <a:srgbClr val="969696"/>
                </a:solidFill>
                <a:latin typeface="Arial"/>
                <a:ea typeface="宋体"/>
              </a:rPr>
              <a:t>ana</a:t>
            </a:r>
            <a:r>
              <a:rPr b="0" lang="en-GB" sz="4000" spc="-1" strike="noStrike">
                <a:solidFill>
                  <a:srgbClr val="f7d47d"/>
                </a:solidFill>
                <a:latin typeface="Arial"/>
                <a:ea typeface="宋体"/>
              </a:rPr>
              <a:t> is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4000" y="2707920"/>
            <a:ext cx="698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6) Which of the following dishes is an Arabian dish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2636640"/>
            <a:ext cx="7262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af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and Chip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5079960" y="3946680"/>
            <a:ext cx="22258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7) Name two of the continents in which the Arab countries are found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images" descr=""/>
          <p:cNvPicPr/>
          <p:nvPr/>
        </p:nvPicPr>
        <p:blipFill>
          <a:blip r:embed="rId1"/>
          <a:stretch/>
        </p:blipFill>
        <p:spPr>
          <a:xfrm>
            <a:off x="5006880" y="378468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71640" y="31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74680" y="282600"/>
            <a:ext cx="73652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  <a:ea typeface="宋体"/>
              </a:rPr>
              <a:t>8) Which of the following words is Arabic in origin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4920" y="2707920"/>
            <a:ext cx="7056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7:23:08Z</dcterms:created>
  <dc:creator>HLSS User</dc:creator>
  <dc:description/>
  <dc:language>en-US</dc:language>
  <cp:lastModifiedBy>HLSS User</cp:lastModifiedBy>
  <dcterms:modified xsi:type="dcterms:W3CDTF">2008-06-09T08:17:02Z</dcterms:modified>
  <cp:revision>14</cp:revision>
  <dc:subject/>
  <dc:title>Slide 1</dc:title>
</cp:coreProperties>
</file>