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camera.wav" ContentType="audio/x-wav"/>
  <Override PartName="/ppt/media/image21.jpeg" ContentType="image/jpeg"/>
  <Override PartName="/ppt/media/image6.png" ContentType="image/png"/>
  <Override PartName="/ppt/media/type.wav" ContentType="audio/x-wav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1C45-8C4D-45E3-A689-81D615EE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C9DA-27F3-439C-B98C-89D20929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4DF2-41D8-4FB4-92EF-D3BD5A62B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1043-097A-4FB7-838E-B2EF8478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B6BA-B63C-43C4-9AF5-0979DE6F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153C-9667-4EF7-AD86-BEB1FEEC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C306-474E-4344-973F-B004E0EE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66DC-DDED-449D-B9F0-ED0EE5E5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020B-8C64-49D4-B196-2393A119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AA4F-6CF9-4232-A410-F058BC42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D448-95F7-45B1-BB9D-FC56E421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8220-1B59-4DC4-96C1-92E42241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254C-6F11-4ACA-A43E-9F6BD100338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graphics8.nytimes.com/images/2007/08/01/health/adam/19816.jpg&amp;imgrefurl=http://www.nytimes.com/imagepages/2007/08/01/health/adam/19816Fruitsandvegetables.html&amp;h=320&amp;w=400&amp;sz=49&amp;hl=en&amp;start=10&amp;tbnid=7bOA_w43trDUyM:&amp;tbnh=99&amp;tbnw=124&amp;prev=/images%3Fq%3Dfruits%2Band%2Bvegetables%26gbv%3D2%26hl%3Den%26sa%3DX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.uk/imgres?imgurl=http://i.ehow.com/images/GlobalPhoto/Articles/12775/fruitandvegetables-main_Full.jpg&amp;imgrefurl=http://www.ehow.com/how_12775_eat-fruits-vegetables.html&amp;h=282&amp;w=424&amp;sz=38&amp;hl=en&amp;start=20&amp;tbnid=_w7fKkgXT2cmVM:&amp;tbnh=84&amp;tbnw=126&amp;prev=/images%3Fq%3Dfruits%2Band%2Bvegetables%26gbv%3D2%26hl%3Den%26sa%3DX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.uk/imgres?imgurl=http://www.instablogsimages.com/images/2008/03/17/fruit-powered-clock_8155.jpg&amp;imgrefurl=http://www.ilovemybaby.org/page/10/&amp;h=550&amp;w=550&amp;sz=33&amp;hl=en&amp;start=70&amp;tbnid=KBdQwe6euj8tdM:&amp;tbnh=133&amp;tbnw=133&amp;prev=/images%3Fq%3Ddon%2527t%2Blike%2Bfruits%26start%3D60%26gbv%3D2%26ndsp%3D20%26hl%3Den%26sa%3DN" TargetMode="External"/><Relationship Id="rId6" Type="http://schemas.openxmlformats.org/officeDocument/2006/relationships/image" Target="../media/image3.jpeg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7.jpeg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4.jpeg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9.jpeg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4.jpeg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8.jpeg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2.jpeg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hyperlink" Target="http://images.google.co.uk/imgres?imgurl=http://chiaroscuro.baltiblogs.com/archives/larriland_apples.jpg&amp;imgrefurl=http://chiaroscuro.baltiblogs.com/archives/cat_still_life.html&amp;h=433&amp;w=650&amp;sz=296&amp;hl=en&amp;start=15&amp;tbnid=43Q06M5bUb1JeM:&amp;tbnh=91&amp;tbnw=137&amp;prev=/images%3Fq%3Dapples%26gbv%3D2%26svnum%3D10%26hl%3Den%26sa%3DG" TargetMode="External"/><Relationship Id="rId6" Type="http://schemas.openxmlformats.org/officeDocument/2006/relationships/image" Target="../media/image34.jpeg"/><Relationship Id="rId7" Type="http://schemas.openxmlformats.org/officeDocument/2006/relationships/image" Target="../media/image18.jpe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nstablogsimages.com/images/2008/03/17/fruit-powered-clock_8155.jpg&amp;imgrefurl=http://www.ilovemybaby.org/page/10/&amp;h=550&amp;w=550&amp;sz=33&amp;hl=en&amp;start=70&amp;tbnid=KBdQwe6euj8tdM:&amp;tbnh=133&amp;tbnw=133&amp;prev=/images%3Fq%3Ddon%2527t%2Blike%2Bfruits%26start%3D60%26gbv%3D2%26ndsp%3D20%26hl%3Den%26sa%3DN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6.jpeg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99"/>
                </a:solidFill>
                <a:latin typeface="Arial"/>
              </a:rPr>
              <a:t>ARABIC LANGUAGE T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8360" y="1483920"/>
            <a:ext cx="5524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this lesson you will lear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to greet someone and introduce yourself in Arab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me types of fruits and   vege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ress liking and disliking of fruits and vege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3500280"/>
            <a:ext cx="1451160" cy="1159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5013360"/>
            <a:ext cx="1414440" cy="942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1280" y="1773360"/>
            <a:ext cx="12668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2252880" cy="2270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3483000" cy="2473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485360" y="4220280"/>
            <a:ext cx="13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1978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فاح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62880" y="508392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ufah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99760" y="4291560"/>
            <a:ext cx="107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1978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فا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78240" y="508392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uf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31800" y="256680"/>
            <a:ext cx="2093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فرد / جم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ngular / pl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4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4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4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4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4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4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4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084720" y="1484280"/>
            <a:ext cx="1762200" cy="1676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258920" y="1484280"/>
            <a:ext cx="988920" cy="1488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232280" y="3789360"/>
            <a:ext cx="140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إجاص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93520" y="371628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إجا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61440" y="458136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jaa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90520" y="4653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j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31800" y="256680"/>
            <a:ext cx="2093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فرد / جم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ngular / pl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4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4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4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651640" y="1052640"/>
            <a:ext cx="2482560" cy="2482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476720" y="4114080"/>
            <a:ext cx="164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برتقال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407592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برتق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35960" y="4941000"/>
            <a:ext cx="20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urtuqal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78960" y="4796640"/>
            <a:ext cx="16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urtuq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4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4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4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4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96160" y="62640"/>
            <a:ext cx="236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خضراو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ege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1700280"/>
            <a:ext cx="3809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4087800" cy="3060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443640" y="836640"/>
            <a:ext cx="1628640" cy="3314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80320" y="4545720"/>
            <a:ext cx="13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جزر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94800" y="4617000"/>
            <a:ext cx="121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بصل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67360" y="525528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al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45840" y="525528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azar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836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ستمع إلى الكلمات و ردد معي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Listen and repeat th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4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4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4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4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4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4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2706840" cy="2738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65880" y="414900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ليمون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3548160" cy="2371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240960" y="4042440"/>
            <a:ext cx="145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زيتون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33840" y="467892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4282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zaitun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47160" y="48232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imun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6836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ستمع إلى الكلمات و ردد معي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Listen and repeat th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4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4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4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56920" y="252720"/>
            <a:ext cx="207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ا هذه؟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084720" y="2421000"/>
            <a:ext cx="2009880" cy="1828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106680" y="4580640"/>
            <a:ext cx="22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هذه بصلة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5840" y="4545720"/>
            <a:ext cx="240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هذه جزرة 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01080" y="522936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hadihi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basal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080" y="5229360"/>
            <a:ext cx="22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Hadihi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azar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4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4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4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4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4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4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4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4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4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4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4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4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4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2087640" cy="21193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026000" y="4075920"/>
            <a:ext cx="25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هذه ليمونة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508720" y="2060640"/>
            <a:ext cx="2361960" cy="1581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096960" y="4042440"/>
            <a:ext cx="23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هذه زيتون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56920" y="252720"/>
            <a:ext cx="207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ا هذه؟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4797360"/>
            <a:ext cx="25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Hadihi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imun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24720" y="479736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Hadihi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zaitun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4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4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4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4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4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4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4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4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4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4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331800" y="256680"/>
            <a:ext cx="2093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فرد / جم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ngular / pl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800520" cy="2838240"/>
          </a:xfrm>
          <a:prstGeom prst="rect">
            <a:avLst/>
          </a:prstGeom>
          <a:ln w="0">
            <a:noFill/>
          </a:ln>
        </p:spPr>
      </p:pic>
      <p:pic>
        <p:nvPicPr>
          <p:cNvPr id="145" name="Onions_Yams_Peppers_Beans_And_Cassavas" descr=""/>
          <p:cNvPicPr/>
          <p:nvPr/>
        </p:nvPicPr>
        <p:blipFill>
          <a:blip r:embed="rId2"/>
          <a:stretch/>
        </p:blipFill>
        <p:spPr>
          <a:xfrm>
            <a:off x="5076720" y="1628640"/>
            <a:ext cx="2314800" cy="2314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914120" y="4335480"/>
            <a:ext cx="114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بص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05160" y="4437000"/>
            <a:ext cx="109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بص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81920" y="508356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aal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14160" y="508356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4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4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4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4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4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4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4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4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4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4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4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4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4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219640" y="1989000"/>
            <a:ext cx="2903760" cy="1935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332000" y="1341360"/>
            <a:ext cx="1628640" cy="33148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331800" y="256680"/>
            <a:ext cx="2093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فرد / جم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ngular / pl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35240" y="4867920"/>
            <a:ext cx="13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جزر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61080" y="558864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azar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18520" y="55155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a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37800" y="4723560"/>
            <a:ext cx="9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جز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4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4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4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4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4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4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4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4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4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4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399600"/>
            <a:ext cx="59151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99"/>
                </a:solidFill>
                <a:latin typeface="Arial"/>
              </a:rPr>
              <a:t>INTRODUCTION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94920" y="1267920"/>
            <a:ext cx="74674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Times New Roman"/>
              </a:rPr>
              <a:t>أهلاً أنا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ello , I'm ……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://tbn0.google.com/images?q=tbn:GJ6G8QNxaVz1QM:http://goodhealth.freeservers.com/hand_shaking.gif"/>
          <p:cNvPicPr/>
          <p:nvPr/>
        </p:nvPicPr>
        <p:blipFill>
          <a:blip r:embed="rId1"/>
          <a:stretch/>
        </p:blipFill>
        <p:spPr>
          <a:xfrm>
            <a:off x="6659640" y="333360"/>
            <a:ext cx="2093760" cy="1079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788000" y="2464920"/>
            <a:ext cx="4228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ستمع إلى الكلمات و ردد معي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Listen and repeat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46840" y="4149000"/>
            <a:ext cx="39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هلاً      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hlan</a:t>
            </a:r>
            <a:r>
              <a:rPr b="1" i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He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440" y="5299920"/>
            <a:ext cx="377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نَا          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na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4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4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717640" y="325800"/>
            <a:ext cx="332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حب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....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لا أحب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 lik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..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 don't lik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257880" y="172764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ay after m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8080" y="2521440"/>
            <a:ext cx="2858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hibu al- mou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 like (the) bana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17240" y="2561400"/>
            <a:ext cx="22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حب الموز 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7760" y="4097880"/>
            <a:ext cx="3594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a  uhibu al- mou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 don't like (the) bana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49320" y="4290120"/>
            <a:ext cx="26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لا أحب الموز 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5875920"/>
            <a:ext cx="34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tice (al) means (th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835000" y="370800"/>
            <a:ext cx="3093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حب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....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لا أحب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68360" y="1268280"/>
          <a:ext cx="8229600" cy="4843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85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Uhib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't like 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hib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like….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6" name="sad-face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167" name="HappyFace" descr=""/>
          <p:cNvPicPr/>
          <p:nvPr/>
        </p:nvPicPr>
        <p:blipFill>
          <a:blip r:embed="rId2"/>
          <a:stretch/>
        </p:blipFill>
        <p:spPr>
          <a:xfrm>
            <a:off x="6948360" y="1341360"/>
            <a:ext cx="695520" cy="6955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3924360" y="1700280"/>
            <a:ext cx="1181160" cy="9428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4140360" y="3357720"/>
            <a:ext cx="1180800" cy="942840"/>
          </a:xfrm>
          <a:prstGeom prst="rect">
            <a:avLst/>
          </a:prstGeom>
          <a:ln w="0">
            <a:noFill/>
          </a:ln>
        </p:spPr>
      </p:pic>
      <p:pic>
        <p:nvPicPr>
          <p:cNvPr id="170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51280" y="4869000"/>
            <a:ext cx="1305000" cy="8665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3851280" y="1484280"/>
            <a:ext cx="142092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136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99"/>
                </a:solidFill>
                <a:latin typeface="Arial"/>
              </a:rPr>
              <a:t>ARABIC LANGUAGE T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844640"/>
            <a:ext cx="1266840" cy="12668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179280" y="3357720"/>
            <a:ext cx="1451160" cy="11588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250920" y="5084640"/>
            <a:ext cx="1414440" cy="9432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484360" y="1700280"/>
            <a:ext cx="44276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 have you learnt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50920" y="2637000"/>
            <a:ext cx="66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me types of fruits and  vege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to greet someone and introduce yourself in Arab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ressing liking and disliking of fruits and vege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6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5"/>
          <p:cNvSpPr/>
          <p:nvPr/>
        </p:nvSpPr>
        <p:spPr>
          <a:xfrm>
            <a:off x="1214280" y="4500720"/>
            <a:ext cx="242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هو بارت</a:t>
            </a:r>
            <a:r>
              <a:rPr b="1" lang="ar-SA" sz="3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entury Schoolbook"/>
              </a:rPr>
              <a:t>huwa (he) B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4786200" y="4494240"/>
            <a:ext cx="242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هي ليس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entury Schoolbook"/>
              </a:rPr>
              <a:t>hiyah(she) L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644640" cy="3645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34099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4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4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709440" y="252720"/>
            <a:ext cx="166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فاكه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Fr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843280" y="1844640"/>
            <a:ext cx="31622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2523960" cy="1904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0320" y="4114080"/>
            <a:ext cx="116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وز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724360" y="1413000"/>
            <a:ext cx="2467080" cy="2485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224040" y="4185360"/>
            <a:ext cx="13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1978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فاح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11280" y="404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ستمع إلى الكلمات و ردد معي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Listen and repeat th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6880" y="4936320"/>
            <a:ext cx="15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ouz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74640" y="493812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ufah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3544920" cy="3403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615680" y="5083920"/>
            <a:ext cx="14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رتقا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84720" y="1268280"/>
            <a:ext cx="2133720" cy="2990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11680" y="5083920"/>
            <a:ext cx="13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إجاص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ستمع إلى الكلمات و ردد معي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Listen and repeat th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52720" y="5728680"/>
            <a:ext cx="14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jaas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16880" y="5873040"/>
            <a:ext cx="20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urtuqal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56920" y="252720"/>
            <a:ext cx="207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ا هذه؟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2400120" cy="1819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940360" y="2060640"/>
            <a:ext cx="2438640" cy="1828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73440" y="4475880"/>
            <a:ext cx="225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هذه موزه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03640" y="525528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hadihi mou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05480" y="4264200"/>
            <a:ext cx="256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هذه برتقالة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84000" y="5156640"/>
            <a:ext cx="28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hadihi burtuqal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4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4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4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4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4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4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4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4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4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56920" y="252720"/>
            <a:ext cx="207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ا هذه؟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1228680" cy="1847520"/>
          </a:xfrm>
          <a:prstGeom prst="rect">
            <a:avLst/>
          </a:prstGeom>
          <a:ln w="0">
            <a:noFill/>
          </a:ln>
        </p:spPr>
      </p:pic>
      <p:pic>
        <p:nvPicPr>
          <p:cNvPr id="81" name="images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1638000" cy="1809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138320" y="4723560"/>
            <a:ext cx="22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هذه إجاصة .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87000" y="4723560"/>
            <a:ext cx="21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1978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هذه تفاح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48200" y="550440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hadih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ufah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04360" y="5516640"/>
            <a:ext cx="228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hadih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jaa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4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4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4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4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4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4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4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331800" y="256680"/>
            <a:ext cx="2093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فرد / جم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ngular / pl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2524320" cy="190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64000" y="2060640"/>
            <a:ext cx="3171960" cy="2457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59640" y="5733000"/>
            <a:ext cx="162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mouz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28720" y="5515560"/>
            <a:ext cx="11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mou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63040" y="4690080"/>
            <a:ext cx="116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وز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12680" y="4796640"/>
            <a:ext cx="9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و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4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4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4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4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4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4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4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9:08:14Z</dcterms:created>
  <dc:creator>Peter</dc:creator>
  <dc:description/>
  <dc:language>en-US</dc:language>
  <cp:lastModifiedBy>Mabrouk</cp:lastModifiedBy>
  <dcterms:modified xsi:type="dcterms:W3CDTF">2008-06-26T19:24:25Z</dcterms:modified>
  <cp:revision>39</cp:revision>
  <dc:subject/>
  <dc:title>Arabic Language Taster</dc:title>
</cp:coreProperties>
</file>