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2.jpeg" ContentType="image/jpeg"/>
  <Override PartName="/ppt/media/type.wav" ContentType="audio/x-wav"/>
  <Override PartName="/ppt/media/image21.wmf" ContentType="image/x-wmf"/>
  <Override PartName="/ppt/media/image6.jpeg" ContentType="image/jpeg"/>
  <Override PartName="/ppt/media/camera.wav" ContentType="audio/x-wav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23.wmf" ContentType="image/x-wmf"/>
  <Override PartName="/ppt/media/image28.jpeg" ContentType="image/jpeg"/>
  <Override PartName="/ppt/media/image12.jpeg" ContentType="image/jpeg"/>
  <Override PartName="/ppt/media/applause.wav" ContentType="audio/x-wav"/>
  <Override PartName="/ppt/media/image29.wmf" ContentType="image/x-wmf"/>
  <Override PartName="/ppt/media/image30.gif" ContentType="image/gif"/>
  <Override PartName="/ppt/media/image13.jpeg" ContentType="image/jpeg"/>
  <Override PartName="/ppt/media/image3.wmf" ContentType="image/x-wmf"/>
  <Override PartName="/ppt/media/image32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media/image7.jpeg" ContentType="image/jpeg"/>
  <Override PartName="/ppt/media/image1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4.jpeg" ContentType="image/jpeg"/>
  <Override PartName="/ppt/media/image19.gif" ContentType="image/gif"/>
  <Override PartName="/ppt/media/image11.jpeg" ContentType="image/jpeg"/>
  <Override PartName="/ppt/media/image24.png" ContentType="image/png"/>
  <Override PartName="/ppt/media/image3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1C1-5A74-4BC9-9560-AC2BBF21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7EE-9DEB-4C95-A8A7-9A39F01C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333-2959-42F4-B60F-12219CB1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D87-5419-4A3E-878F-92A14242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FF2-8A27-49BF-87E6-29BFB7B8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1CA-331B-47F4-BABC-11A31AB0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FAA-5AD1-4ACB-93DD-BB7D5C84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50D-F937-469B-81C8-400C6861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3A7-9141-43EA-B8DD-6D97689E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8748-8070-405B-B730-057686DA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C39-E847-4946-8292-89B212EA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420-BED5-4812-80DB-C4409907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3C6C-CAE0-4B76-9F24-6DE8ED3C2C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audio" Target="../media/applaus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images.google.co.uk/imgres?imgurl=http://www.zapad.cz/fotos/zdravi/cholesterol/fat_man_large.jpg&amp;imgrefurl=http://thedailyreview.wordpress.com/category/diet/&amp;h=686&amp;w=449&amp;sz=90&amp;hl=en&amp;start=10&amp;tbnid=dSv2ZbPiij-7kM:&amp;tbnh=139&amp;tbnw=91&amp;prev=/images%3Fq%3Dfat%2Bman%26gbv%3D2%26hl%3Den%26sa%3D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20.wmf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image" Target="../media/image21.wmf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.jpeg"/><Relationship Id="rId3" Type="http://schemas.openxmlformats.org/officeDocument/2006/relationships/image" Target="../media/image23.wmf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3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99"/>
                </a:solidFill>
                <a:latin typeface="Arial"/>
              </a:rPr>
              <a:t>ARABIC LANGUAGE T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27080" y="2204640"/>
            <a:ext cx="55245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his lesson you will lear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.. how to greet someone and introduce yourself in Ara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.. how to describe someone’s physical appearance in Ara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5157720"/>
            <a:ext cx="1150920" cy="115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1150920" cy="1152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119844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05080" y="287280"/>
            <a:ext cx="4390920" cy="4321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4508640"/>
            <a:ext cx="295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و سعي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uwa sa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450864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و سم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uwa sam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885080" y="560880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3071520" cy="460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6920" y="5013360"/>
            <a:ext cx="26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و سعي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uwa sa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501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و نحي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huwa 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nahe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67640" y="5373720"/>
            <a:ext cx="1293840" cy="1293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32000" y="260280"/>
            <a:ext cx="2760840" cy="4502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435640" y="4797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ي نحي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iyah  naheef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797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سعيد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hiyah  saeeda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859880" y="5565600"/>
            <a:ext cx="1176120" cy="1176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270000"/>
            <a:ext cx="8103960" cy="85536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UILD A STRANGE CELEBRITY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360"/>
            <a:ext cx="8075520" cy="5183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t into teams of 4 pup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 will be given a bag of body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oose a head, body, legs to make a strange celebrity – the stranger the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ick the celebrity onto your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 your group, work out how to describe your celebrity using Huwa... (He is...) or Hiyah... (she is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 have 5 minu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Users\Peter\Pictures\Microsoft Clip Organizer\AG00303_.gif"/>
          <p:cNvPicPr/>
          <p:nvPr/>
        </p:nvPicPr>
        <p:blipFill>
          <a:blip r:embed="rId1"/>
          <a:stretch/>
        </p:blipFill>
        <p:spPr>
          <a:xfrm>
            <a:off x="7010280" y="1486080"/>
            <a:ext cx="1090800" cy="151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Peter\Pictures\Microsoft Clip Organizer\j0236199.gif"/>
          <p:cNvPicPr/>
          <p:nvPr/>
        </p:nvPicPr>
        <p:blipFill>
          <a:blip r:embed="rId2"/>
          <a:stretch/>
        </p:blipFill>
        <p:spPr>
          <a:xfrm>
            <a:off x="4753080" y="5518080"/>
            <a:ext cx="1187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885960" y="1197000"/>
          <a:ext cx="7070760" cy="4464000"/>
        </p:xfrm>
        <a:graphic>
          <a:graphicData uri="http://schemas.openxmlformats.org/drawingml/2006/table">
            <a:tbl>
              <a:tblPr/>
              <a:tblGrid>
                <a:gridCol w="2356920"/>
                <a:gridCol w="2356560"/>
                <a:gridCol w="2357280"/>
              </a:tblGrid>
              <a:tr h="916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Masculi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uwa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emini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Hiyah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wee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weeala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ase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hor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aseera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e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eena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hee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li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heefa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e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pp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eeda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ze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zeena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172360" y="5877000"/>
            <a:ext cx="863640" cy="865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8000" y="5877000"/>
            <a:ext cx="863640" cy="865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84456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8170920" y="115920"/>
            <a:ext cx="865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3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99"/>
                </a:solidFill>
                <a:latin typeface="Arial"/>
              </a:rPr>
              <a:t>ARABIC LANGUAGE T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927080" y="2204640"/>
            <a:ext cx="55245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have you learnt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to greet someone and introduce yourself in Ara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to describe someone’s physical appearance in Ara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5157720"/>
            <a:ext cx="1150920" cy="1152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1150920" cy="1152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119844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399600"/>
            <a:ext cx="5915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99"/>
                </a:solidFill>
                <a:latin typeface="Arial"/>
              </a:rPr>
              <a:t>INTRODUCTION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00120"/>
            <a:ext cx="746748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Times New Roman"/>
              </a:rPr>
              <a:t>أهلاً أنا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llo , I'm 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ستمع إلى الكلمات و ردد مع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Listen and repeat the wor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imes New Roman"/>
              </a:rPr>
              <a:t>أهلاً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(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Ahlan</a:t>
            </a:r>
            <a:r>
              <a:rPr b="0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rtl="1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imes New Roman"/>
              </a:rPr>
              <a:t>أنَا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Ana)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rtl="1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rtl="1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rtl="1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tbn0.google.com/images?q=tbn:GJ6G8QNxaVz1QM:http://goodhealth.freeservers.com/hand_shaking.gif"/>
          <p:cNvPicPr/>
          <p:nvPr/>
        </p:nvPicPr>
        <p:blipFill>
          <a:blip r:embed="rId1"/>
          <a:stretch/>
        </p:blipFill>
        <p:spPr>
          <a:xfrm>
            <a:off x="6659640" y="333360"/>
            <a:ext cx="2093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leonardo_dicaprio"/>
          <p:cNvPicPr/>
          <p:nvPr/>
        </p:nvPicPr>
        <p:blipFill>
          <a:blip r:embed="rId1"/>
          <a:stretch/>
        </p:blipFill>
        <p:spPr>
          <a:xfrm>
            <a:off x="1409760" y="1195560"/>
            <a:ext cx="2162160" cy="2876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jennifer_lopez_pearl_necklace"/>
          <p:cNvPicPr/>
          <p:nvPr/>
        </p:nvPicPr>
        <p:blipFill>
          <a:blip r:embed="rId2"/>
          <a:stretch/>
        </p:blipFill>
        <p:spPr>
          <a:xfrm>
            <a:off x="4919760" y="1290600"/>
            <a:ext cx="2295360" cy="2352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1214280" y="4500720"/>
            <a:ext cx="242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entury Schoolbook"/>
              </a:rPr>
              <a:t>huwa (h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786200" y="4494240"/>
            <a:ext cx="242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entury Schoolbook"/>
              </a:rPr>
              <a:t>hiyah(sh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99"/>
                </a:solidFill>
                <a:latin typeface="Arial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321160" y="585720"/>
            <a:ext cx="364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ستمع إلى الكلمات و ردد معي</a:t>
            </a: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Century Schoolbook"/>
              </a:rPr>
              <a:t>Listen and repeat the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tallman"/>
          <p:cNvPicPr/>
          <p:nvPr/>
        </p:nvPicPr>
        <p:blipFill>
          <a:blip r:embed="rId1"/>
          <a:stretch/>
        </p:blipFill>
        <p:spPr>
          <a:xfrm>
            <a:off x="898560" y="954000"/>
            <a:ext cx="744480" cy="1832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00006f"/>
          <p:cNvPicPr/>
          <p:nvPr/>
        </p:nvPicPr>
        <p:blipFill>
          <a:blip r:embed="rId2"/>
          <a:stretch/>
        </p:blipFill>
        <p:spPr>
          <a:xfrm>
            <a:off x="4857840" y="1214280"/>
            <a:ext cx="1089000" cy="1571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tbn0.google.com/images?q=tbn:dSv2ZbPiij-7kM:http://www.zapad.cz/fotos/zdravi/cholesterol/fat_man_lar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880" y="3179880"/>
            <a:ext cx="1054080" cy="1606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hinman"/>
          <p:cNvPicPr/>
          <p:nvPr/>
        </p:nvPicPr>
        <p:blipFill>
          <a:blip r:embed="rId5"/>
          <a:stretch/>
        </p:blipFill>
        <p:spPr>
          <a:xfrm>
            <a:off x="4929120" y="3071880"/>
            <a:ext cx="109548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appy_Man"/>
          <p:cNvPicPr/>
          <p:nvPr/>
        </p:nvPicPr>
        <p:blipFill>
          <a:blip r:embed="rId6"/>
          <a:stretch/>
        </p:blipFill>
        <p:spPr>
          <a:xfrm>
            <a:off x="285840" y="5045040"/>
            <a:ext cx="1857240" cy="1598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Sadness,%2520depression,%2520sad%2520man"/>
          <p:cNvPicPr/>
          <p:nvPr/>
        </p:nvPicPr>
        <p:blipFill>
          <a:blip r:embed="rId7"/>
          <a:stretch/>
        </p:blipFill>
        <p:spPr>
          <a:xfrm>
            <a:off x="4929120" y="5000760"/>
            <a:ext cx="1103400" cy="164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0"/>
          <p:cNvSpPr/>
          <p:nvPr/>
        </p:nvSpPr>
        <p:spPr>
          <a:xfrm>
            <a:off x="2000160" y="1428840"/>
            <a:ext cx="200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و طو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2060"/>
                </a:solidFill>
                <a:latin typeface="Century Schoolbook"/>
              </a:rPr>
              <a:t>huwa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entury Schoolbook"/>
              </a:rPr>
              <a:t>taweel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(t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6215040" y="1428840"/>
            <a:ext cx="200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و قصير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2060"/>
                </a:solidFill>
                <a:latin typeface="Century Schoolbook"/>
              </a:rPr>
              <a:t>huwa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entury Schoolbook"/>
              </a:rPr>
              <a:t>qaseer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(sh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2152800" y="3429000"/>
            <a:ext cx="200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و سمين</a:t>
            </a:r>
            <a:r>
              <a:rPr b="0" lang="ar-SA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2060"/>
                </a:solidFill>
                <a:latin typeface="Century Schoolbook"/>
              </a:rPr>
              <a:t>huwa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entury Schoolbook"/>
              </a:rPr>
              <a:t>sam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(f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6215040" y="3429000"/>
            <a:ext cx="200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و نحي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2060"/>
                </a:solidFill>
                <a:latin typeface="Century Schoolbook"/>
              </a:rPr>
              <a:t>huwa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entury Schoolbook"/>
              </a:rPr>
              <a:t>naheef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(sl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2152800" y="5429160"/>
            <a:ext cx="200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و سع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2060"/>
                </a:solidFill>
                <a:latin typeface="Century Schoolbook"/>
              </a:rPr>
              <a:t>huwa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entury Schoolbook"/>
              </a:rPr>
              <a:t>saeed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(happ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6286680" y="5413320"/>
            <a:ext cx="200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و حز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2060"/>
                </a:solidFill>
                <a:latin typeface="Century Schoolbook"/>
              </a:rPr>
              <a:t>huwa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entury Schoolbook"/>
              </a:rPr>
              <a:t>hazeen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(s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5249880" y="549360"/>
            <a:ext cx="3643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ستمع إلى الكلمات و ردد معي</a:t>
            </a: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Century Schoolbook"/>
              </a:rPr>
              <a:t>Listen and repeat the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2000160" y="142884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ي طوي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Century Schoolbook"/>
              </a:rPr>
              <a:t>hiyah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entury Schoolbook"/>
              </a:rPr>
              <a:t>taweeal</a:t>
            </a:r>
            <a:r>
              <a:rPr b="1" i="1" lang="en-GB" sz="2000" spc="-1" strike="noStrike">
                <a:solidFill>
                  <a:srgbClr val="ff0000"/>
                </a:solidFill>
                <a:latin typeface="Century Schoolbook"/>
              </a:rPr>
              <a:t>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(t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6215040" y="1428840"/>
            <a:ext cx="200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ي قصي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Century Schoolbook"/>
              </a:rPr>
              <a:t>hiyah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entury Schoolbook"/>
              </a:rPr>
              <a:t>qaseer</a:t>
            </a:r>
            <a:r>
              <a:rPr b="1" i="1" lang="en-GB" sz="2000" spc="-1" strike="noStrike">
                <a:solidFill>
                  <a:srgbClr val="ff0000"/>
                </a:solidFill>
                <a:latin typeface="Century Schoolbook"/>
              </a:rPr>
              <a:t>ah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(sh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2152800" y="3429000"/>
            <a:ext cx="220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ي سمين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Century Schoolbook"/>
              </a:rPr>
              <a:t>hiyah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entury Schoolbook"/>
              </a:rPr>
              <a:t>sameen</a:t>
            </a:r>
            <a:r>
              <a:rPr b="1" i="1" lang="en-GB" sz="2000" spc="-1" strike="noStrike">
                <a:solidFill>
                  <a:srgbClr val="ff0000"/>
                </a:solidFill>
                <a:latin typeface="Century Schoolbook"/>
              </a:rPr>
              <a:t>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(f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6215040" y="3429000"/>
            <a:ext cx="221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ي نحيف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Century Schoolbook"/>
              </a:rPr>
              <a:t>hiyah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entury Schoolbook"/>
              </a:rPr>
              <a:t>naheef</a:t>
            </a:r>
            <a:r>
              <a:rPr b="1" i="1" lang="en-GB" sz="2000" spc="-1" strike="noStrike">
                <a:solidFill>
                  <a:srgbClr val="ff0000"/>
                </a:solidFill>
                <a:latin typeface="Century Schoolbook"/>
              </a:rPr>
              <a:t>ah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(sl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5"/>
          <p:cNvSpPr/>
          <p:nvPr/>
        </p:nvSpPr>
        <p:spPr>
          <a:xfrm>
            <a:off x="2152800" y="5429160"/>
            <a:ext cx="200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ي</a:t>
            </a:r>
            <a:r>
              <a:rPr b="0" lang="ar-SA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سعي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Century Schoolbook"/>
              </a:rPr>
              <a:t>hiyah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entury Schoolbook"/>
              </a:rPr>
              <a:t>saeed</a:t>
            </a:r>
            <a:r>
              <a:rPr b="1" i="1" lang="en-GB" sz="2000" spc="-1" strike="noStrike">
                <a:solidFill>
                  <a:srgbClr val="ff0000"/>
                </a:solidFill>
                <a:latin typeface="Century Schoolbook"/>
              </a:rPr>
              <a:t>ah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(happ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6"/>
          <p:cNvSpPr/>
          <p:nvPr/>
        </p:nvSpPr>
        <p:spPr>
          <a:xfrm>
            <a:off x="6286680" y="5413320"/>
            <a:ext cx="214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حزينة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Century Schoolbook"/>
              </a:rPr>
              <a:t>hiyah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entury Schoolbook"/>
              </a:rPr>
              <a:t>hazeen</a:t>
            </a:r>
            <a:r>
              <a:rPr b="1" i="1" lang="en-GB" sz="2000" spc="-1" strike="noStrike">
                <a:solidFill>
                  <a:srgbClr val="ff0000"/>
                </a:solidFill>
                <a:latin typeface="Century Schoolbook"/>
              </a:rPr>
              <a:t>ah</a:t>
            </a: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(s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23124267"/>
          <p:cNvPicPr/>
          <p:nvPr/>
        </p:nvPicPr>
        <p:blipFill>
          <a:blip r:embed="rId1"/>
          <a:stretch/>
        </p:blipFill>
        <p:spPr>
          <a:xfrm>
            <a:off x="466560" y="905040"/>
            <a:ext cx="1390680" cy="1809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kristinchenowethtrapezedress"/>
          <p:cNvPicPr/>
          <p:nvPr/>
        </p:nvPicPr>
        <p:blipFill>
          <a:blip r:embed="rId2"/>
          <a:stretch/>
        </p:blipFill>
        <p:spPr>
          <a:xfrm>
            <a:off x="5000760" y="1197000"/>
            <a:ext cx="928440" cy="1446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ThinWoman"/>
          <p:cNvPicPr/>
          <p:nvPr/>
        </p:nvPicPr>
        <p:blipFill>
          <a:blip r:embed="rId3"/>
          <a:stretch/>
        </p:blipFill>
        <p:spPr>
          <a:xfrm>
            <a:off x="5214960" y="2908440"/>
            <a:ext cx="646200" cy="1734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fatbikini"/>
          <p:cNvPicPr/>
          <p:nvPr/>
        </p:nvPicPr>
        <p:blipFill>
          <a:blip r:embed="rId4"/>
          <a:stretch/>
        </p:blipFill>
        <p:spPr>
          <a:xfrm>
            <a:off x="642960" y="3000240"/>
            <a:ext cx="1268280" cy="157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sad_woman"/>
          <p:cNvPicPr/>
          <p:nvPr/>
        </p:nvPicPr>
        <p:blipFill>
          <a:blip r:embed="rId5"/>
          <a:stretch/>
        </p:blipFill>
        <p:spPr>
          <a:xfrm>
            <a:off x="4786200" y="4929120"/>
            <a:ext cx="1392480" cy="1563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400_F_6332281_yYM45aJDozuMGY0Y5pANHBPCmRc79bPy"/>
          <p:cNvPicPr/>
          <p:nvPr/>
        </p:nvPicPr>
        <p:blipFill>
          <a:blip r:embed="rId6"/>
          <a:stretch/>
        </p:blipFill>
        <p:spPr>
          <a:xfrm>
            <a:off x="357120" y="495792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80" name="Title 1"/>
          <p:cNvSpPr/>
          <p:nvPr/>
        </p:nvSpPr>
        <p:spPr>
          <a:xfrm>
            <a:off x="457200" y="18900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99"/>
                </a:solidFill>
                <a:latin typeface="Arial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49240" y="504720"/>
            <a:ext cx="7467840" cy="83664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OMPETITION TIM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99640" y="1557360"/>
            <a:ext cx="7417080" cy="4248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wo teams you will be shown pictures of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win points describe the pictures (Remember to us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uw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hiya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nus points are given for using more than one word to describ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member to put your hand up! Points can be deducted for shouting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093080" y="4941720"/>
            <a:ext cx="16779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2860920" cy="424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816360" cy="3279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651640" y="486900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و سعي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uwa sa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494172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و حز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uwa  haz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912080" y="5616720"/>
            <a:ext cx="1052640" cy="1052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2557440" cy="3165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12000" y="907920"/>
            <a:ext cx="1415880" cy="3799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148360" y="50198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ي نحي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iyah  naheef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5013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ي سمين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iyah sameen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740720" y="5445000"/>
            <a:ext cx="1208160" cy="1208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7162" b="6919"/>
          <a:stretch/>
        </p:blipFill>
        <p:spPr>
          <a:xfrm>
            <a:off x="684360" y="692280"/>
            <a:ext cx="3187440" cy="3644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920" y="51577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و سم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uwa sam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580000" y="476280"/>
            <a:ext cx="2592360" cy="388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435640" y="5157720"/>
            <a:ext cx="252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هو نحي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huwa  nahee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812000" y="552132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9:08:14Z</dcterms:created>
  <dc:creator>Peter</dc:creator>
  <dc:description/>
  <dc:language>en-US</dc:language>
  <cp:lastModifiedBy>HLSS User</cp:lastModifiedBy>
  <dcterms:modified xsi:type="dcterms:W3CDTF">2008-06-09T09:15:02Z</dcterms:modified>
  <cp:revision>18</cp:revision>
  <dc:subject/>
  <dc:title>Arabic Language Taster</dc:title>
</cp:coreProperties>
</file>