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9.jpeg" ContentType="image/jpeg"/>
  <Override PartName="/ppt/media/image10.jpeg" ContentType="image/jpeg"/>
  <Override PartName="/ppt/media/whoosh.wav" ContentType="audio/x-wav"/>
  <Override PartName="/ppt/media/image28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applause.wav" ContentType="audio/x-wav"/>
  <Override PartName="/ppt/media/image27.jpeg" ContentType="image/jpeg"/>
  <Override PartName="/ppt/media/image34.wmf" ContentType="image/x-wmf"/>
  <Override PartName="/ppt/media/image32.jpeg" ContentType="image/jpeg"/>
  <Override PartName="/ppt/media/image5.jpeg" ContentType="image/jpeg"/>
  <Override PartName="/ppt/media/image26.jpeg" ContentType="image/jpeg"/>
  <Override PartName="/ppt/media/camera.wav" ContentType="audio/x-wav"/>
  <Override PartName="/ppt/media/image21.jpeg" ContentType="image/jpeg"/>
  <Override PartName="/ppt/media/image7.jpeg" ContentType="image/jpeg"/>
  <Override PartName="/ppt/media/image38.jpeg" ContentType="image/jpeg"/>
  <Override PartName="/ppt/media/image6.jpeg" ContentType="image/jpeg"/>
  <Override PartName="/ppt/media/type.wav" ContentType="audio/x-wav"/>
  <Override PartName="/ppt/media/image3.jpeg" ContentType="image/jpeg"/>
  <Override PartName="/ppt/media/image3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42D2-0E9A-447A-864B-73A4B2AFB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22200"/>
            <a:ext cx="8229600" cy="15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09988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46976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0D51-DF0B-4B6E-89CD-5D8621CB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2200"/>
            <a:ext cx="8229600" cy="15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0998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0998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46976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46976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A906-4EA0-4C31-883D-2DBF02C6F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22200"/>
            <a:ext cx="8229600" cy="15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09988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09988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09988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46976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46976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46976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B393-BFCD-4D95-87C7-7E359C485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3317C-3318-4ABC-BBA4-6158302BA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22200"/>
            <a:ext cx="8229600" cy="15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20998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03D844-4086-46C8-9A0C-913375E4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22200"/>
            <a:ext cx="8229600" cy="15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0998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6F93D-8775-44F1-BC4E-4EBDE8AB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2200"/>
            <a:ext cx="8229600" cy="15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09988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209988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3130E-7EAF-43A2-9513-7CA75D65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22200"/>
            <a:ext cx="8229600" cy="15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1C400-9E6F-428C-8DCD-69180541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322200"/>
            <a:ext cx="8229600" cy="70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31F1F0-24E0-44EE-963A-EB9F5C6A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2200"/>
            <a:ext cx="8229600" cy="15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0998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09988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46976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CC79D-ED96-4429-8BEA-2859E04A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22200"/>
            <a:ext cx="8229600" cy="15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0998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2F08-F188-4817-B37F-F042ACFA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2200"/>
            <a:ext cx="8229600" cy="15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09988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20998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46976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FB798-C0AF-42FC-85F0-45479787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22200"/>
            <a:ext cx="8229600" cy="15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0998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0998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46976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7E6FD-FEFF-4D85-BE6F-B5C8C86F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22200"/>
            <a:ext cx="8229600" cy="15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09988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46976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8A245-A624-49D0-916B-7AC91E23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22200"/>
            <a:ext cx="8229600" cy="15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0998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0998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46976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46976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0CDA0-14A4-42D6-AEFD-D489F16CA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22200"/>
            <a:ext cx="8229600" cy="15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09988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209988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209988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46976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46976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46976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939188-0C07-496A-9A62-FFAF34C5A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22200"/>
            <a:ext cx="8229600" cy="15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0998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5020-01B7-48BA-BB2A-DAC1B358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22200"/>
            <a:ext cx="8229600" cy="15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09988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09988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A3A9-3D23-4CA8-BC26-E1D1E1AF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2200"/>
            <a:ext cx="8229600" cy="15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55EC-A576-4A9A-96D6-66506CE3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22200"/>
            <a:ext cx="8229600" cy="70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96E0-EAD2-4B6A-AB6A-C55E0877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22200"/>
            <a:ext cx="8229600" cy="15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0998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09988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46976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76DB-C5DC-4BF5-8F4A-E1D53969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22200"/>
            <a:ext cx="8229600" cy="15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09988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0998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46976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911B-CC26-48E5-BDAE-18FDA77B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22200"/>
            <a:ext cx="8229600" cy="15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0998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0998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46976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0B53-2BAA-44EE-B224-A8F2BA18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22200"/>
            <a:ext cx="8229600" cy="15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0998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885000"/>
            <a:ext cx="213372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885000"/>
            <a:ext cx="289584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885000"/>
            <a:ext cx="213372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0322-F066-4BAA-8FB8-4FFEE23A0E0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3090960"/>
            <a:ext cx="1440" cy="334620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22200"/>
            <a:ext cx="8229600" cy="15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20998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885000"/>
            <a:ext cx="289584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885000"/>
            <a:ext cx="213372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0269-A787-421E-8207-F0DE7AEB712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885000"/>
            <a:ext cx="213372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uk.wrs.yahoo.com/_ylt=A0WTf2pat0dJ.tAAejFNBQx.;_ylu=X3oDMTBpaWhqZmNtBHBvcwMzBHNlYwNzcgR2dGlkAw--/SIG=1kheb7132/EXP=1229523162/**http%3A//uk.images.search.yahoo.com/images/view%3Fback=http%253A%252F%252Fuk.images.search.yahoo.com%252Fsearch%252Fimages%253Fp%253Dmorning%2526fr%253Dyfp-t-501%2526ei%253DUTF-8%26w=375%26h=500%26imgurl=static.flickr.com%252F1110%252F526553734_78897a09f9.jpg%26rurl=http%253A%252F%252Fwww.flickr.com%252Fphotos%252Fmelaniemorgyn%252F526553734%252F%26size=285.7kB%26name=good%2Bmorning%26p=morning%26type=JPG%26oid=762a250d8f79b9e0%26fusr=melaniemorgyn%26tit=good%2Bmorning%26hurl=http%253A%252F%252Fwww.flickr.com%252Fphotos%252Fmelaniemorgyn%252F%26no=3%26tt=11,971,884%26sigr=11lqhkmhl%26sigi=11filuc37%26sigb=12fm55q7l%26sigh=11b3qk0vp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hyperlink" Target="http://uk.wrs.yahoo.com/_ylt=A0WTf20BvEdJjTAA6s1NBQx.;_ylu=X3oDMTBpZm5udGl1BHBvcwM1BHNlYwNzcgR2dGlkAw--/SIG=1jjh6cm66/EXP=1229524353/**http%3A/uk.images.search.yahoo.com/images/view%3Fback=http%253A%252F%252Fuk.images.search.yahoo.com%252Fsearch%252Fimages%253Fp%253Da%252Bteacher%2526y%253DSearch%2526fr%253Dyfp-t-501%2526ei%253Dutf-8%2526js%253D1%2526x%253Dwrt%26w=480%26h=640%26imgurl=www.tennoji-h.oku.ed.jp%252Ftennoji%252Ftec%2526amp%253Bhome%252Faccard%252Fhumanbeing%252Fteacher.jpg%26rurl=http%253A%252F%252Fwww.amamk.com%252Findex.php%253Ftype%253Dimages%2526search%253Dteacher%26size=86.7kB%26name=teacher.jpg%26p=a%2Bteacher%26type=JPG%26oid=2f3f3536f825e802%26no=5%26tt=4,052,008%26sigr=11prigg22%26sigi=12a62v27j%26sigb=135hctbp1" TargetMode="Externa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hyperlink" Target="http://uk.wrs.yahoo.com/_ylt=A0WTf2g.vkdJaEoB5chWBQx./SIG=122223s2t/EXP=1229524926/**http%3A/www.flickr.com/photos/jaggat/534365393/" TargetMode="External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camera.wav"/><Relationship Id="rId20" Type="http://schemas.openxmlformats.org/officeDocument/2006/relationships/audio" Target="../media/camera.wav"/><Relationship Id="rId21" Type="http://schemas.openxmlformats.org/officeDocument/2006/relationships/audio" Target="../media/camera.wav"/><Relationship Id="rId22" Type="http://schemas.openxmlformats.org/officeDocument/2006/relationships/audio" Target="../media/camera.wav"/><Relationship Id="rId23" Type="http://schemas.openxmlformats.org/officeDocument/2006/relationships/audio" Target="../media/camera.wav"/><Relationship Id="rId2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hyperlink" Target="http://uk.wrs.yahoo.com/_ylt=A0WTf20BvEdJjTAA6s1NBQx.;_ylu=X3oDMTBpZm5udGl1BHBvcwM1BHNlYwNzcgR2dGlkAw--/SIG=1jjh6cm66/EXP=1229524353/**http%3A/uk.images.search.yahoo.com/images/view%3Fback=http%253A%252F%252Fuk.images.search.yahoo.com%252Fsearch%252Fimages%253Fp%253Da%252Bteacher%2526y%253DSearch%2526fr%253Dyfp-t-501%2526ei%253Dutf-8%2526js%253D1%2526x%253Dwrt%26w=480%26h=640%26imgurl=www.tennoji-h.oku.ed.jp%252Ftennoji%252Ftec%2526amp%253Bhome%252Faccard%252Fhumanbeing%252Fteacher.jpg%26rurl=http%253A%252F%252Fwww.amamk.com%252Findex.php%253Ftype%253Dimages%2526search%253Dteacher%26size=86.7kB%26name=teacher.jpg%26p=a%2Bteacher%26type=JPG%26oid=2f3f3536f825e802%26no=5%26tt=4,052,008%26sigr=11prigg22%26sigi=12a62v27j%26sigb=135hctbp1" TargetMode="External"/><Relationship Id="rId5" Type="http://schemas.openxmlformats.org/officeDocument/2006/relationships/image" Target="../media/image6.jpeg"/><Relationship Id="rId6" Type="http://schemas.openxmlformats.org/officeDocument/2006/relationships/image" Target="../media/image9.jpeg"/><Relationship Id="rId7" Type="http://schemas.openxmlformats.org/officeDocument/2006/relationships/hyperlink" Target="http://uk.wrs.yahoo.com/_ylt=A0WTf2g.vkdJaEoB5chWBQx./SIG=122223s2t/EXP=1229524926/**http%3A/www.flickr.com/photos/jaggat/534365393/" TargetMode="External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image" Target="../media/image31.jpeg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wmf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image" Target="../media/image38.jpeg"/><Relationship Id="rId9" Type="http://schemas.openxmlformats.org/officeDocument/2006/relationships/image" Target="../media/image39.jpeg"/><Relationship Id="rId10" Type="http://schemas.openxmlformats.org/officeDocument/2006/relationships/audio" Target="../media/type.wav"/><Relationship Id="rId11" Type="http://schemas.openxmlformats.org/officeDocument/2006/relationships/audio" Target="../media/whoosh.wav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applaus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audio" Target="../media/type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audio" Target="../media/type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images.google.co.uk/imgres?imgurl=http://tonyhawk.gamigo.de/v2/images/wallpapers/wallpapers/skateboard_bart-simpson_001_1024x786.jpg&amp;imgrefurl=http://www.blackplanet.com/users/mario3007/canvas/view_canvas.html&amp;h=786&amp;w=1024&amp;sz=103&amp;hl=en&amp;start=7&amp;um=1&amp;usg=__sZfqaNV_4jeDLFJkKzRyNsxSPvw=&amp;tbnid=CS4KzxZFaQp9rM:&amp;tbnh=115&amp;tbnw=150&amp;prev=/images%3Fq%3DBart%2BSimpson%26um%3D1%26hl%3Den%26rlz%3D1W1GPEA_en%26sa%3DN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audio" Target="../media/type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ubtitle 2"/>
          <p:cNvSpPr/>
          <p:nvPr/>
        </p:nvSpPr>
        <p:spPr>
          <a:xfrm>
            <a:off x="2268360" y="1484280"/>
            <a:ext cx="55245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is lesson you will learn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rtl="1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to great someone in Arabi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to introduce yourself in Arabi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to tell people about your job and some one’s job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Rectangle 15"/>
          <p:cNvSpPr/>
          <p:nvPr/>
        </p:nvSpPr>
        <p:spPr>
          <a:xfrm>
            <a:off x="0" y="156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Rectangle 16"/>
          <p:cNvSpPr/>
          <p:nvPr/>
        </p:nvSpPr>
        <p:spPr>
          <a:xfrm>
            <a:off x="0" y="242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7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Rectangle 17"/>
          <p:cNvSpPr/>
          <p:nvPr/>
        </p:nvSpPr>
        <p:spPr>
          <a:xfrm>
            <a:off x="0" y="343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Rectangle 18"/>
          <p:cNvSpPr/>
          <p:nvPr/>
        </p:nvSpPr>
        <p:spPr>
          <a:xfrm>
            <a:off x="0" y="439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Rectangle 19"/>
          <p:cNvSpPr/>
          <p:nvPr/>
        </p:nvSpPr>
        <p:spPr>
          <a:xfrm>
            <a:off x="0" y="521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21" descr="254025212_f23c82e750"/>
          <p:cNvPicPr/>
          <p:nvPr/>
        </p:nvPicPr>
        <p:blipFill>
          <a:blip r:embed="rId1"/>
          <a:stretch/>
        </p:blipFill>
        <p:spPr>
          <a:xfrm>
            <a:off x="6732720" y="5797440"/>
            <a:ext cx="2274840" cy="1516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3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5364000"/>
            <a:ext cx="1486080" cy="1994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5" descr="http://uk.wrs.yahoo.com/_ylt=A0WTf2xYukdJWrUAE_tWBQx./SIG=13nck0rl8/EXP=1229523928/**http%3A/www.midlandstech.edu/careerguide/Career_Images_3/Nurse%2520wOlder%2520Male%2520pati72891.jpg"/>
          <p:cNvPicPr/>
          <p:nvPr/>
        </p:nvPicPr>
        <p:blipFill>
          <a:blip r:embed="rId4"/>
          <a:srcRect l="45499" t="0" r="0" b="7916"/>
          <a:stretch/>
        </p:blipFill>
        <p:spPr>
          <a:xfrm>
            <a:off x="250920" y="1405080"/>
            <a:ext cx="1158840" cy="1568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6" descr="http://uk.wrs.yahoo.com/_ylt=A0WTf2qhu0dJD9EAJnVWBQx./SIG=12f65blpr/EXP=1229524257/**http%3A/www.british-nurses.co.uk/acatalog/G86_Male_Tunic.jpg"/>
          <p:cNvPicPr/>
          <p:nvPr/>
        </p:nvPicPr>
        <p:blipFill>
          <a:blip r:embed="rId5"/>
          <a:srcRect l="0" t="0" r="0" b="14815"/>
          <a:stretch/>
        </p:blipFill>
        <p:spPr>
          <a:xfrm>
            <a:off x="324000" y="3205080"/>
            <a:ext cx="1162080" cy="1486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7" descr="Go to full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050920" y="5508720"/>
            <a:ext cx="1349640" cy="1811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8" descr="http://uk.wrs.yahoo.com/_ylt=A0WTf2nMvEdJ12cBs45WBQx./SIG=142fbd2un/EXP=1229524556/**http%3A/www.wackystock.com/images/clipart/thumbnail/5602_male_school_teacher_pointing_at_a_blank_chalkboard.jpg"/>
          <p:cNvPicPr/>
          <p:nvPr/>
        </p:nvPicPr>
        <p:blipFill>
          <a:blip r:embed="rId8"/>
          <a:stretch/>
        </p:blipFill>
        <p:spPr>
          <a:xfrm>
            <a:off x="3708360" y="5580000"/>
            <a:ext cx="1360440" cy="1728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9" descr="Image Preview">
            <a:hlinkClick r:id="rId9"/>
          </p:cNvPr>
          <p:cNvPicPr/>
          <p:nvPr/>
        </p:nvPicPr>
        <p:blipFill>
          <a:blip r:embed="rId10"/>
          <a:srcRect l="0" t="12235" r="0" b="7778"/>
          <a:stretch/>
        </p:blipFill>
        <p:spPr>
          <a:xfrm>
            <a:off x="7812000" y="1836720"/>
            <a:ext cx="1133640" cy="1371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0" descr="http://uk.wrs.yahoo.com/_ylt=A0WTf2nAvkdJ1WcBytJWBQx./SIG=12eg88bod/EXP=1229525056/**http%3A/www.csu.edu.au/student/life/images/student_male.jpg"/>
          <p:cNvPicPr/>
          <p:nvPr/>
        </p:nvPicPr>
        <p:blipFill>
          <a:blip r:embed="rId11"/>
          <a:stretch/>
        </p:blipFill>
        <p:spPr>
          <a:xfrm>
            <a:off x="7915320" y="3564000"/>
            <a:ext cx="1228680" cy="1380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2200"/>
            <a:ext cx="8229600" cy="15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Y" sz="4000" spc="-1" strike="noStrike">
                <a:solidFill>
                  <a:srgbClr val="ffffff"/>
                </a:solidFill>
                <a:latin typeface="Tahoma"/>
              </a:rPr>
              <a:t>ما ع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َ</a:t>
            </a:r>
            <a:r>
              <a:rPr b="0" lang="ar-LY" sz="4000" spc="-1" strike="noStrike">
                <a:solidFill>
                  <a:srgbClr val="ffffff"/>
                </a:solidFill>
                <a:latin typeface="Tahoma"/>
              </a:rPr>
              <a:t>م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َ</a:t>
            </a:r>
            <a:r>
              <a:rPr b="0" lang="ar-LY" sz="4000" spc="-1" strike="noStrike">
                <a:solidFill>
                  <a:srgbClr val="ffffff"/>
                </a:solidFill>
                <a:latin typeface="Tahoma"/>
              </a:rPr>
              <a:t>ل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ُ</a:t>
            </a:r>
            <a:r>
              <a:rPr b="0" lang="ar-LY" sz="4000" spc="-1" strike="noStrike">
                <a:solidFill>
                  <a:srgbClr val="ffffff"/>
                </a:solidFill>
                <a:latin typeface="Tahoma"/>
              </a:rPr>
              <a:t>ك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َ</a:t>
            </a:r>
            <a:r>
              <a:rPr b="0" lang="ar-LY" sz="4000" spc="-1" strike="noStrike">
                <a:solidFill>
                  <a:srgbClr val="ffffff"/>
                </a:solidFill>
                <a:latin typeface="Tahoma"/>
              </a:rPr>
              <a:t> ؟</a:t>
            </a:r>
            <a:br>
              <a:rPr sz="4000"/>
            </a:b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hat do you do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4" descr="http://www.escapefromcubiclenation.com/photos/uncategorized/doctor.jpg"/>
          <p:cNvPicPr/>
          <p:nvPr/>
        </p:nvPicPr>
        <p:blipFill>
          <a:blip r:embed="rId1"/>
          <a:srcRect l="9563" t="6925" r="4020" b="21574"/>
          <a:stretch/>
        </p:blipFill>
        <p:spPr>
          <a:xfrm>
            <a:off x="396720" y="2629080"/>
            <a:ext cx="2105280" cy="26096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5"/>
          <p:cNvSpPr/>
          <p:nvPr/>
        </p:nvSpPr>
        <p:spPr>
          <a:xfrm>
            <a:off x="4779000" y="378036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ana tabeeb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7303320" y="2305800"/>
            <a:ext cx="139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طَبِيب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5358960" y="24130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tabee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4708800" y="550872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huwa tabee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6723000" y="3708360"/>
            <a:ext cx="210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أنا طَبِيب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6774120" y="5402160"/>
            <a:ext cx="220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هو طَبِيب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48320" y="2099880"/>
            <a:ext cx="4038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Y" sz="3200" spc="-1" strike="noStrike">
                <a:solidFill>
                  <a:srgbClr val="ffffff"/>
                </a:solidFill>
                <a:latin typeface="Tahoma"/>
              </a:rPr>
              <a:t>طَالِبَ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Y" sz="3200" spc="-1" strike="noStrike">
                <a:solidFill>
                  <a:srgbClr val="ffffff"/>
                </a:solidFill>
                <a:latin typeface="Tahoma"/>
              </a:rPr>
              <a:t>أنا طَالِبَ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Y" sz="3200" spc="-1" strike="noStrike">
                <a:solidFill>
                  <a:srgbClr val="ffffff"/>
                </a:solidFill>
                <a:latin typeface="Tahoma"/>
              </a:rPr>
              <a:t>هي طَالِبَ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7" descr="Student"/>
          <p:cNvPicPr/>
          <p:nvPr/>
        </p:nvPicPr>
        <p:blipFill>
          <a:blip r:embed="rId1"/>
          <a:stretch/>
        </p:blipFill>
        <p:spPr>
          <a:xfrm>
            <a:off x="0" y="2989440"/>
            <a:ext cx="4032360" cy="24937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8"/>
          <p:cNvSpPr/>
          <p:nvPr/>
        </p:nvSpPr>
        <p:spPr>
          <a:xfrm>
            <a:off x="2531880" y="285840"/>
            <a:ext cx="33674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Y" sz="4400" spc="-1" strike="noStrike">
                <a:solidFill>
                  <a:srgbClr val="ffffff"/>
                </a:solidFill>
                <a:latin typeface="Tahoma"/>
              </a:rPr>
              <a:t>ما </a:t>
            </a:r>
            <a:r>
              <a:rPr b="0" lang="ar-LY" sz="4000" spc="-1" strike="noStrike">
                <a:solidFill>
                  <a:srgbClr val="ffffff"/>
                </a:solidFill>
                <a:latin typeface="Tahoma"/>
              </a:rPr>
              <a:t>عملكِ</a:t>
            </a:r>
            <a:r>
              <a:rPr b="0" lang="ar-LY" sz="4400" spc="-1" strike="noStrike">
                <a:solidFill>
                  <a:srgbClr val="ffffff"/>
                </a:solidFill>
                <a:latin typeface="Tahoma"/>
              </a:rPr>
              <a:t> ؟</a:t>
            </a:r>
            <a:br>
              <a:rPr sz="4400"/>
            </a:b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hat do you do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4534920" y="3276720"/>
            <a:ext cx="174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ana taliba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5472720" y="2122560"/>
            <a:ext cx="11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taliba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4538880" y="450072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hiyah taliba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4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4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4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4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648320" y="2099880"/>
            <a:ext cx="4038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مُدَرِسة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أنا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مُدَرِسة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هي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مُدَرِسة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7" descr="Teacher_Cartoon"/>
          <p:cNvPicPr/>
          <p:nvPr/>
        </p:nvPicPr>
        <p:blipFill>
          <a:blip r:embed="rId1"/>
          <a:stretch/>
        </p:blipFill>
        <p:spPr>
          <a:xfrm>
            <a:off x="0" y="2340000"/>
            <a:ext cx="3198960" cy="2533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"/>
          <p:cNvSpPr/>
          <p:nvPr/>
        </p:nvSpPr>
        <p:spPr>
          <a:xfrm>
            <a:off x="3051000" y="324000"/>
            <a:ext cx="33674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Y" sz="4400" spc="-1" strike="noStrike">
                <a:solidFill>
                  <a:srgbClr val="ffffff"/>
                </a:solidFill>
                <a:latin typeface="Tahoma"/>
              </a:rPr>
              <a:t>ما </a:t>
            </a:r>
            <a:r>
              <a:rPr b="0" lang="ar-LY" sz="4000" spc="-1" strike="noStrike">
                <a:solidFill>
                  <a:srgbClr val="ffffff"/>
                </a:solidFill>
                <a:latin typeface="Tahoma"/>
              </a:rPr>
              <a:t>عملكِ</a:t>
            </a:r>
            <a:r>
              <a:rPr b="0" lang="ar-LY" sz="4400" spc="-1" strike="noStrike">
                <a:solidFill>
                  <a:srgbClr val="ffffff"/>
                </a:solidFill>
                <a:latin typeface="Tahoma"/>
              </a:rPr>
              <a:t> ؟</a:t>
            </a:r>
            <a:br>
              <a:rPr sz="4400"/>
            </a:b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hat do you do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4267080" y="2193840"/>
            <a:ext cx="17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mudar'esa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3799440" y="327348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ana mudar'esa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3601440" y="4429080"/>
            <a:ext cx="26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hiyah mudar'esa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4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4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4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4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648320" y="2099880"/>
            <a:ext cx="4038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مُهَنْدِسة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أنا مُهَنْدِسة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هي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مُهَنْدِسة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7" descr="196"/>
          <p:cNvPicPr/>
          <p:nvPr/>
        </p:nvPicPr>
        <p:blipFill>
          <a:blip r:embed="rId1"/>
          <a:stretch/>
        </p:blipFill>
        <p:spPr>
          <a:xfrm>
            <a:off x="0" y="2197080"/>
            <a:ext cx="3666960" cy="25351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8"/>
          <p:cNvSpPr/>
          <p:nvPr/>
        </p:nvSpPr>
        <p:spPr>
          <a:xfrm>
            <a:off x="2690640" y="252360"/>
            <a:ext cx="33674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Y" sz="4400" spc="-1" strike="noStrike">
                <a:solidFill>
                  <a:srgbClr val="ffffff"/>
                </a:solidFill>
                <a:latin typeface="Tahoma"/>
              </a:rPr>
              <a:t>ما </a:t>
            </a:r>
            <a:r>
              <a:rPr b="0" lang="ar-LY" sz="4000" spc="-1" strike="noStrike">
                <a:solidFill>
                  <a:srgbClr val="ffffff"/>
                </a:solidFill>
                <a:latin typeface="Tahoma"/>
              </a:rPr>
              <a:t>عملكِ</a:t>
            </a:r>
            <a:r>
              <a:rPr b="0" lang="ar-LY" sz="4400" spc="-1" strike="noStrike">
                <a:solidFill>
                  <a:srgbClr val="ffffff"/>
                </a:solidFill>
                <a:latin typeface="Tahoma"/>
              </a:rPr>
              <a:t> ؟</a:t>
            </a:r>
            <a:br>
              <a:rPr sz="4400"/>
            </a:b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hat do you do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4239360" y="212256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muhandisa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3843720" y="327348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an muhandisa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3669840" y="4429080"/>
            <a:ext cx="27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hiyah muhandisa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4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4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4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4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22200"/>
            <a:ext cx="8229600" cy="15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Y" sz="4000" spc="-1" strike="noStrike">
                <a:solidFill>
                  <a:srgbClr val="ffffff"/>
                </a:solidFill>
                <a:latin typeface="Tahoma"/>
              </a:rPr>
              <a:t>ما ع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َ</a:t>
            </a:r>
            <a:r>
              <a:rPr b="0" lang="ar-LY" sz="4000" spc="-1" strike="noStrike">
                <a:solidFill>
                  <a:srgbClr val="ffffff"/>
                </a:solidFill>
                <a:latin typeface="Tahoma"/>
              </a:rPr>
              <a:t>م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َ</a:t>
            </a:r>
            <a:r>
              <a:rPr b="0" lang="ar-LY" sz="4000" spc="-1" strike="noStrike">
                <a:solidFill>
                  <a:srgbClr val="ffffff"/>
                </a:solidFill>
                <a:latin typeface="Tahoma"/>
              </a:rPr>
              <a:t>ل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ُ</a:t>
            </a:r>
            <a:r>
              <a:rPr b="0" lang="ar-LY" sz="4000" spc="-1" strike="noStrike">
                <a:solidFill>
                  <a:srgbClr val="ffffff"/>
                </a:solidFill>
                <a:latin typeface="Tahoma"/>
              </a:rPr>
              <a:t>كِ </a:t>
            </a:r>
            <a:r>
              <a:rPr b="0" lang="ar-LY" sz="4400" spc="-1" strike="noStrike">
                <a:solidFill>
                  <a:srgbClr val="ffffff"/>
                </a:solidFill>
                <a:latin typeface="Tahoma"/>
              </a:rPr>
              <a:t>؟</a:t>
            </a:r>
            <a:br>
              <a:rPr sz="4400"/>
            </a:b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hat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o you do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4" descr="360742~Nurse-Holding-Hypodermic-Needle-Posters"/>
          <p:cNvPicPr/>
          <p:nvPr/>
        </p:nvPicPr>
        <p:blipFill>
          <a:blip r:embed="rId1"/>
          <a:stretch/>
        </p:blipFill>
        <p:spPr>
          <a:xfrm>
            <a:off x="250920" y="2700360"/>
            <a:ext cx="2324160" cy="31050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5"/>
          <p:cNvSpPr/>
          <p:nvPr/>
        </p:nvSpPr>
        <p:spPr>
          <a:xfrm>
            <a:off x="4617000" y="255600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mum'ereda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7048080" y="2448720"/>
            <a:ext cx="171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مُمَرضة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6735960" y="3852720"/>
            <a:ext cx="22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أنا مُمَرض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6792840" y="5114880"/>
            <a:ext cx="22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أنا مُمَرض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4038120" y="3849840"/>
            <a:ext cx="25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ana mum'ereda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Rectangle 10"/>
          <p:cNvSpPr/>
          <p:nvPr/>
        </p:nvSpPr>
        <p:spPr>
          <a:xfrm>
            <a:off x="3737160" y="5146560"/>
            <a:ext cx="27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hiyah mum'ereda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2200"/>
            <a:ext cx="8229600" cy="15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Y" sz="4000" spc="-1" strike="noStrike">
                <a:solidFill>
                  <a:srgbClr val="ffffff"/>
                </a:solidFill>
                <a:latin typeface="Tahoma"/>
              </a:rPr>
              <a:t>ما ع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َ</a:t>
            </a:r>
            <a:r>
              <a:rPr b="0" lang="ar-LY" sz="4000" spc="-1" strike="noStrike">
                <a:solidFill>
                  <a:srgbClr val="ffffff"/>
                </a:solidFill>
                <a:latin typeface="Tahoma"/>
              </a:rPr>
              <a:t>م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َ</a:t>
            </a:r>
            <a:r>
              <a:rPr b="0" lang="ar-LY" sz="4000" spc="-1" strike="noStrike">
                <a:solidFill>
                  <a:srgbClr val="ffffff"/>
                </a:solidFill>
                <a:latin typeface="Tahoma"/>
              </a:rPr>
              <a:t>ل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ُ</a:t>
            </a:r>
            <a:r>
              <a:rPr b="0" lang="ar-LY" sz="4000" spc="-1" strike="noStrike">
                <a:solidFill>
                  <a:srgbClr val="ffffff"/>
                </a:solidFill>
                <a:latin typeface="Tahoma"/>
              </a:rPr>
              <a:t>كِ ؟</a:t>
            </a:r>
            <a:br>
              <a:rPr sz="4000"/>
            </a:b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hat do you do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4" descr="http://lh6.ggpht.com/_RwIWDjrMHGA/R0sbJJT6g6I/AAAAAAAAAQ8/BwvwwGv0yR0/j0408976.jpg"/>
          <p:cNvPicPr/>
          <p:nvPr/>
        </p:nvPicPr>
        <p:blipFill>
          <a:blip r:embed="rId1"/>
          <a:srcRect l="0" t="4152" r="10085" b="22002"/>
          <a:stretch/>
        </p:blipFill>
        <p:spPr>
          <a:xfrm>
            <a:off x="250920" y="2771640"/>
            <a:ext cx="2971800" cy="36576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5"/>
          <p:cNvSpPr/>
          <p:nvPr/>
        </p:nvSpPr>
        <p:spPr>
          <a:xfrm>
            <a:off x="7284960" y="2378160"/>
            <a:ext cx="13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طَبِيب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5204520" y="255600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tabeeba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6770520" y="3530520"/>
            <a:ext cx="197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أنا طَبِيب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4452840" y="3562200"/>
            <a:ext cx="20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ana tabeeba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4224960" y="5218200"/>
            <a:ext cx="22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hiyah tabeeba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6584400" y="5043600"/>
            <a:ext cx="222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هي طَبِيب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http://uk.wrs.yahoo.com/_ylt=A0WTf2xYukdJWrUAE_tWBQx./SIG=13nck0rl8/EXP=1229523928/**http%3A/www.midlandstech.edu/careerguide/Career_Images_3/Nurse%2520wOlder%2520Male%2520pati72891.jpg"/>
          <p:cNvPicPr/>
          <p:nvPr/>
        </p:nvPicPr>
        <p:blipFill>
          <a:blip r:embed="rId1"/>
          <a:srcRect l="45499" t="0" r="0" b="7916"/>
          <a:stretch/>
        </p:blipFill>
        <p:spPr>
          <a:xfrm>
            <a:off x="250920" y="181080"/>
            <a:ext cx="1743120" cy="2361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http://uk.wrs.yahoo.com/_ylt=A0WTf2qhu0dJD9EAJnVWBQx./SIG=12f65blpr/EXP=1229524257/**http%3A/www.british-nurses.co.uk/acatalog/G86_Male_Tunic.jpg"/>
          <p:cNvPicPr/>
          <p:nvPr/>
        </p:nvPicPr>
        <p:blipFill>
          <a:blip r:embed="rId2"/>
          <a:srcRect l="0" t="0" r="0" b="14865"/>
          <a:stretch/>
        </p:blipFill>
        <p:spPr>
          <a:xfrm>
            <a:off x="6948360" y="5508720"/>
            <a:ext cx="1389240" cy="17748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http://uk.wrs.yahoo.com/_ylt=A0WTf2nMvEdJ12cBs45WBQx./SIG=142fbd2un/EXP=1229524556/**http%3A/www.wackystock.com/images/clipart/thumbnail/5602_male_school_teacher_pointing_at_a_blank_chalkboard.jpg"/>
          <p:cNvPicPr/>
          <p:nvPr/>
        </p:nvPicPr>
        <p:blipFill>
          <a:blip r:embed="rId3"/>
          <a:stretch/>
        </p:blipFill>
        <p:spPr>
          <a:xfrm>
            <a:off x="6948360" y="324000"/>
            <a:ext cx="1544760" cy="1584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Go to full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4000" y="5437080"/>
            <a:ext cx="1374480" cy="1846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http://uk.wrs.yahoo.com/_ylt=A0WTf2nAvkdJ1WcBytJWBQx./SIG=12eg88bod/EXP=1229525056/**http%3A/www.csu.edu.au/student/life/images/student_male.jpg"/>
          <p:cNvPicPr/>
          <p:nvPr/>
        </p:nvPicPr>
        <p:blipFill>
          <a:blip r:embed="rId6"/>
          <a:stretch/>
        </p:blipFill>
        <p:spPr>
          <a:xfrm>
            <a:off x="3708360" y="5508720"/>
            <a:ext cx="1612800" cy="18129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Image Preview">
            <a:hlinkClick r:id="rId7"/>
          </p:cNvPr>
          <p:cNvPicPr/>
          <p:nvPr/>
        </p:nvPicPr>
        <p:blipFill>
          <a:blip r:embed="rId8"/>
          <a:srcRect l="0" t="12220" r="0" b="7811"/>
          <a:stretch/>
        </p:blipFill>
        <p:spPr>
          <a:xfrm>
            <a:off x="3851280" y="181080"/>
            <a:ext cx="1519200" cy="183816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10"/>
          <p:cNvSpPr/>
          <p:nvPr/>
        </p:nvSpPr>
        <p:spPr>
          <a:xfrm>
            <a:off x="3438720" y="3348000"/>
            <a:ext cx="251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ay the wo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2" descr="http://tbn0.google.com/images?q=tbn:hXbYzZlQPdz4NM:http://bp0.blogger.com/_EyBEatvup0s/RkALx0JnRtI/AAAAAAAAACg/a9JNY-XNAzw/s400/doctor.jpg"/>
          <p:cNvPicPr/>
          <p:nvPr/>
        </p:nvPicPr>
        <p:blipFill>
          <a:blip r:embed="rId9"/>
          <a:stretch/>
        </p:blipFill>
        <p:spPr>
          <a:xfrm>
            <a:off x="324000" y="2989440"/>
            <a:ext cx="1562040" cy="2152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3" descr="http://www.istockphoto.com/file_thumbview_approve/324656/2/istockphoto_324656-female-doctor.jpg"/>
          <p:cNvPicPr/>
          <p:nvPr/>
        </p:nvPicPr>
        <p:blipFill>
          <a:blip r:embed="rId10"/>
          <a:srcRect l="52223" t="0" r="0" b="0"/>
          <a:stretch/>
        </p:blipFill>
        <p:spPr>
          <a:xfrm>
            <a:off x="7308720" y="2629080"/>
            <a:ext cx="118440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2200"/>
            <a:ext cx="8229600" cy="15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Y" sz="4000" spc="-1" strike="noStrike">
                <a:solidFill>
                  <a:srgbClr val="ffffff"/>
                </a:solidFill>
                <a:latin typeface="Tahoma"/>
              </a:rPr>
              <a:t>املأ النموذج</a:t>
            </a:r>
            <a:br>
              <a:rPr sz="4000"/>
            </a:b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ill the form and say the words</a:t>
            </a:r>
            <a:br>
              <a:rPr sz="40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Picture 13" descr="Teacher_Cartoon"/>
          <p:cNvPicPr/>
          <p:nvPr/>
        </p:nvPicPr>
        <p:blipFill>
          <a:blip r:embed="rId1"/>
          <a:stretch/>
        </p:blipFill>
        <p:spPr>
          <a:xfrm>
            <a:off x="7451640" y="6013440"/>
            <a:ext cx="1343160" cy="1057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5" descr="student%20cartoon"/>
          <p:cNvPicPr/>
          <p:nvPr/>
        </p:nvPicPr>
        <p:blipFill>
          <a:blip r:embed="rId2"/>
          <a:stretch/>
        </p:blipFill>
        <p:spPr>
          <a:xfrm>
            <a:off x="7451640" y="2340000"/>
            <a:ext cx="1123920" cy="10954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6" descr="MPj04393880000[1]"/>
          <p:cNvPicPr/>
          <p:nvPr/>
        </p:nvPicPr>
        <p:blipFill>
          <a:blip r:embed="rId3"/>
          <a:stretch/>
        </p:blipFill>
        <p:spPr>
          <a:xfrm>
            <a:off x="324000" y="2340000"/>
            <a:ext cx="1368360" cy="12114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7" descr="MCPE06455_0000[1]"/>
          <p:cNvPicPr/>
          <p:nvPr/>
        </p:nvPicPr>
        <p:blipFill>
          <a:blip r:embed="rId4"/>
          <a:stretch/>
        </p:blipFill>
        <p:spPr>
          <a:xfrm>
            <a:off x="7451640" y="4140360"/>
            <a:ext cx="1212840" cy="1160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8" descr="MPj04392990000[1]"/>
          <p:cNvPicPr/>
          <p:nvPr/>
        </p:nvPicPr>
        <p:blipFill>
          <a:blip r:embed="rId5"/>
          <a:stretch/>
        </p:blipFill>
        <p:spPr>
          <a:xfrm>
            <a:off x="179280" y="4284720"/>
            <a:ext cx="1730520" cy="11588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9" descr="MPj04090420000[1]"/>
          <p:cNvPicPr/>
          <p:nvPr/>
        </p:nvPicPr>
        <p:blipFill>
          <a:blip r:embed="rId6"/>
          <a:stretch/>
        </p:blipFill>
        <p:spPr>
          <a:xfrm>
            <a:off x="395280" y="6013440"/>
            <a:ext cx="1511280" cy="11588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1" descr="MPj04327460000[1]"/>
          <p:cNvPicPr/>
          <p:nvPr/>
        </p:nvPicPr>
        <p:blipFill>
          <a:blip r:embed="rId7"/>
          <a:stretch/>
        </p:blipFill>
        <p:spPr>
          <a:xfrm>
            <a:off x="7956720" y="252360"/>
            <a:ext cx="993600" cy="15145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2" descr="MPj04383150000[1]"/>
          <p:cNvPicPr/>
          <p:nvPr/>
        </p:nvPicPr>
        <p:blipFill>
          <a:blip r:embed="rId8"/>
          <a:stretch/>
        </p:blipFill>
        <p:spPr>
          <a:xfrm>
            <a:off x="192240" y="252360"/>
            <a:ext cx="1715760" cy="12952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22"/>
          <p:cNvSpPr/>
          <p:nvPr/>
        </p:nvSpPr>
        <p:spPr>
          <a:xfrm>
            <a:off x="1866960" y="3094200"/>
            <a:ext cx="541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Rectangle 37"/>
          <p:cNvSpPr/>
          <p:nvPr/>
        </p:nvSpPr>
        <p:spPr>
          <a:xfrm>
            <a:off x="1866960" y="3179880"/>
            <a:ext cx="541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Picture 36" descr="http://tbn0.google.com/images?q=tbn:xpSO9eE8lUw9EM:http://orkutluv.com/images/Good%2520Evening%2520(19).gif"/>
          <p:cNvPicPr/>
          <p:nvPr/>
        </p:nvPicPr>
        <p:blipFill>
          <a:blip r:embed="rId9"/>
          <a:stretch/>
        </p:blipFill>
        <p:spPr>
          <a:xfrm>
            <a:off x="3649680" y="3274920"/>
            <a:ext cx="1104840" cy="1104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1979640" y="2771640"/>
          <a:ext cx="5327640" cy="4032360"/>
        </p:xfrm>
        <a:graphic>
          <a:graphicData uri="http://schemas.openxmlformats.org/drawingml/2006/table">
            <a:tbl>
              <a:tblPr/>
              <a:tblGrid>
                <a:gridCol w="5327640"/>
              </a:tblGrid>
              <a:tr h="408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تحية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Greeting</a:t>
                      </a: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) 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 : 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............................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أن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 am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 </a:t>
                      </a: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(</a:t>
                      </a: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nam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........................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أنا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 am   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 </a:t>
                      </a: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(job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....................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------------------------------------------------------------------------------------------------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هي 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he is 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(job</a:t>
                      </a: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........................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هو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 is 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(job</a:t>
                      </a: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.....................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22200"/>
            <a:ext cx="8229600" cy="108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Jobs : feminine &amp; masculin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900000" y="1547640"/>
          <a:ext cx="7270920" cy="5680080"/>
        </p:xfrm>
        <a:graphic>
          <a:graphicData uri="http://schemas.openxmlformats.org/drawingml/2006/table">
            <a:tbl>
              <a:tblPr/>
              <a:tblGrid>
                <a:gridCol w="3600720"/>
                <a:gridCol w="3670200"/>
              </a:tblGrid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emin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scul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طالبة</a:t>
                      </a: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liba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طالب</a:t>
                      </a: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lib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مهندسة </a:t>
                      </a: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uhandisa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مهندس </a:t>
                      </a: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uhandi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ممرضة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um’eredah</a:t>
                      </a: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ممرض         </a:t>
                      </a: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um’er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طبيبة </a:t>
                      </a:r>
                      <a:r>
                        <a:rPr b="0" lang="ar-SA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</a:t>
                      </a: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bebeba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طبيب  </a:t>
                      </a: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</a:t>
                      </a: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bebe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مدرسة  </a:t>
                      </a: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</a:t>
                      </a: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udar’esa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مدرس </a:t>
                      </a: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</a:t>
                      </a: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udar’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29262_11205184989"/>
          <p:cNvPicPr/>
          <p:nvPr/>
        </p:nvPicPr>
        <p:blipFill>
          <a:blip r:embed="rId1"/>
          <a:stretch/>
        </p:blipFill>
        <p:spPr>
          <a:xfrm>
            <a:off x="3348000" y="684360"/>
            <a:ext cx="2666880" cy="400032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7"/>
          <p:cNvSpPr/>
          <p:nvPr/>
        </p:nvSpPr>
        <p:spPr>
          <a:xfrm>
            <a:off x="3229560" y="5144760"/>
            <a:ext cx="325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شكراً لك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SimSun"/>
              </a:rPr>
              <a:t>Shukrun Lak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SimSun"/>
              </a:rPr>
              <a:t>Thank You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8920" y="439200"/>
            <a:ext cx="5915160" cy="80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0099"/>
                </a:solidFill>
                <a:latin typeface="Tahoma"/>
              </a:rPr>
              <a:t>INTRODUCTIONS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71320" y="1707840"/>
            <a:ext cx="7467480" cy="16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cs typeface="Times New Roman"/>
              </a:rPr>
              <a:t>أهلاً أنا ..................   ..............</a:t>
            </a: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Hello , I'm</a:t>
            </a: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2" descr="http://tbn0.google.com/images?q=tbn:GJ6G8QNxaVz1QM:http://goodhealth.freeservers.com/hand_shaking.gif"/>
          <p:cNvPicPr/>
          <p:nvPr/>
        </p:nvPicPr>
        <p:blipFill>
          <a:blip r:embed="rId1"/>
          <a:stretch/>
        </p:blipFill>
        <p:spPr>
          <a:xfrm>
            <a:off x="6659640" y="368280"/>
            <a:ext cx="2093760" cy="11905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2000160" y="2922120"/>
            <a:ext cx="42292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195280" y="3639600"/>
            <a:ext cx="440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أهلاً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hlan</a:t>
            </a:r>
            <a:r>
              <a:rPr b="1" i="1" lang="ar-SA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Hell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220480" y="5069160"/>
            <a:ext cx="427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أنَا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na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ar-SA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4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4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4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4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4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4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4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2200"/>
            <a:ext cx="8229600" cy="15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ahoma"/>
              </a:rPr>
              <a:t>صباح الخير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5" descr="Good-Morning-1"/>
          <p:cNvPicPr/>
          <p:nvPr/>
        </p:nvPicPr>
        <p:blipFill>
          <a:blip r:embed="rId1"/>
          <a:stretch/>
        </p:blipFill>
        <p:spPr>
          <a:xfrm>
            <a:off x="179280" y="3708360"/>
            <a:ext cx="2652840" cy="1989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good_morning_bg_211"/>
          <p:cNvPicPr/>
          <p:nvPr/>
        </p:nvPicPr>
        <p:blipFill>
          <a:blip r:embed="rId2"/>
          <a:stretch/>
        </p:blipFill>
        <p:spPr>
          <a:xfrm>
            <a:off x="250920" y="181080"/>
            <a:ext cx="1942920" cy="14176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8"/>
          <p:cNvSpPr/>
          <p:nvPr/>
        </p:nvSpPr>
        <p:spPr>
          <a:xfrm>
            <a:off x="724320" y="2196360"/>
            <a:ext cx="583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tudents to practise greeting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6178680" y="3386160"/>
            <a:ext cx="252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صباح الخير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6046560" y="4395960"/>
            <a:ext cx="240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sabah elka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2200"/>
            <a:ext cx="8229600" cy="15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ahoma"/>
              </a:rPr>
              <a:t>مساء الخير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5" descr="2254759134_7d8f45b5bf"/>
          <p:cNvPicPr/>
          <p:nvPr/>
        </p:nvPicPr>
        <p:blipFill>
          <a:blip r:embed="rId1"/>
          <a:stretch/>
        </p:blipFill>
        <p:spPr>
          <a:xfrm>
            <a:off x="179280" y="3564000"/>
            <a:ext cx="2340000" cy="3214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good_evening"/>
          <p:cNvPicPr/>
          <p:nvPr/>
        </p:nvPicPr>
        <p:blipFill>
          <a:blip r:embed="rId2"/>
          <a:stretch/>
        </p:blipFill>
        <p:spPr>
          <a:xfrm>
            <a:off x="179280" y="900000"/>
            <a:ext cx="2764080" cy="7160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10"/>
          <p:cNvSpPr/>
          <p:nvPr/>
        </p:nvSpPr>
        <p:spPr>
          <a:xfrm>
            <a:off x="996840" y="2124000"/>
            <a:ext cx="576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tudents to practise greeting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6490800" y="3386160"/>
            <a:ext cx="239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مساء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الخير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6255720" y="4645080"/>
            <a:ext cx="251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Masau elka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2340000" y="0"/>
            <a:ext cx="37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ي</a:t>
            </a:r>
            <a:r>
              <a:rPr b="0" lang="ar-LY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LY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ar-LY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و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he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3" descr="Homer Simpson"/>
          <p:cNvPicPr/>
          <p:nvPr/>
        </p:nvPicPr>
        <p:blipFill>
          <a:blip r:embed="rId1"/>
          <a:stretch/>
        </p:blipFill>
        <p:spPr>
          <a:xfrm>
            <a:off x="500040" y="1065240"/>
            <a:ext cx="2786040" cy="214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7" name="Picture 4" descr="skateboard_bart-simpson_001_1024x78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040" y="4210200"/>
            <a:ext cx="2786040" cy="214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8" name="Picture 5" descr="lisasimpson.jpg"/>
          <p:cNvPicPr/>
          <p:nvPr/>
        </p:nvPicPr>
        <p:blipFill>
          <a:blip r:embed="rId4"/>
          <a:stretch/>
        </p:blipFill>
        <p:spPr>
          <a:xfrm>
            <a:off x="5715000" y="4210200"/>
            <a:ext cx="2859120" cy="207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9" name="Picture 6" descr="marge-simpson-5"/>
          <p:cNvPicPr/>
          <p:nvPr/>
        </p:nvPicPr>
        <p:blipFill>
          <a:blip r:embed="rId5"/>
          <a:stretch/>
        </p:blipFill>
        <p:spPr>
          <a:xfrm>
            <a:off x="5715000" y="1065240"/>
            <a:ext cx="2852640" cy="214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0" name="Rectangle 8"/>
          <p:cNvSpPr/>
          <p:nvPr/>
        </p:nvSpPr>
        <p:spPr>
          <a:xfrm>
            <a:off x="6156720" y="3424680"/>
            <a:ext cx="206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ي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.......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iy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6156720" y="6497280"/>
            <a:ext cx="206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ي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.......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iy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693360" y="3423960"/>
            <a:ext cx="243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و ......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uw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621720" y="6567480"/>
            <a:ext cx="243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و ......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uw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4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4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4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4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4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4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4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4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4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4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4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4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4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4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4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4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2200"/>
            <a:ext cx="8229600" cy="15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Y" sz="4400" spc="-1" strike="noStrike">
                <a:solidFill>
                  <a:srgbClr val="ffffff"/>
                </a:solidFill>
                <a:latin typeface="Tahoma"/>
              </a:rPr>
              <a:t>ما </a:t>
            </a:r>
            <a:r>
              <a:rPr b="0" lang="ar-LY" sz="4000" spc="-1" strike="noStrike">
                <a:solidFill>
                  <a:srgbClr val="ffffff"/>
                </a:solidFill>
                <a:latin typeface="Tahoma"/>
              </a:rPr>
              <a:t>عملكَ</a:t>
            </a:r>
            <a:r>
              <a:rPr b="0" lang="ar-LY" sz="4400" spc="-1" strike="noStrike">
                <a:solidFill>
                  <a:srgbClr val="ffffff"/>
                </a:solidFill>
                <a:latin typeface="Tahoma"/>
              </a:rPr>
              <a:t> ؟</a:t>
            </a:r>
            <a:br>
              <a:rPr sz="4400"/>
            </a:b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hat do you do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48320" y="2099880"/>
            <a:ext cx="4038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Y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طَالِب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Y" sz="3200" spc="-1" strike="noStrike">
                <a:solidFill>
                  <a:srgbClr val="ffffff"/>
                </a:solidFill>
                <a:latin typeface="Tahoma"/>
                <a:cs typeface="Times New Roman"/>
              </a:rPr>
              <a:t>أنا </a:t>
            </a:r>
            <a:r>
              <a:rPr b="1" lang="ar-LY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طَالِب</a:t>
            </a:r>
            <a:r>
              <a:rPr b="1" lang="ar-LY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Y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و طَالِب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7" descr="MPj04394070000[1]"/>
          <p:cNvPicPr/>
          <p:nvPr/>
        </p:nvPicPr>
        <p:blipFill>
          <a:blip r:embed="rId1"/>
          <a:stretch/>
        </p:blipFill>
        <p:spPr>
          <a:xfrm>
            <a:off x="0" y="2197080"/>
            <a:ext cx="3978360" cy="45370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0"/>
          <p:cNvSpPr/>
          <p:nvPr/>
        </p:nvSpPr>
        <p:spPr>
          <a:xfrm>
            <a:off x="5633640" y="2196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tali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977000" y="3276720"/>
            <a:ext cx="13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an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tali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4767480" y="457200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huw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tali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4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4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4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4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4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48320" y="2099880"/>
            <a:ext cx="4038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مُدَرِ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أنا ُ مُدَرِ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هو مُدَرِس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13" descr="teacher1"/>
          <p:cNvPicPr/>
          <p:nvPr/>
        </p:nvPicPr>
        <p:blipFill>
          <a:blip r:embed="rId1"/>
          <a:stretch/>
        </p:blipFill>
        <p:spPr>
          <a:xfrm>
            <a:off x="611280" y="2124000"/>
            <a:ext cx="2889000" cy="29955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5"/>
          <p:cNvSpPr/>
          <p:nvPr/>
        </p:nvSpPr>
        <p:spPr>
          <a:xfrm>
            <a:off x="3259080" y="406440"/>
            <a:ext cx="33674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Y" sz="4000" spc="-1" strike="noStrike">
                <a:solidFill>
                  <a:srgbClr val="ffffff"/>
                </a:solidFill>
                <a:latin typeface="Tahoma"/>
              </a:rPr>
              <a:t>ما عملكَ ؟</a:t>
            </a:r>
            <a:br>
              <a:rPr sz="4000"/>
            </a:b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hat do you do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4697640" y="2267280"/>
            <a:ext cx="144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mudar'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3947760" y="3346560"/>
            <a:ext cx="20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ana mudar'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3830040" y="442908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huwa mudar'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4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4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4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4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48320" y="2099880"/>
            <a:ext cx="4038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مُهَنْدِ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Y" sz="3200" spc="-1" strike="noStrike">
                <a:solidFill>
                  <a:srgbClr val="ffffff"/>
                </a:solidFill>
                <a:latin typeface="Tahoma"/>
              </a:rPr>
              <a:t>أنا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مُهَنْدِس</a:t>
            </a:r>
            <a:r>
              <a:rPr b="1" lang="ar-LY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Y" sz="3200" spc="-1" strike="noStrike">
                <a:solidFill>
                  <a:srgbClr val="ffffff"/>
                </a:solidFill>
                <a:latin typeface="Tahoma"/>
              </a:rPr>
              <a:t>هو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مُهَنْدِس</a:t>
            </a:r>
            <a:r>
              <a:rPr b="1" lang="ar-LY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7" descr="5009_male_architectural_engineer_writing_on_a_blueprint_with_a_pencil"/>
          <p:cNvPicPr/>
          <p:nvPr/>
        </p:nvPicPr>
        <p:blipFill>
          <a:blip r:embed="rId1"/>
          <a:stretch/>
        </p:blipFill>
        <p:spPr>
          <a:xfrm>
            <a:off x="324000" y="2124000"/>
            <a:ext cx="2638440" cy="29750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8"/>
          <p:cNvSpPr/>
          <p:nvPr/>
        </p:nvSpPr>
        <p:spPr>
          <a:xfrm>
            <a:off x="2971800" y="501480"/>
            <a:ext cx="33674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Y" sz="4400" spc="-1" strike="noStrike">
                <a:solidFill>
                  <a:srgbClr val="ffffff"/>
                </a:solidFill>
                <a:latin typeface="Tahoma"/>
              </a:rPr>
              <a:t>ما </a:t>
            </a:r>
            <a:r>
              <a:rPr b="0" lang="ar-LY" sz="4000" spc="-1" strike="noStrike">
                <a:solidFill>
                  <a:srgbClr val="ffffff"/>
                </a:solidFill>
                <a:latin typeface="Tahoma"/>
              </a:rPr>
              <a:t>عملكَ</a:t>
            </a:r>
            <a:r>
              <a:rPr b="0" lang="ar-LY" sz="4400" spc="-1" strike="noStrike">
                <a:solidFill>
                  <a:srgbClr val="ffffff"/>
                </a:solidFill>
                <a:latin typeface="Tahoma"/>
              </a:rPr>
              <a:t> ؟</a:t>
            </a:r>
            <a:br>
              <a:rPr sz="4400"/>
            </a:b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hat do you do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4332600" y="2196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muhandi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3777120" y="3417840"/>
            <a:ext cx="21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ana muhand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3681720" y="4572000"/>
            <a:ext cx="23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Huwa muhand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4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4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4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4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8"/>
          <p:cNvSpPr/>
          <p:nvPr/>
        </p:nvSpPr>
        <p:spPr>
          <a:xfrm>
            <a:off x="2971800" y="501480"/>
            <a:ext cx="33674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Y" sz="4400" spc="-1" strike="noStrike">
                <a:solidFill>
                  <a:srgbClr val="ffffff"/>
                </a:solidFill>
                <a:latin typeface="Tahoma"/>
              </a:rPr>
              <a:t>ما </a:t>
            </a:r>
            <a:r>
              <a:rPr b="0" lang="ar-LY" sz="4000" spc="-1" strike="noStrike">
                <a:solidFill>
                  <a:srgbClr val="ffffff"/>
                </a:solidFill>
                <a:latin typeface="Tahoma"/>
              </a:rPr>
              <a:t>عملكَ</a:t>
            </a:r>
            <a:r>
              <a:rPr b="0" lang="ar-LY" sz="4400" spc="-1" strike="noStrike">
                <a:solidFill>
                  <a:srgbClr val="ffffff"/>
                </a:solidFill>
                <a:latin typeface="Tahoma"/>
              </a:rPr>
              <a:t> ؟</a:t>
            </a:r>
            <a:br>
              <a:rPr sz="4400"/>
            </a:b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hat do you do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5" descr="Matsuoka_466"/>
          <p:cNvPicPr/>
          <p:nvPr/>
        </p:nvPicPr>
        <p:blipFill>
          <a:blip r:embed="rId1"/>
          <a:stretch/>
        </p:blipFill>
        <p:spPr>
          <a:xfrm>
            <a:off x="324000" y="2771640"/>
            <a:ext cx="2485800" cy="289584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6"/>
          <p:cNvSpPr/>
          <p:nvPr/>
        </p:nvSpPr>
        <p:spPr>
          <a:xfrm>
            <a:off x="7139520" y="2521800"/>
            <a:ext cx="15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مُمَرض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6572520" y="4139280"/>
            <a:ext cx="235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أنا 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مُمَرض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6534720" y="5507640"/>
            <a:ext cx="24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هو مُمَرض .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4991040" y="2628000"/>
            <a:ext cx="162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mum'ere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4259520" y="4213080"/>
            <a:ext cx="21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ana mum'e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3909240" y="5578920"/>
            <a:ext cx="24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huwa mum'ere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9:08:14Z</dcterms:created>
  <dc:creator>Peter</dc:creator>
  <dc:description/>
  <dc:language>en-US</dc:language>
  <cp:lastModifiedBy>Safia Aljarrah</cp:lastModifiedBy>
  <dcterms:modified xsi:type="dcterms:W3CDTF">2009-03-23T12:35:04Z</dcterms:modified>
  <cp:revision>113</cp:revision>
  <dc:subject/>
  <dc:title>Arabic Language Taster</dc:title>
</cp:coreProperties>
</file>